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82604-8D7C-4E43-B0D7-97924378D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D5A4D-2530-41D3-AA39-C136C07D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7D778-8547-440C-9699-A4230AB9D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6E070-FEEC-4F66-ABE7-6B78AAC69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01047-BE0B-4290-9D8A-0F886EDA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75BB8-C2E3-44D9-8CEF-1FF7739AF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E437B-C7FA-495A-994F-2693DD11A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70A2-EC1F-487F-B9D8-8D2A183B3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E03B-407B-4863-9788-8AF22B47F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ECAC9-346E-48A8-9D18-CE68026D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554F-7CDA-4053-ACDD-D4522005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9045-0C1D-4926-B31B-9431DD534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3D335-749B-41D5-A34E-918D087E7B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Bk50dvWtnLY"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youtube.com/watch?v=5tu-1FAasP8" TargetMode="External"/><Relationship Id="rId3" Type="http://schemas.openxmlformats.org/officeDocument/2006/relationships/hyperlink" Target="https://www.youtube.com/watch?v=358vKWln7uY&amp;t=59s"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732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Agressie en onbegrepen gedra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is het en hoe ga je ermee 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als een bewoner agressief wordt?</a:t>
            </a:r>
            <a:endParaRPr b="0" lang="en-US" sz="3600" spc="-1" strike="noStrike">
              <a:solidFill>
                <a:srgbClr val="000000"/>
              </a:solidFill>
              <a:latin typeface="Calibri"/>
            </a:endParaRPr>
          </a:p>
        </p:txBody>
      </p:sp>
      <p:sp>
        <p:nvSpPr>
          <p:cNvPr id="60"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orgen voor een rustige dagelijkse routine, waarin ruimte is voor lichaamsbeweging en activiteiten. </a:t>
            </a:r>
            <a:br>
              <a:rPr sz="2400"/>
            </a:br>
            <a:r>
              <a:rPr b="0" lang="nl-NL" sz="2400" spc="-1" strike="noStrike">
                <a:solidFill>
                  <a:srgbClr val="000000"/>
                </a:solidFill>
                <a:latin typeface="Calibri"/>
              </a:rPr>
              <a:t>· Minder eisen aan de persoon stellen en hulp op een onopvallende manier, zonder aandringen, aanbieden. </a:t>
            </a:r>
            <a:br>
              <a:rPr sz="2400"/>
            </a:br>
            <a:r>
              <a:rPr b="0" lang="nl-NL" sz="2400" spc="-1" strike="noStrike">
                <a:solidFill>
                  <a:srgbClr val="000000"/>
                </a:solidFill>
                <a:latin typeface="Calibri"/>
              </a:rPr>
              <a:t>· Meer tijd nemen om uit te leggen wat er precies gebeurt. Zelfs als de dementerende je woorden niet begrijpt, kan de kalmerende toon waarop je spreekt hem geruststellen. </a:t>
            </a:r>
            <a:br>
              <a:rPr sz="2400"/>
            </a:br>
            <a:r>
              <a:rPr b="0" lang="nl-NL" sz="2400" spc="-1" strike="noStrike">
                <a:solidFill>
                  <a:srgbClr val="000000"/>
                </a:solidFill>
                <a:latin typeface="Calibri"/>
              </a:rPr>
              <a:t>· Situaties waarin je haast hebt of ongeduldig bent zoveel mogelijk zien te voorkomen. Haast of ongeduld slaat vaak over op de dementerende. </a:t>
            </a:r>
            <a:br>
              <a:rPr sz="2400"/>
            </a:br>
            <a:br>
              <a:rPr sz="2400"/>
            </a:b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62"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Je waardering uitspreken als hij iets zelfstandig doet en hem vragen u te helpen met eenvoudige karweitjes. </a:t>
            </a:r>
            <a:br>
              <a:rPr sz="2400"/>
            </a:br>
            <a:r>
              <a:rPr b="0" lang="nl-NL" sz="2400" spc="-1" strike="noStrike">
                <a:solidFill>
                  <a:srgbClr val="000000"/>
                </a:solidFill>
                <a:latin typeface="Calibri"/>
              </a:rPr>
              <a:t>· Anderen uitleggen dat de dementerende hen misschien niet herkent en dat hij door harde stemmen en plotselinge bewegingen overstuur kan raken. </a:t>
            </a:r>
            <a:br>
              <a:rPr sz="2400"/>
            </a:br>
            <a:r>
              <a:rPr b="0" lang="nl-NL" sz="2400" spc="-1" strike="noStrike">
                <a:solidFill>
                  <a:srgbClr val="000000"/>
                </a:solidFill>
                <a:latin typeface="Calibri"/>
              </a:rPr>
              <a:t>· De arts raadplegen als je vragen hebt of denkt dat dit nodig i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OOIT agressief reageren. Dit is olie op het vuur. Je kunt jezelf hierin trainen. Jij bent de verzorger en moet te allen tijde boven agressief gedrag kunnen sta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4"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obeer rustig te blijven, laat niet merken dat je bang bent en maak oogcontact met de dementerende. </a:t>
            </a:r>
            <a:br>
              <a:rPr sz="2400"/>
            </a:br>
            <a:r>
              <a:rPr b="0" lang="nl-NL" sz="2400" spc="-1" strike="noStrike">
                <a:solidFill>
                  <a:srgbClr val="000000"/>
                </a:solidFill>
                <a:latin typeface="Calibri"/>
              </a:rPr>
              <a:t>· Zeg op rustige toon dat niemand van plan is hem kwaad te doen en vraag hem wat er aan de hand is. </a:t>
            </a:r>
            <a:br>
              <a:rPr sz="2400"/>
            </a:br>
            <a:r>
              <a:rPr b="0" lang="nl-NL" sz="2400" spc="-1" strike="noStrike">
                <a:solidFill>
                  <a:srgbClr val="000000"/>
                </a:solidFill>
                <a:latin typeface="Calibri"/>
              </a:rPr>
              <a:t>· Houd voldoende afstand als hij lichamelijk geweld gebruikt en pak hem in geen geval vast. Verlaat zo nodig de kamer. Als iets kapot gaat is dat minder erg dan wanneer er iets met jou gebeurt. Dit geldt ook voor anderen die aanwezig zijn. </a:t>
            </a:r>
            <a:br>
              <a:rPr sz="2400"/>
            </a:br>
            <a:r>
              <a:rPr b="0" lang="nl-NL" sz="2400" spc="-1" strike="noStrike">
                <a:solidFill>
                  <a:srgbClr val="000000"/>
                </a:solidFill>
                <a:latin typeface="Calibri"/>
              </a:rPr>
              <a:t>· Zorg dat de dementerende niet ingesloten raakt en geeft hem de kans om naar een open ruimte te lopen. </a:t>
            </a:r>
            <a:br>
              <a:rPr sz="2400"/>
            </a:br>
            <a:r>
              <a:rPr b="0" lang="nl-NL" sz="2400" spc="-1" strike="noStrike">
                <a:solidFill>
                  <a:srgbClr val="000000"/>
                </a:solidFill>
                <a:latin typeface="Calibri"/>
              </a:rPr>
              <a:t>· Probeer de dementerende zoveel mogelijk te laten prat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Tips om agressie te voorkomen</a:t>
            </a:r>
            <a:endParaRPr b="0" lang="en-US" sz="3600" spc="-1" strike="noStrike">
              <a:solidFill>
                <a:srgbClr val="000000"/>
              </a:solidFill>
              <a:latin typeface="Calibri"/>
            </a:endParaRPr>
          </a:p>
        </p:txBody>
      </p:sp>
      <p:sp>
        <p:nvSpPr>
          <p:cNvPr id="66"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a niet in discussie (dat maakt de agressie vaak erger) en neem zijn gevoelens serieu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ed aan ergens te gaan zitten om verder te praten of probeer hem af te leiden. Dit kan door over iets anders te praten of te vragen of hij iets wil eten of drin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Gebruik de antwoorden die je hebt gekregen op voorgaande vragen en probeer de oorzaak weg te n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Calibri"/>
                <a:hlinkClick r:id="rId2"/>
              </a:rPr>
              <a:t>https://www.youtube.com/watch?v=Bk50dvWtnLY</a:t>
            </a:r>
            <a:r>
              <a:rPr b="0" lang="nl-N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Zorg voor jezelf</a:t>
            </a:r>
            <a:endParaRPr b="0" lang="en-US" sz="3600" spc="-1" strike="noStrike">
              <a:solidFill>
                <a:srgbClr val="000000"/>
              </a:solidFill>
              <a:latin typeface="Calibri"/>
            </a:endParaRPr>
          </a:p>
        </p:txBody>
      </p:sp>
      <p:sp>
        <p:nvSpPr>
          <p:cNvPr id="68"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gressie is niet altijd te voorkomen of op te loss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kan voor veel frustratie zorgen bij jou, of voor angst of op je hoede zij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at werkt niet pretti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Praat erover in je team en probeer samen een oplossing te zoek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Volg met het team een agressie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Maak een plan en een beleid: wat te doen bij agress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is agress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komt uit het Latijn en betekent oorspronkelijk ‘ergens op af gaa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heeft als functie om ons te kunnen verdedigen en verweren tegen aanvallen van buitenaf</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t is een instinctieve react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gressie wordt ook gebruikt in de sport als emotie om iets te kunnen winn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Een moeder die haar kind beschermt met een agressieve reactie doet dit uit instin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nneer wordt agressie negatief?</a:t>
            </a:r>
            <a:endParaRPr b="0" lang="en-US" sz="3600" spc="-1" strike="noStrike">
              <a:solidFill>
                <a:srgbClr val="000000"/>
              </a:solidFill>
              <a:latin typeface="Calibri"/>
            </a:endParaRPr>
          </a:p>
        </p:txBody>
      </p:sp>
      <p:sp>
        <p:nvSpPr>
          <p:cNvPr id="4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e communicatie wegval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het uit het niets lijkt op te tred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er verbaal en fysiek geweld bij gebruikt word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elke vormen van agressie zijn er?</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Frustrati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gaat het vaak om opgestapelde frustratie en emoties die er plotseling uit kunnen komen. Frustratie agressie is vaak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nstrumentel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Hier gaat het vooral om manipulerend, eisend gedrag. Er is vaak sprake van het omdraaien van de rollen en het gaat onderhuids over de vraag wie het voor het zeggen heef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Over allerlei kwesties wordt een discussie aangegaan. Deze vorm van agressie heeft meestal veel impact op medewerkers en is ook niet goed invoelbaar.</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000000"/>
                </a:solidFill>
                <a:latin typeface="Calibri"/>
              </a:rPr>
              <a:t>Impulsieve agressi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Deze vorm zie je vaak in combinatie met middelengebruik (drank/drugs/medicatie) of als gevolg van neurologische of psychiatrische aandoeningen.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Calibri"/>
              </a:rPr>
              <a:t>Bij deze vorm is de onvoorspelbaarheid in handelen groot, doordat je niet goed kunt weten wat er precies in iemands hoofd omgaat. </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Bij dementerenden..</a:t>
            </a:r>
            <a:endParaRPr b="0" lang="en-US" sz="3600" spc="-1" strike="noStrike">
              <a:solidFill>
                <a:srgbClr val="000000"/>
              </a:solidFill>
              <a:latin typeface="Calibri"/>
            </a:endParaRPr>
          </a:p>
        </p:txBody>
      </p:sp>
      <p:sp>
        <p:nvSpPr>
          <p:cNvPr id="50"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b je dus het meest te maken met impulsieve agress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t is hierbij lastig om in te schatten hoe de ander precies zal reageren. Om die reden is het dan ook bij deze vorm van agressie van belang om de juiste afstand te bewaren voor je eigen veilig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Een dementerende kan zich agressief gedragen omdat hij zijn gevoelens niet meer op een gewone manier kan uiten. Dit komt doordat zijn beoordelingsvermogen en zelfcontrole door de ziekte zijn afgenomen. Hierdoor kan hij een situatie verkeerd begrijpen en zich bedreigd voele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Het is dus belangrijk..</a:t>
            </a:r>
            <a:endParaRPr b="0" lang="en-US" sz="3600" spc="-1" strike="noStrike">
              <a:solidFill>
                <a:srgbClr val="000000"/>
              </a:solidFill>
              <a:latin typeface="Calibri"/>
            </a:endParaRPr>
          </a:p>
        </p:txBody>
      </p:sp>
      <p:sp>
        <p:nvSpPr>
          <p:cNvPr id="52"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je je realiseert dat het agressieve gedrag uit ziekte voorko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het niet persoonlijk gericht 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Dat degene die zich zo uit en dementerend is er niets aan kan doen dat dit gebeur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Bekijk de volgende filmp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2"/>
              </a:rPr>
              <a:t>https://www.youtube.com/watch?v=5tu-1FAasP8</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u="sng">
                <a:solidFill>
                  <a:srgbClr val="0000ff"/>
                </a:solidFill>
                <a:uFillTx/>
                <a:latin typeface="Arial"/>
                <a:ea typeface="Arial"/>
                <a:hlinkClick r:id="rId3"/>
              </a:rPr>
              <a:t>https://www.youtube.com/watch?v=358vKWln7uY&amp;t=59s</a:t>
            </a:r>
            <a:r>
              <a:rPr b="0" lang="nl-NL"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a:t>
            </a:r>
            <a:endParaRPr b="0" lang="en-US" sz="3600" spc="-1" strike="noStrike">
              <a:solidFill>
                <a:srgbClr val="000000"/>
              </a:solidFill>
              <a:latin typeface="Calibri"/>
            </a:endParaRPr>
          </a:p>
        </p:txBody>
      </p:sp>
      <p:sp>
        <p:nvSpPr>
          <p:cNvPr id="5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lereerst kun je je een aantal dingen afvragen om antwoord te krijgen op de vraag: wat is de oorzaak?</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ar en wanneer trad het gedrag op? </a:t>
            </a:r>
            <a:br>
              <a:rPr sz="2400"/>
            </a:br>
            <a:r>
              <a:rPr b="0" lang="nl-NL" sz="2400" spc="-1" strike="noStrike">
                <a:solidFill>
                  <a:srgbClr val="000000"/>
                </a:solidFill>
                <a:latin typeface="Calibri"/>
              </a:rPr>
              <a:t>· Wat gebeurde er in de directe omgeving? </a:t>
            </a:r>
            <a:br>
              <a:rPr sz="2400"/>
            </a:br>
            <a:r>
              <a:rPr b="0" lang="nl-NL" sz="2400" spc="-1" strike="noStrike">
                <a:solidFill>
                  <a:srgbClr val="000000"/>
                </a:solidFill>
                <a:latin typeface="Calibri"/>
              </a:rPr>
              <a:t>· Wat deed de dementerende vlak voor het gedrag? </a:t>
            </a:r>
            <a:br>
              <a:rPr sz="2400"/>
            </a:br>
            <a:r>
              <a:rPr b="0" lang="nl-NL" sz="2400" spc="-1" strike="noStrike">
                <a:solidFill>
                  <a:srgbClr val="000000"/>
                </a:solidFill>
                <a:latin typeface="Calibri"/>
              </a:rPr>
              <a:t>· Waren er mensen in zijn buurt? </a:t>
            </a:r>
            <a:br>
              <a:rPr sz="2400"/>
            </a:br>
            <a:r>
              <a:rPr b="0" lang="nl-NL" sz="2400" spc="-1" strike="noStrike">
                <a:solidFill>
                  <a:srgbClr val="000000"/>
                </a:solidFill>
                <a:latin typeface="Calibri"/>
              </a:rPr>
              <a:t>· Wat deden zij?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elke vorm nam het gedrag aan? </a:t>
            </a:r>
            <a:br>
              <a:rPr sz="2400"/>
            </a:br>
            <a:r>
              <a:rPr b="0" lang="nl-NL" sz="2400" spc="-1" strike="noStrike">
                <a:solidFill>
                  <a:srgbClr val="000000"/>
                </a:solidFill>
                <a:latin typeface="Calibri"/>
              </a:rPr>
              <a:t>· Is het steeds hetzelfde? </a:t>
            </a:r>
            <a:br>
              <a:rPr sz="2400"/>
            </a:br>
            <a:r>
              <a:rPr b="0" lang="nl-NL" sz="2400" spc="-1" strike="noStrike">
                <a:solidFill>
                  <a:srgbClr val="000000"/>
                </a:solidFill>
                <a:latin typeface="Calibri"/>
              </a:rPr>
              <a:t>· Wat zei de dementerende? </a:t>
            </a:r>
            <a:br>
              <a:rPr sz="2400"/>
            </a:br>
            <a:r>
              <a:rPr b="0" lang="nl-NL" sz="2400" spc="-1" strike="noStrike">
                <a:solidFill>
                  <a:srgbClr val="000000"/>
                </a:solidFill>
                <a:latin typeface="Calibri"/>
              </a:rPr>
              <a:t>· Zag hij bekenden voor vreemden aan? </a:t>
            </a:r>
            <a:br>
              <a:rPr sz="2400"/>
            </a:br>
            <a:r>
              <a:rPr b="0" lang="nl-NL" sz="2400" spc="-1" strike="noStrike">
                <a:solidFill>
                  <a:srgbClr val="000000"/>
                </a:solidFill>
                <a:latin typeface="Calibri"/>
              </a:rPr>
              <a:t>· Hield het gedrag vanzelf op? </a:t>
            </a:r>
            <a:br>
              <a:rPr sz="2400"/>
            </a:br>
            <a:r>
              <a:rPr b="0" lang="nl-NL" sz="2400" spc="-1" strike="noStrike">
                <a:solidFill>
                  <a:srgbClr val="000000"/>
                </a:solidFill>
                <a:latin typeface="Calibri"/>
              </a:rPr>
              <a:t>· Kwam het snel weer teru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En…</a:t>
            </a:r>
            <a:endParaRPr b="0" lang="en-US" sz="3600" spc="-1" strike="noStrike">
              <a:solidFill>
                <a:srgbClr val="000000"/>
              </a:solidFill>
              <a:latin typeface="Calibri"/>
            </a:endParaRPr>
          </a:p>
        </p:txBody>
      </p:sp>
      <p:sp>
        <p:nvSpPr>
          <p:cNvPr id="56"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Wat was de eerste reactie van mensen in de omgeving? </a:t>
            </a:r>
            <a:br>
              <a:rPr sz="2400"/>
            </a:br>
            <a:r>
              <a:rPr b="0" lang="nl-NL" sz="2400" spc="-1" strike="noStrike">
                <a:solidFill>
                  <a:srgbClr val="000000"/>
                </a:solidFill>
                <a:latin typeface="Calibri"/>
              </a:rPr>
              <a:t>· Hoe hebben zij de dementerende benaderd? </a:t>
            </a:r>
            <a:br>
              <a:rPr sz="2400"/>
            </a:br>
            <a:r>
              <a:rPr b="0" lang="nl-NL" sz="2400" spc="-1" strike="noStrike">
                <a:solidFill>
                  <a:srgbClr val="000000"/>
                </a:solidFill>
                <a:latin typeface="Calibri"/>
              </a:rPr>
              <a:t>· Hoe reageerde hij hierop? </a:t>
            </a:r>
            <a:br>
              <a:rPr sz="2400"/>
            </a:br>
            <a:r>
              <a:rPr b="0" lang="nl-NL" sz="2400" spc="-1" strike="noStrike">
                <a:solidFill>
                  <a:srgbClr val="000000"/>
                </a:solidFill>
                <a:latin typeface="Calibri"/>
              </a:rPr>
              <a:t>· Wat gebeurde er toen het gedrag was opgehoud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oe was de stemming van de dementerende die dag? </a:t>
            </a:r>
            <a:br>
              <a:rPr sz="2400"/>
            </a:br>
            <a:r>
              <a:rPr b="0" lang="nl-NL" sz="2400" spc="-1" strike="noStrike">
                <a:solidFill>
                  <a:srgbClr val="000000"/>
                </a:solidFill>
                <a:latin typeface="Calibri"/>
              </a:rPr>
              <a:t>· Was er iets bijzonders voorgevallen? </a:t>
            </a:r>
            <a:br>
              <a:rPr sz="2400"/>
            </a:br>
            <a:r>
              <a:rPr b="0" lang="nl-NL" sz="2400" spc="-1" strike="noStrike">
                <a:solidFill>
                  <a:srgbClr val="000000"/>
                </a:solidFill>
                <a:latin typeface="Calibri"/>
              </a:rPr>
              <a:t>· Was er iets in de dagelijkse routine veranderd? </a:t>
            </a:r>
            <a:br>
              <a:rPr sz="2400"/>
            </a:br>
            <a:r>
              <a:rPr b="0" lang="nl-NL" sz="2400" spc="-1" strike="noStrike">
                <a:solidFill>
                  <a:srgbClr val="000000"/>
                </a:solidFill>
                <a:latin typeface="Calibri"/>
              </a:rPr>
              <a:t>· Is er onlangs iets in de medische situatie verande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Antwoorden op deze vragen..</a:t>
            </a:r>
            <a:endParaRPr b="0" lang="en-US" sz="3600" spc="-1" strike="noStrike">
              <a:solidFill>
                <a:srgbClr val="000000"/>
              </a:solidFill>
              <a:latin typeface="Calibri"/>
            </a:endParaRPr>
          </a:p>
        </p:txBody>
      </p:sp>
      <p:sp>
        <p:nvSpPr>
          <p:cNvPr id="58"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Helpen om de oorzaak te achterhal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Arial"/>
                <a:ea typeface="Arial"/>
              </a:rPr>
              <a:t>Als dat gelukt is kun je de oorzaak wegnemen, of een arts of therapeut kan dat do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7-03-28T10:06:01Z</dcterms:modified>
  <cp:revision>17</cp:revision>
  <dc:subject/>
  <dc:title>PowerPoint Presentation</dc:title>
</cp:coreProperties>
</file>