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03E2-7B08-47FC-9736-508B5D9AC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2677-3DEB-43C8-A033-322404359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8BF1-B2CE-4B09-A3BB-73D139F18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AEB0-0B3F-4007-8A3C-3E8EA5777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8C6FE-7210-4CB2-BEC4-ABEB9931C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1FCA1-D346-4CF9-9B7A-814BF90DA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C3005-52C9-4BC0-B06A-0F4702F4D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B0293-CD19-4141-BACE-D3376954C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C1D16-4C52-430E-9D75-2310D1327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17431-E21C-45E3-9B9A-982CCF08C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06A8A-F56E-4F67-B4E7-0A3FE81D5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0F15-B1D4-4DF8-9128-25EE171D7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F4ED9-1A41-4AB3-96BD-1E16BEDB5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A157A-22A4-4B93-A512-3CF48F2B8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C57F2-9DE1-49D0-BA1F-0D834D4EF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BE70E-399F-4B78-8B5C-C83F5B95D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F9EE4-B925-48E9-8F74-90227556B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3E9B-374A-4569-9BD8-F82B458A0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ADD5-5D75-4344-BAE8-AC281C424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C256-A263-4D39-9905-30EF7196A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915B-0F7C-4759-8483-B5DE33BC5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5AB8-E0A2-48FB-962A-B1A588407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46E6-3EB4-4E16-A1DE-F16BA4E41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1D71-ED74-4CA3-A6B7-EDE426A19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41033-5DFB-4C4B-A617-6BC7386783A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F9481-04EF-4D56-8078-F1A1940A6FC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livelink.groenkennisnet.nl/livelink/llisapi.dll?func=ll&amp;objId=10628055&amp;objAction=browse&amp;sort=name&amp;viewType=1" TargetMode="External"/><Relationship Id="rId2" Type="http://schemas.openxmlformats.org/officeDocument/2006/relationships/hyperlink" Target="https://livelink.groenkennisnet.nl/livelink/llisapi.dll?func=ll&amp;objId=10628055&amp;objAction=browse&amp;sort=name&amp;viewType=1" TargetMode="External"/><Relationship Id="rId3" Type="http://schemas.openxmlformats.org/officeDocument/2006/relationships/hyperlink" Target="https://livelink.groenkennisnet.nl/livelink/llisapi.dll?func=ll&amp;objId=10628055&amp;objAction=browse&amp;sort=name&amp;viewType=1" TargetMode="External"/><Relationship Id="rId4" Type="http://schemas.openxmlformats.org/officeDocument/2006/relationships/hyperlink" Target="https://livelink.groenkennisnet.nl/livelink/llisapi.dll?func=ll&amp;objId=10628055&amp;objAction=browse&amp;sort=name&amp;viewType=1" TargetMode="External"/><Relationship Id="rId5" Type="http://schemas.openxmlformats.org/officeDocument/2006/relationships/hyperlink" Target="https://livelink.groenkennisnet.nl/livelink/llisapi.dll?func=ll&amp;objId=10628055&amp;objAction=browse&amp;sort=name&amp;viewType=1" TargetMode="External"/><Relationship Id="rId6" Type="http://schemas.openxmlformats.org/officeDocument/2006/relationships/hyperlink" Target="https://livelink.groenkennisnet.nl/livelink/llisapi.dll?func=ll&amp;objId=10628055&amp;objAction=browse&amp;sort=name&amp;viewType=1" TargetMode="External"/><Relationship Id="rId7" Type="http://schemas.openxmlformats.org/officeDocument/2006/relationships/hyperlink" Target="https://livelink.groenkennisnet.nl/livelink/llisapi.dll?func=ll&amp;objId=10628055&amp;objAction=browse&amp;sort=name&amp;viewType=1" TargetMode="External"/><Relationship Id="rId8" Type="http://schemas.openxmlformats.org/officeDocument/2006/relationships/hyperlink" Target="https://livelink.groenkennisnet.nl/livelink/llisapi.dll?func=ll&amp;objId=10628055&amp;objAction=browse&amp;sort=name&amp;viewType=1" TargetMode="External"/><Relationship Id="rId9" Type="http://schemas.openxmlformats.org/officeDocument/2006/relationships/hyperlink" Target="https://livelink.groenkennisnet.nl/livelink/llisapi.dll?func=ll&amp;objId=10628055&amp;objAction=browse&amp;sort=name&amp;viewType=1" TargetMode="External"/><Relationship Id="rId10" Type="http://schemas.openxmlformats.org/officeDocument/2006/relationships/hyperlink" Target="https://livelink.groenkennisnet.nl/livelink/llisapi.dll?func=ll&amp;objId=10628055&amp;objAction=browse&amp;sort=name&amp;viewType=1" TargetMode="External"/><Relationship Id="rId11" Type="http://schemas.openxmlformats.org/officeDocument/2006/relationships/hyperlink" Target="https://livelink.groenkennisnet.nl/livelink/llisapi.dll?func=ll&amp;objId=10628055&amp;objAction=browse&amp;sort=name&amp;viewType=1" TargetMode="External"/><Relationship Id="rId12" Type="http://schemas.openxmlformats.org/officeDocument/2006/relationships/hyperlink" Target="https://livelink.groenkennisnet.nl/livelink/llisapi.dll?func=ll&amp;objId=10628055&amp;objAction=browse&amp;sort=name&amp;viewType=1" TargetMode="External"/><Relationship Id="rId13" Type="http://schemas.openxmlformats.org/officeDocument/2006/relationships/hyperlink" Target="https://livelink.groenkennisnet.nl/livelink/llisapi.dll?func=ll&amp;objId=10628055&amp;objAction=browse&amp;sort=name&amp;viewType=1" TargetMode="External"/><Relationship Id="rId14" Type="http://schemas.openxmlformats.org/officeDocument/2006/relationships/hyperlink" Target="https://livelink.groenkennisnet.nl/livelink/llisapi.dll?func=ll&amp;objId=10628055&amp;objAction=browse&amp;sort=name&amp;viewType=1" TargetMode="External"/><Relationship Id="rId15" Type="http://schemas.openxmlformats.org/officeDocument/2006/relationships/hyperlink" Target="https://livelink.groenkennisnet.nl/livelink/llisapi.dll?func=ll&amp;objId=10628055&amp;objAction=browse&amp;sort=name&amp;viewType=1" TargetMode="External"/><Relationship Id="rId16" Type="http://schemas.openxmlformats.org/officeDocument/2006/relationships/hyperlink" Target="https://livelink.groenkennisnet.nl/livelink/llisapi.dll?func=ll&amp;objId=10628055&amp;objAction=browse&amp;sort=name&amp;viewType=1" TargetMode="External"/><Relationship Id="rId1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dmet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 maken van een veldwe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etlijn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ulpmeetlijnen staan altijd haaks op de hoofdmeetlijn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t geef je aan met een kwart rond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2195640" y="378936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2195280" y="5445000"/>
            <a:ext cx="33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202200">
            <a:off x="1255680" y="4480920"/>
            <a:ext cx="18280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anduiding haa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ar als de tekening dat verlang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jv. er staat een object in de we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t betekent ook haaks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1547640" y="4005360"/>
            <a:ext cx="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547280" y="4797360"/>
            <a:ext cx="496908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3600" y="4797360"/>
            <a:ext cx="18280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484360" y="4149720"/>
            <a:ext cx="1150920" cy="1057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5373720"/>
            <a:ext cx="914400" cy="9144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 notering van het meetget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77724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tijd haaks op de meetl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ks of rechts van de l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 lezen vanuit de pij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2268360" y="3905280"/>
            <a:ext cx="0" cy="29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268000" y="4724280"/>
            <a:ext cx="374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63320" y="37162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2,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28680" y="4789440"/>
            <a:ext cx="4546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5,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4859280" y="4724280"/>
            <a:ext cx="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19560" y="5748480"/>
            <a:ext cx="458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0800000">
            <a:off x="4982400" y="589104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,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ind- en tussenmat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dmaten altijd onderstrep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1692360" y="263700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692000" y="42210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43280" y="2997360"/>
            <a:ext cx="0" cy="12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427640" y="422064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5724360" y="422064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04000" y="242100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240680" y="4308480"/>
            <a:ext cx="10033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5,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812000" y="4365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913840" y="292428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9,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987640" y="3357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719320" y="2349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3,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867280" y="27082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0800000">
            <a:off x="3705480" y="522756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,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708000" y="5157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10800000">
            <a:off x="5937480" y="515592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,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84720" y="5084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439600" y="3276720"/>
            <a:ext cx="4546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1,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15600" y="3492360"/>
            <a:ext cx="4546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6,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59960" y="4360680"/>
            <a:ext cx="45468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,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37240" y="3645000"/>
            <a:ext cx="1110240" cy="115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m na te lezen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Zie ook het landmeetboek blz. 8; “de opmeetmethoden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Klik voor het landmeetboek op de onderstaande lin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s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://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livelink.groenkennisnet.nl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/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livelink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6"/>
              </a:rPr>
              <a:t>/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7"/>
              </a:rPr>
              <a:t>llisapi.dll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8"/>
              </a:rPr>
              <a:t>?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9"/>
              </a:rPr>
              <a:t>func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0"/>
              </a:rPr>
              <a:t>=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1"/>
              </a:rPr>
              <a:t>doc.ViewDoc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2"/>
              </a:rPr>
              <a:t>&amp;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3"/>
              </a:rPr>
              <a:t>nodeId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4"/>
              </a:rPr>
              <a:t>=90568114&amp;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5"/>
              </a:rPr>
              <a:t>viewType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6"/>
              </a:rPr>
              <a:t>=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pdrach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ak nu opdrachten 26 en 27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s de hierboven beschreven regels en afspraken to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at is een veldwerk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en tekening van een ob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iet op scha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 een ingebouwde contro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 de juist ingemeten ma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 een uniforme manier genoteer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lke tekening voldoe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ke tekening waarin metingen kunnen worden genotee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jv. een kadastertekening of een eigen sch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aarom niet op schaal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metingen zijn het belangrijk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moet daarvoor ruimte op de tekening z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tekening moet ongeveer aangeven hoe het terrein er uit zi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schaaltekening verschijnt na het uitwerken van de meetgegeve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gebouwde controle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Elke meting kan fouten bevat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Daarom een controle inbouwen die de juistheid van een meting bewij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Bijv. een driehoek én een hoogtel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1979640" y="5877000"/>
            <a:ext cx="518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050920" y="4365360"/>
            <a:ext cx="165744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08360" y="4365720"/>
            <a:ext cx="345600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708360" y="4365720"/>
            <a:ext cx="0" cy="151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e werkt dat dan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 er bij één zijde een fout is gemeten past de hoogtelijn niet bij de uitwer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arom een controle inbouwen die de juistheid van een meting bewij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1979640" y="5877000"/>
            <a:ext cx="518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050920" y="4365360"/>
            <a:ext cx="165744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08360" y="4365720"/>
            <a:ext cx="345600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08360" y="4365720"/>
            <a:ext cx="0" cy="151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rkwijz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deel het object in meetkundige figuren die je eenvoudig kunt controlere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1619280" y="407664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708360" y="4437000"/>
            <a:ext cx="1057320" cy="9144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12000" y="4437000"/>
            <a:ext cx="914400" cy="9144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67640" y="400536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618920" y="4149720"/>
            <a:ext cx="865080" cy="865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11640" y="4437000"/>
            <a:ext cx="0" cy="863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8101080" y="4005000"/>
            <a:ext cx="71280" cy="431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92360" y="5877000"/>
            <a:ext cx="1214280" cy="914400"/>
          </a:xfrm>
          <a:prstGeom prst="parallelogram">
            <a:avLst>
              <a:gd name="adj" fmla="val 3319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2050560" y="5950080"/>
            <a:ext cx="505080" cy="907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24360" y="5589720"/>
            <a:ext cx="1214280" cy="914400"/>
          </a:xfrm>
          <a:custGeom>
            <a:avLst/>
            <a:gdLst>
              <a:gd name="textAreaLeft" fmla="*/ 266760 w 1214280"/>
              <a:gd name="textAreaRight" fmla="*/ 947520 w 1214280"/>
              <a:gd name="textAreaTop" fmla="*/ 200880 h 914400"/>
              <a:gd name="textAreaBottom" fmla="*/ 7135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4211640" y="5589360"/>
            <a:ext cx="936720" cy="863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ar dan ga je toch even teru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 kost dat ten opzichte van een controlemet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rug: vaak enkele tot vele ur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emeting: enkele minu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 notatie van de meting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zijn hoofdmeetlijnen 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zijn hulpmeetlijn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ke meetlijn begint met een pijlt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2050920" y="494172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050920" y="386064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13:44:34Z</dcterms:created>
  <dc:creator>Peter</dc:creator>
  <dc:description/>
  <dc:language>en-US</dc:language>
  <cp:lastModifiedBy>laptop</cp:lastModifiedBy>
  <dcterms:modified xsi:type="dcterms:W3CDTF">2007-11-07T08:20:51Z</dcterms:modified>
  <cp:revision>6</cp:revision>
  <dc:subject/>
  <dc:title>Landmeten</dc:title>
</cp:coreProperties>
</file>