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6DCE-F1A5-4C83-85D2-F1ABAA8F3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BA67-CCC8-431E-B0B5-EE8D44959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0383-69C2-45EB-9EB2-5FF6B3819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1CA8-69C1-4963-8BF5-858104F49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60A7A-4AA5-4A47-901C-6620A42C3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109AB-F184-47EE-91F0-40A99DF42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40487-F1B9-4056-97D5-E16BDC5C8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4B353-957F-4BEC-B421-9602B9EC5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B55CE-BC6A-47A0-9FAB-10F88C518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1A5C1-1553-42A3-8639-F082EC221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12439-098A-493B-9DDB-B151EEE2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E279-2BA4-4B5D-BA03-3AAC53898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613E0-31CC-4E5B-B4F2-DEE7E9FA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8C421-45AE-4DB2-8E06-B87CEE96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0385B-1F6F-4BFD-99F9-F8917933C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B48CE-683B-4E9B-82E9-32A9CD059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64EC4-9060-456B-9AE7-A3CF7AB92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6C3F-7937-480F-BE79-23F0D32DE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91F1-7E10-4A91-BA63-B4CD9860F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CB05-D48B-4E62-9765-3B8FE9B05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4CDD-D292-4A46-B18E-37846FC7C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4E9B-1041-4D3A-9624-05A2CB01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C5CE-EA13-4DFF-AA66-366ABEB5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6E6C-C924-4DFD-AFDC-510EAE6B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B18A8-DDE9-40A0-8709-CFB5BA9FE0E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C2D8C-7C8C-4F0A-8FC6-EAD924F19E7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llisapi.dll?func=ll&amp;objId=10628055&amp;objAction=browse&amp;sort=name&amp;viewType=1" TargetMode="External"/><Relationship Id="rId2" Type="http://schemas.openxmlformats.org/officeDocument/2006/relationships/hyperlink" Target="https://livelink.groenkennisnet.nl/livelink/llisapi.dll?func=ll&amp;objId=10628055&amp;objAction=browse&amp;sort=name&amp;viewType=1" TargetMode="External"/><Relationship Id="rId3" Type="http://schemas.openxmlformats.org/officeDocument/2006/relationships/hyperlink" Target="https://livelink.groenkennisnet.nl/livelink/llisapi.dll?func=ll&amp;objId=10628055&amp;objAction=browse&amp;sort=name&amp;viewType=1" TargetMode="External"/><Relationship Id="rId4" Type="http://schemas.openxmlformats.org/officeDocument/2006/relationships/hyperlink" Target="https://livelink.groenkennisnet.nl/livelink/llisapi.dll?func=ll&amp;objId=10628055&amp;objAction=browse&amp;sort=name&amp;viewType=1" TargetMode="External"/><Relationship Id="rId5" Type="http://schemas.openxmlformats.org/officeDocument/2006/relationships/hyperlink" Target="https://livelink.groenkennisnet.nl/livelink/llisapi.dll?func=ll&amp;objId=10628055&amp;objAction=browse&amp;sort=name&amp;viewType=1" TargetMode="External"/><Relationship Id="rId6" Type="http://schemas.openxmlformats.org/officeDocument/2006/relationships/hyperlink" Target="https://livelink.groenkennisnet.nl/livelink/llisapi.dll?func=ll&amp;objId=10628055&amp;objAction=browse&amp;sort=name&amp;viewType=1" TargetMode="External"/><Relationship Id="rId7" Type="http://schemas.openxmlformats.org/officeDocument/2006/relationships/hyperlink" Target="https://livelink.groenkennisnet.nl/livelink/llisapi.dll?func=ll&amp;objId=10628055&amp;objAction=browse&amp;sort=name&amp;viewType=1" TargetMode="External"/><Relationship Id="rId8" Type="http://schemas.openxmlformats.org/officeDocument/2006/relationships/hyperlink" Target="https://livelink.groenkennisnet.nl/livelink/llisapi.dll?func=ll&amp;objId=10628055&amp;objAction=browse&amp;sort=name&amp;viewType=1" TargetMode="External"/><Relationship Id="rId9" Type="http://schemas.openxmlformats.org/officeDocument/2006/relationships/hyperlink" Target="https://livelink.groenkennisnet.nl/livelink/llisapi.dll?func=ll&amp;objId=10628055&amp;objAction=browse&amp;sort=name&amp;viewType=1" TargetMode="External"/><Relationship Id="rId10" Type="http://schemas.openxmlformats.org/officeDocument/2006/relationships/hyperlink" Target="https://livelink.groenkennisnet.nl/livelink/llisapi.dll?func=ll&amp;objId=10628055&amp;objAction=browse&amp;sort=name&amp;viewType=1" TargetMode="External"/><Relationship Id="rId11" Type="http://schemas.openxmlformats.org/officeDocument/2006/relationships/hyperlink" Target="https://livelink.groenkennisnet.nl/livelink/llisapi.dll?func=ll&amp;objId=10628055&amp;objAction=browse&amp;sort=name&amp;viewType=1" TargetMode="External"/><Relationship Id="rId12" Type="http://schemas.openxmlformats.org/officeDocument/2006/relationships/hyperlink" Target="https://livelink.groenkennisnet.nl/livelink/llisapi.dll?func=ll&amp;objId=10628055&amp;objAction=browse&amp;sort=name&amp;viewType=1" TargetMode="External"/><Relationship Id="rId13" Type="http://schemas.openxmlformats.org/officeDocument/2006/relationships/hyperlink" Target="https://livelink.groenkennisnet.nl/livelink/llisapi.dll?func=ll&amp;objId=10628055&amp;objAction=browse&amp;sort=name&amp;viewType=1" TargetMode="External"/><Relationship Id="rId14" Type="http://schemas.openxmlformats.org/officeDocument/2006/relationships/hyperlink" Target="https://livelink.groenkennisnet.nl/livelink/llisapi.dll?func=ll&amp;objId=10628055&amp;objAction=browse&amp;sort=name&amp;viewType=1" TargetMode="External"/><Relationship Id="rId15" Type="http://schemas.openxmlformats.org/officeDocument/2006/relationships/hyperlink" Target="https://livelink.groenkennisnet.nl/livelink/llisapi.dll?func=ll&amp;objId=10628055&amp;objAction=browse&amp;sort=name&amp;viewType=1" TargetMode="External"/><Relationship Id="rId16" Type="http://schemas.openxmlformats.org/officeDocument/2006/relationships/hyperlink" Target="https://livelink.groenkennisnet.nl/livelink/llisapi.dll?func=ll&amp;objId=10628055&amp;objAction=browse&amp;sort=name&amp;viewType=1" TargetMode="External"/><Relationship Id="rId1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dmet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 maken van een veldwe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etlijn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ulpmeetlijnen staan altijd haaks op de hoofdmeetlijn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t geef je aan met een kwart rond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2195640" y="378936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195280" y="5445000"/>
            <a:ext cx="33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202200">
            <a:off x="1255680" y="448092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anduiding haa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ar als de tekening dat verlang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jv. er staat een object in de we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t betekent ook haak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1547640" y="400536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547280" y="4797360"/>
            <a:ext cx="496908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3600" y="479736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84360" y="4149720"/>
            <a:ext cx="1150920" cy="1057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5373720"/>
            <a:ext cx="914400" cy="9144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 notering van het meetget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77724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ijd haaks op de meet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ks of rechts van de 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 lezen vanuit de pij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2268360" y="390528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268000" y="4724280"/>
            <a:ext cx="374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63320" y="37162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2,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28680" y="478944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5,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859280" y="4724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19560" y="5748480"/>
            <a:ext cx="458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0800000">
            <a:off x="4982400" y="589104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,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ind- en tussenmat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dmaten altijd onderstrep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1692360" y="263700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692000" y="42210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43280" y="299736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427640" y="422064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5724360" y="422064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04000" y="242100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40680" y="4308480"/>
            <a:ext cx="10033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5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812000" y="4365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913840" y="292428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9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87640" y="3357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19320" y="2349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3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867280" y="2708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0800000">
            <a:off x="3705480" y="522756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,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708000" y="5157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10800000">
            <a:off x="5937480" y="515592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84720" y="5084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39600" y="327672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1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15600" y="349236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6,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59960" y="4360680"/>
            <a:ext cx="45468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37240" y="3645000"/>
            <a:ext cx="1110240" cy="115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m na te lezen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Zie ook het landmeetboek blz. 8; “de opmeetmethoden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Klik voor het landmeetboek op de onderstaande lin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s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:/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livelink.groenkennisnet.nl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livelink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llisapi.dll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8"/>
              </a:rPr>
              <a:t>?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9"/>
              </a:rPr>
              <a:t>func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0"/>
              </a:rPr>
              <a:t>=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1"/>
              </a:rPr>
              <a:t>doc.ViewDoc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2"/>
              </a:rPr>
              <a:t>&amp;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3"/>
              </a:rPr>
              <a:t>nodeId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4"/>
              </a:rPr>
              <a:t>=90568114&amp;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5"/>
              </a:rPr>
              <a:t>viewType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6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drach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ak nu opdrachten 26 en 27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s de hierboven beschreven regels en afspraken to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t is een veldwerk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en tekening van ee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iet op scha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 een ingebouwde contro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 de juist ingemeten ma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 een uniforme manier genoteer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lke tekening voldoe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ke tekening waarin metingen kunnen worden genotee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jv. een kadastertekening of een eigen sch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arom niet op schaal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metingen zijn het belangrijk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moet daarvoor ruimte op de tekening z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tekening moet ongeveer aangeven hoe het terrein er uit zi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schaaltekening verschijnt na het uitwerken van de meetgegeve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gebouwde control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Elke meting kan fouten bevat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aarom een controle inbouwen die de juistheid van een meting bewij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ijv. een driehoek én een hoogte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1979640" y="587700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050920" y="4365360"/>
            <a:ext cx="165744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08360" y="4365720"/>
            <a:ext cx="345600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08360" y="4365720"/>
            <a:ext cx="0" cy="151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e werkt dat da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 er bij één zijde een fout is gemeten past de hoogtelijn niet bij de uitwer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arom een controle inbouwen die de juistheid van een meting bewij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1979640" y="587700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050920" y="4365360"/>
            <a:ext cx="165744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08360" y="4365720"/>
            <a:ext cx="345600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08360" y="4365720"/>
            <a:ext cx="0" cy="151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rkwijz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deel het object in meetkundige figuren die je eenvoudig kunt controler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1619280" y="407664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08360" y="4437000"/>
            <a:ext cx="1057320" cy="9144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12000" y="4437000"/>
            <a:ext cx="914400" cy="9144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67640" y="400536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618920" y="4149720"/>
            <a:ext cx="865080" cy="865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11640" y="4437000"/>
            <a:ext cx="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8101080" y="4005000"/>
            <a:ext cx="71280" cy="431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92360" y="5877000"/>
            <a:ext cx="1214280" cy="914400"/>
          </a:xfrm>
          <a:prstGeom prst="parallelogram">
            <a:avLst>
              <a:gd name="adj" fmla="val 3319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2050560" y="5950080"/>
            <a:ext cx="505080" cy="907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24360" y="5589720"/>
            <a:ext cx="1214280" cy="914400"/>
          </a:xfrm>
          <a:custGeom>
            <a:avLst/>
            <a:gdLst>
              <a:gd name="textAreaLeft" fmla="*/ 266760 w 1214280"/>
              <a:gd name="textAreaRight" fmla="*/ 947520 w 121428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211640" y="5589360"/>
            <a:ext cx="93672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ar dan ga je toch even teru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 kost dat ten opzichte van een controlemet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ug: vaak enkele tot vele u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emeting: enkele minu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 notatie van de meting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zijn hoofdmeetlijnen 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zijn hulpmeetlijn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ke meetlijn begint met een pijlt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050920" y="494172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050920" y="386064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3:44:34Z</dcterms:created>
  <dc:creator>Peter</dc:creator>
  <dc:description/>
  <dc:language>en-US</dc:language>
  <cp:lastModifiedBy>laptop</cp:lastModifiedBy>
  <dcterms:modified xsi:type="dcterms:W3CDTF">2007-11-07T08:20:51Z</dcterms:modified>
  <cp:revision>6</cp:revision>
  <dc:subject/>
  <dc:title>Landmeten</dc:title>
</cp:coreProperties>
</file>