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0C1E-500C-45A5-98B2-C71795B1EF19}"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B16F-3A3E-4031-B6DF-DE7D46CBFC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B03EB-F41E-4243-A8E2-A9DFD8F0A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CD425-826D-46D8-9E90-1409A5BD7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A5335-8F56-4F47-B151-93827D8BC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97E87-D2FC-41FF-8445-6D96DCD2E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E63D9-F015-4D3A-93AA-B60112E2C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BCA72-52A4-41F7-A577-716DF42B9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3B9C3-2998-43E9-B066-846F7FB7B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1AECA-EE37-4502-939D-2D80FF58A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EA450-02A7-40F6-ADC1-8FC447D94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E32D8-0CBC-42E5-88B3-9D29D3623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16059-1B8E-4B0D-8574-8DF1D8F8D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FB1C5-F6D7-4CA8-B0C3-A09EA8657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7868F-D5E5-4761-A2FF-4170DB964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2CCE8-96EB-45F9-8B31-7DEF54054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C729C-55F9-4D2E-8EA7-13D552870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3AD57-93FD-4211-BBA1-A55FD2AD6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F9980-EFEB-43E3-B19E-0EA582151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6AD7FA-5F95-4F18-B6B7-FB5846B7DD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3DBA5-F7F6-4263-B064-DD2F4148B6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885948-E9FA-4FEE-873D-3B5767449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ABE39B-BFCD-4F81-8C63-E04778210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1DCDF-9FED-4EB6-97B7-B966A6C0C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C9243-5E67-4D8B-8B26-4BEA3FFAB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300B0-0A6F-42AE-A322-91A3F6303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86015-B9B1-44D7-8756-2AA1EA121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AFDFC-DB0A-4C79-A8EF-82A5B6714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07EA1-922E-46E7-9627-A9F0E220C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8CB3D9-8C14-4AFD-A205-E2CEAE7B8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9E1682-7A7D-4E9D-921F-F63CDB1AFB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606007-AFDD-4A52-8048-6629AE5D59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79F095-B45C-49F7-AA10-53857958B1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217D7A-5839-4179-8FFB-621814288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D5051-504D-40EE-978D-9F858CAEA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7C091-9751-4DF5-A910-1EFC67C71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ACD98-7C2F-451F-ACC1-9FEA7860F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55275-F726-41D7-953A-B4B5C0782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7FC6B6-F6BE-42FE-8507-CE80BFC31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B2D44-D419-4CBB-85DC-93FF401194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4278B-17A7-4F61-A65E-481CA2A833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69271-0F5A-4B83-813A-22156571D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C1122C-DB6E-44B6-87C6-61D511DE90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F92204-4D95-4DB0-8809-2E48DD6DFD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C98394-6B31-41B8-B642-C04443B379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29885A-0BA4-4644-B617-B1AA98A531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F98C0-739D-4726-A008-B626E34BC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8646E1-6930-46B6-898A-0D7336FB6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D20FC-C6D0-47ED-A46D-D86ABE47F8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41FE4F-F5E3-4197-A43B-773986391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FD5A53-E698-4972-BA87-5A2C02435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DAFE0-8B8E-47B9-8BD0-A5FCA87B97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D2873-11F1-4A2D-8A38-8B6D729E5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61BD4-B43C-4476-B65D-3D6EA9438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2D3F0-B745-4625-8216-869176380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BE4AE5-6B43-4145-9E32-B4CE9DEBF6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5EF396-C80F-43B2-BB3A-3FFEA104CA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8770-BC2B-44FD-9DFE-25069A736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787244-1DA6-49E2-B19B-35FCE2B3E8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5EE41-9ABE-4CF1-AB60-C0B0302A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51B07-7D67-4849-B647-B65287571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623D-84CD-4B13-AD05-763A58AA0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6520" y="0"/>
            <a:ext cx="987480" cy="6858000"/>
            <a:chOff x="8156520" y="0"/>
            <a:chExt cx="987480" cy="6858000"/>
          </a:xfrm>
        </p:grpSpPr>
        <p:pic>
          <p:nvPicPr>
            <p:cNvPr id="1" name="Rechthoek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7840-BDF8-4250-BD6D-DD81B311615C}"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70120" y="0"/>
            <a:ext cx="6473880" cy="6858000"/>
            <a:chOff x="2670120" y="0"/>
            <a:chExt cx="6473880" cy="6858000"/>
          </a:xfrm>
        </p:grpSpPr>
        <p:pic>
          <p:nvPicPr>
            <p:cNvPr id="45" name="Rechthoek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31B6-6D38-4029-BD76-B2D0417930DB}"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6520" y="0"/>
            <a:ext cx="987480" cy="6858000"/>
            <a:chOff x="8156520" y="0"/>
            <a:chExt cx="987480" cy="6858000"/>
          </a:xfrm>
        </p:grpSpPr>
        <p:pic>
          <p:nvPicPr>
            <p:cNvPr id="90" name="Rechthoek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F29F-A74F-453D-A520-043A60C6734B}"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69E2-FF7C-46CE-848A-F6A5BC5B969D}"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6520" y="0"/>
            <a:ext cx="987480" cy="6858000"/>
            <a:chOff x="8156520" y="0"/>
            <a:chExt cx="987480" cy="6858000"/>
          </a:xfrm>
        </p:grpSpPr>
        <p:pic>
          <p:nvPicPr>
            <p:cNvPr id="177" name="Rechthoek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09B6-8829-4912-BDA5-4249E529E6A0}"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9040" y="360360"/>
            <a:ext cx="8315280" cy="32418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457200" y="324000"/>
            <a:ext cx="7242120" cy="1139760"/>
          </a:xfrm>
          <a:prstGeom prst="rect">
            <a:avLst/>
          </a:prstGeom>
          <a:ln w="0">
            <a:noFill/>
          </a:ln>
        </p:spPr>
      </p:pic>
      <p:pic>
        <p:nvPicPr>
          <p:cNvPr id="266" name="Tijdelijke aanduiding voor inhoud 2" descr=""/>
          <p:cNvPicPr/>
          <p:nvPr/>
        </p:nvPicPr>
        <p:blipFill>
          <a:blip r:embed="rId2"/>
          <a:stretch/>
        </p:blipFill>
        <p:spPr>
          <a:xfrm>
            <a:off x="457200" y="1554120"/>
            <a:ext cx="7334280" cy="490212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457200" y="324000"/>
            <a:ext cx="7242120" cy="113976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457200" y="324000"/>
            <a:ext cx="7242120" cy="113976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457200" y="639720"/>
            <a:ext cx="7242120" cy="82404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212760" y="858960"/>
            <a:ext cx="8645400" cy="424332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457200" y="139680"/>
            <a:ext cx="7242120" cy="107316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457200" y="324000"/>
            <a:ext cx="7242120" cy="1139760"/>
          </a:xfrm>
          <a:prstGeom prst="rect">
            <a:avLst/>
          </a:prstGeom>
          <a:ln w="0">
            <a:noFill/>
          </a:ln>
        </p:spPr>
      </p:pic>
      <p:pic>
        <p:nvPicPr>
          <p:cNvPr id="253" name="Tijdelijke aanduiding voor inhoud 2" descr=""/>
          <p:cNvPicPr/>
          <p:nvPr/>
        </p:nvPicPr>
        <p:blipFill>
          <a:blip r:embed="rId3"/>
          <a:stretch/>
        </p:blipFill>
        <p:spPr>
          <a:xfrm>
            <a:off x="328680" y="1603440"/>
            <a:ext cx="7377120" cy="48578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457200" y="324000"/>
            <a:ext cx="7242120" cy="113976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457200" y="324000"/>
            <a:ext cx="7242120" cy="1139760"/>
          </a:xfrm>
          <a:prstGeom prst="rect">
            <a:avLst/>
          </a:prstGeom>
          <a:ln w="0">
            <a:noFill/>
          </a:ln>
        </p:spPr>
      </p:pic>
      <p:pic>
        <p:nvPicPr>
          <p:cNvPr id="258" name="Tijdelijke aanduiding voor inhoud 2" descr=""/>
          <p:cNvPicPr/>
          <p:nvPr/>
        </p:nvPicPr>
        <p:blipFill>
          <a:blip r:embed="rId2"/>
          <a:stretch/>
        </p:blipFill>
        <p:spPr>
          <a:xfrm>
            <a:off x="347760" y="1609560"/>
            <a:ext cx="7351560" cy="484668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457200" y="324000"/>
            <a:ext cx="7242120" cy="1139760"/>
          </a:xfrm>
          <a:prstGeom prst="rect">
            <a:avLst/>
          </a:prstGeom>
          <a:ln w="0">
            <a:noFill/>
          </a:ln>
        </p:spPr>
      </p:pic>
      <p:pic>
        <p:nvPicPr>
          <p:cNvPr id="261" name="Tijdelijke aanduiding voor inhoud 2" descr=""/>
          <p:cNvPicPr/>
          <p:nvPr/>
        </p:nvPicPr>
        <p:blipFill>
          <a:blip r:embed="rId2"/>
          <a:stretch/>
        </p:blipFill>
        <p:spPr>
          <a:xfrm>
            <a:off x="347760" y="1554120"/>
            <a:ext cx="7375320" cy="492588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457200" y="324000"/>
            <a:ext cx="7242120" cy="1139760"/>
          </a:xfrm>
          <a:prstGeom prst="rect">
            <a:avLst/>
          </a:prstGeom>
          <a:ln w="0">
            <a:noFill/>
          </a:ln>
        </p:spPr>
      </p:pic>
      <p:pic>
        <p:nvPicPr>
          <p:cNvPr id="264" name="Tijdelijke aanduiding voor inhoud 2" descr=""/>
          <p:cNvPicPr/>
          <p:nvPr/>
        </p:nvPicPr>
        <p:blipFill>
          <a:blip r:embed="rId2"/>
          <a:stretch/>
        </p:blipFill>
        <p:spPr>
          <a:xfrm>
            <a:off x="420840" y="1554120"/>
            <a:ext cx="7345080" cy="490212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Leontine de Jong</cp:lastModifiedBy>
  <dcterms:modified xsi:type="dcterms:W3CDTF">2017-08-07T13:46:36Z</dcterms:modified>
  <cp:revision>53</cp:revision>
  <dc:subject/>
  <dc:title>Kinderarbeid</dc:title>
</cp:coreProperties>
</file>