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9DF-5ABF-45DA-8647-A07B37CB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519-1A49-45C5-9E98-FF9A7E11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4AC-D988-4B05-B47F-E12C56DF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D97-0FAF-4CE8-B308-C3D92FC1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27CC-10AC-44A1-99D6-B5E4F227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ECE9-FAB4-4281-839C-4F5F9655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C87F-C2CE-417D-B8AB-98F365CA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EB9F-B6BB-4388-8F22-D39CE317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F6A7-F146-4445-B888-D87AD62F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7FA5-3D74-47C4-9DC9-3E7721A2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0E82-5C14-4E9A-8891-34B358E9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297-58E9-4CEA-A307-1B388F60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02DA-D4D3-4188-A16E-DA35858F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4664-1D30-4F14-B626-10CB46D3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FFA4-461B-4624-96E4-79F0B5CA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1475-5527-4C58-9732-17AA4699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D2AC-49C5-4C21-B7A0-8B6EEA2C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3543C-9435-420C-BA05-FE15A447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D5546-9F31-4E52-9371-31C4601A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88850-9DF0-417B-AE39-B7128629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51AC9-4B83-4191-926B-B70C4F8C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D052E-9B24-4D6F-A7DF-1735C0E4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D93-F2B2-481E-A5D1-4D7E8158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EA606-395B-4A3A-9F68-B1D26C3A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31620-28FF-465A-9289-DA8C376E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C46BC-C51B-4A65-9A0B-26A422CD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C8453-8E9C-4FA4-8DBE-FA042140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82C6F-31F8-4098-A291-E5507CF4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EC070-469B-47B5-9172-30BBB2F0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51DE6-18EC-4603-AB31-D4A861FC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36FB4A-5610-4AC2-9B91-CE631C13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97FC44-97BF-469F-9DB7-CCF40392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26AE8-D0FB-4926-833B-E4F1C61E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680-C845-43AA-8C57-E891BD57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BF3E54-2E76-4E4E-B713-22EC94C8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B476F-752B-4F9F-B9F6-73DFC6CA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1F313-806C-4BA1-9EC5-199CF362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7C7EF-3B70-4631-992A-7EEFCE2F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1E34B5-CC17-4136-B74F-76725697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0E693-0E2A-4895-AAC6-0A3F92E4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B53C7E-09BE-4B09-947E-428E923B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6F830-301F-433C-AE07-5BC4D4BA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7A65A-E518-484E-AE43-D0EFFD92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9BBB4-98FB-4450-8FAA-44067671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8BC-E8A6-4E47-A583-44297DA0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3912C-78D6-4245-8B33-257E6CBB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DDA62-E8CA-4144-82DE-5EF85007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F6EA4-8ED0-44C6-9364-9EC4547E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F82CE-59E0-4EC0-AD24-7A056687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80B53-BD33-4CCC-A0BE-E8D6B27B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2FC0F-49FB-489E-B614-F800726F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4A668-CE4F-4BCF-8483-86B3C2AE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8EDB1-09AE-4635-AE30-B218C69C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CAC4D-7BD8-4AB5-AB90-E06AFD4E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F79EA-0D45-401A-9EEE-E0310798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626-9DDC-40CF-99D0-584EF421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149B3-6B56-422B-A12C-6078DCD7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2FAA5-BE66-4FFB-B7D9-6E169B24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327E2-2FB7-41CC-9198-C7A80A68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D0ABF-BB2B-44EE-9534-49EC2CAA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CFFD3-4AFF-4015-B1E5-C6522CA0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39B50-4435-4526-9B11-1D2C95DD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BAC44-206B-43B4-919A-AB087CD7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6B2F4-A04F-45A8-93AB-9D8F428A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3B718-8CAE-446C-BD01-187C87AF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4B333-CD9D-4C69-8C5E-42DE9942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026-8076-4A28-A212-B3B089FD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0C129-3C58-42B1-9EF0-79D51308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B4E9E-F141-45B1-8618-BB7CD3E5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98F52-A45A-4B38-97C2-9864E366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17FAE1-505E-4EEA-9741-D1502BCB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273E1-3CE5-484F-A47F-264377C6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8D69B2-16AD-4C41-A30C-F921DB47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CFEAF-AACB-44B7-8E42-98E5CA5C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81D28B-DCBB-44D8-A1E1-85F531F4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C4C9F9-A239-4349-86B0-EBF4D0A0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D1BD3-2CDB-4F1C-AE44-1F0DA2E2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907-4A82-40A1-9158-DDFF8F29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E5EF8-005C-47F7-8CD7-A120EFBC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9C304C-C8A4-413A-874C-2FEF6275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31AEF6-1814-4A78-9085-AFE004DA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ECFE5-5190-405D-9096-0092BDC1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2C2BAF-92C7-4383-B351-FAFBA651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73636-D561-4F9F-BEE6-34A8259F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FA7EA-7270-4E75-B008-DF1E8C52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07A51-B17B-4C0A-965C-533CBB75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6333D-F586-4A42-B963-3CB483EF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75767-9ADF-4782-8444-45CC9F44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8D3-CA73-42C6-823A-5508BF6E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857E2-5063-49EF-B705-29C28482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E1218-E898-4010-83DD-8B2617DB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FC33C-F964-4A98-BADD-46BCB9B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169B3-13CC-4711-AF1D-FFF73087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C5D67-9ED6-4D3B-8781-44CEC770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32A00-C8C9-4CEC-9251-6F833E54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51CC9-2CA4-43C1-B2A4-3C970B38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665C-9B49-4CF2-8910-977A661BAE7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D98C-0400-488D-8DC0-02CD03DB52A2}" type="slidenum">
              <a:rPr b="1" lang="nl-N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00B6-C7CB-4BFC-8854-F054AAC3EFE2}" type="slidenum"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C495-44E1-4977-AC69-573AC026C4CA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A707-D939-4785-BBAF-80FDEAE0071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9087-A08E-4B7D-880D-DCA29E4C0D7A}" type="slidenum">
              <a:rPr b="1" lang="nl-N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1037-3B1A-4455-8015-D8BA8B280DD8}" type="slidenum"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C1D4-7836-4D98-9F04-C75BAB8DAAD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WERKOMSCHRIJVING</a:t>
            </a:r>
            <a:br>
              <a:rPr sz="5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&amp;</a:t>
            </a:r>
            <a:br>
              <a:rPr sz="4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BESTEK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ddc3"/>
                </a:solidFill>
                <a:latin typeface="Tw Cen MT"/>
              </a:rPr>
              <a:t>NIVEAU 4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ise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uele gelijkwaardig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Uitvoeringswijze en machinekeuze is vrijgela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duidige bestek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houd en omvang van project is correct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richte 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en voorwaarden duidelijk verwoord in best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Kostenhomogeniteit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de geleverde productie en meer- en minderwerk te meten en te verreken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bou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1 Bestek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1 Bestek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onderverdeeld i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1 Algeme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ie, wat, waar, wanneer en ho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2 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1 Algemene gegeve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ekeningen, hoogtes, pei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Besteksposten, resultaatverplicht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3 Standaardbepa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Vastgestelde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passingen en verandering van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stekspost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Geen vaste codes, aannemer past a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atalogus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ofd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Uniformite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fi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euzes bepalen co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Indien keuze niet vermeld; nummer 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w Cen MT"/>
              </a:rPr>
              <a:t>CROW: kenniscentrum voor verkeer, vervoer en infrastructuu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m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oelichting op resultaa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¹, m², m³, stuks, rol, za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achteraf vaststel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en door omstandigheden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voor aanbesteding controleerba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is niet aanwezi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na opdracht en voor uitvoering op papier controleerbaar vaststellen in overle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t.g.v. uittrekfout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ter in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leveren (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aannem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r beschikking stellen (TB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opdrachtgev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Samenvatting van bestekspo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nemer geeft per bestekpost de prijs per eenheid en de totaalpr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document voor aanbi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gevens aannem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neems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prijs meer- en minderwe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bar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om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ventarisatie en analy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nodigde inform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unc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bou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twee tot zes uitgeno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op uitnodiging van minimaal twee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an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kelvoudige uitnodig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ijsaanbieding op uitnodiging door één uitgenodig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rkwijze geregeld in het Uniform Aanbestedings-Regelement (UA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Genoemd in dagen, betekent kalenderdag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w Cen MT"/>
              </a:rPr>
              <a:t>Werkwijze bij openbare aanbested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dvertentie geplaats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10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erkrijgen bestek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 minimaal 36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19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zage nota van 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7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anbesteding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30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pdracht na aanbested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otiveren afwijz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innen 14 dagen na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ntvangst verzoe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w Cen MT"/>
              </a:rPr>
              <a:t>Nota van inlichtingen is aanvullende informatie op bestek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wijz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schrijvingsbiljet wordt voor een bepaalde datum ingeleverd in een bu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penen van de bus is stipt op de aangekondigde datum en tijdstip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veloppen worden getel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en enveloppen en noemen van namen en bedrag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aagste bedrag krijgt opdracht, indien er geen onregelmatigheden zijn voorgekom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overheidsinstel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inister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vinc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me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publiekrechtelijke organisati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uts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nergie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erschapp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enbaar vervoer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rempelbedrag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Uitschrijven van een opdracht boven het onderstaande bedrag verplicht Europees Aanbestede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vering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ens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lijke behandel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aanbesteding is gelij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Transparan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 moet controleerbaar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oportionalitei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aan aannemer moeten in verhouding met de opdracht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derzijdse erkenn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idstaten van de EU moeten goederen en diensten van ondernemingen van andere lidstaten toelaten indien de goederen en diensten gelijkwaardig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rd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rk, levering of diens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vor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totale geraamde waarde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ostenraming ivm drempelbedra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nbestedingsproced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procedur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4. Aankondig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dracht melden Europese Gemeenscha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publiceerd in publicatieblad van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5. Keuze selectie- en gunningscrite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inanciële-economische en technische minimumei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aagste prijs of economisch voordeligste aanbi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6. Gunn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end gemaakt in publicatieblad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lle werkzaamheden die nodig zij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m het project aan te leggen of te onderhoud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Tw Cen MT"/>
              </a:rPr>
              <a:t>volgorde van uitvoer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en adres aanbestedende diens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nderwerp en de waarde van de opdrach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koz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slot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van de gegadigde aan wie de opdracht is gegund met motiv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FORMAT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stekken in de grond-, water- en wegenbou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CRO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ISBN: 90 11 07536 6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ww.europeseaanbesteding.e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asis van een werkomschrijving is de inventarisatie en analyse van het projec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Tips voor de inventaris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rk nauwkeurig en systematisch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Noteer de gegevens per hoeveelheid (m</a:t>
            </a: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², m³, stuk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Gebruik standaard inventarisatielij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enodigde inform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te verwerken material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reikbaar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ndsoor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Fas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z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werkwijze voor het opstellen van een werkomschrijv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ventariseren van de werkzaam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eperen op werkvolgord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tailleren per werkzaamheid op: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achin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meth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en beschrijving van het werk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daarbij behorende tekening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voor het werk gestelde voorwaard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nota van inlichting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n proces verbaal van aanwijz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schreven bij grote projec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Zakelijke en juridisch bew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ac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chten, plichten en risico’s van beide partijen benoem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mmunicatiemid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formatiestroom benoemd</a:t>
            </a: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Uitgangspunt verantwoorde raming en calcul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stek geeft de benodigde informatie voor de calcul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eidraad uitvo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sultaat is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at wil de opdrachtgev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materialen worden gebruikt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voorwaarden zijn 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estatie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uidelijke en eenduidig beschrijving op resultaat en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op 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olemiddel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ldoen aan de gestelde voorwaa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ole tussentijds en na opleve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01Z</dcterms:created>
  <dc:creator>Wellantcollege</dc:creator>
  <dc:description/>
  <dc:language>en-US</dc:language>
  <cp:lastModifiedBy>jan van der wiele</cp:lastModifiedBy>
  <dcterms:modified xsi:type="dcterms:W3CDTF">2014-09-08T18:55:43Z</dcterms:modified>
  <cp:revision>38</cp:revision>
  <dc:subject/>
  <dc:title>WERKOMSCHRIJVING &amp; BESTEK</dc:title>
</cp:coreProperties>
</file>