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E9ED-A8CC-4B09-9B3F-2168CEC547E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957-2551-4226-A93C-3B1049F3FA7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359-305E-4C3A-AAC0-0804022C67A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31C-123D-4FEB-B246-DC3B9E1A71C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FF2-893A-4EB1-B6F6-C3404C2EA44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DC0E-EEC2-484E-9F31-67A5933334F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70D-EF86-4619-897F-0E7B013A538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85B-F788-4DF0-BDE4-1079F4FD11F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A02-3A0B-47C1-9857-A70429E0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F1D-580C-4F78-BF5F-F6BA269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464-B175-498E-A004-409AFC8A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027-F9D9-491C-AA79-68C4E38C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6C14-1787-46CA-AAC8-1C78EAE5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4D3C-DF56-48F6-8A05-A77890B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7037-D467-4CB5-AA69-60B7D517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EFF3-B318-4FE5-B7E0-17AE58B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ADB-BBB8-40BC-AE41-A44C5F8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387-0B29-4D32-A413-BB5D79E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24E8-29F1-4121-A648-C72FE2F7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BB1-04B6-4F5C-95F6-EEBAF58B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B750-7AEE-4E42-BC3F-BF9AC63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5316-AB66-4D8B-998A-77B025C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FE8-AD97-42B9-8A48-E0E7D7E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25B0-43DE-41AC-9F14-AD7AEEAD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9CA4-F3FC-4B28-AE7D-623C4DCA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830D-B172-477A-B176-8C88BA61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11B2-6004-4D02-B8E5-C08D25C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EE8B-1777-4390-8D3C-382B2FD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CDDE-4894-4B40-BEFA-D14FB00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8AF5-1D32-4E23-85EB-76ED6A8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C69-AA91-4184-AB59-872E677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3ABF-EA2F-4052-AF71-54FCAB3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3B48-A1D0-4ECA-8E4A-A806270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2CAE-81CA-4F7C-ADE9-3B27012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7ECE-ED22-43AF-93DE-49DBB5B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D0BD-8325-4B54-9302-7A03C65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F0AA-BA4F-41ED-850C-85662E59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F6F2-8708-4327-97B9-702ABF0E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192A-F762-4FD6-85BD-9D0527A0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F92B-B7E7-4F3E-9A46-C935D34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9FDB-2981-43F2-8C43-35BA043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A4B-E9D5-4EDE-97DF-36227CA7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34EF-9F0B-4E71-84BA-60CD223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01AB-E54D-457B-A6D2-3C4D1FA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3255-EE09-4BB8-B6A9-7B88AD0D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B06C-A6B0-4301-BE92-4D17FF4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01B0-9EB2-4DD6-9061-A2E8C0C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B38CE-6899-49DE-B2E4-3A704FE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2E07-0A5A-4406-8947-394D01B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042B-E480-4D56-AAF0-4A725636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16534-9665-40ED-AC04-5DC518E8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EB53-57C1-4B78-A247-3A6457D4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2B4-31B7-497A-8C39-65A4D55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9D2F-D456-448F-ACCE-6AB87A0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A158-7D62-4EF9-B556-4973E3A4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C4E4-426E-4BCB-9E5A-DCE6EBC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86FC-3197-4A2F-8E13-8D82C7A9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82EA-9429-42A1-B717-B210A81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725B-64FF-4B51-88D3-3E0ED8E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2047-606B-4E31-AF66-622C4CE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F241-C290-4AE0-931B-92EC01C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B16D-D06E-474E-A5C0-07570662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EB48-03A4-4A20-B0DF-9C66F58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3EE-4E9A-434C-9A1B-7F7CD05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81C6A-BAA6-4F5A-B560-AA95F7CD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BAF5-FEAA-4E55-807A-E08EDFA0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64D7-9C66-4044-AFCC-9080CF35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C63A-DB47-44EA-80A1-15A431C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A28A-6EF5-471D-9A6A-45D35762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BCB2-43EB-40CD-833F-CF61FBC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0F92-DFA0-4C98-B2DC-774E4B5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1F40-A3F0-45EC-9B99-DC510B3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F3AD-38C8-458B-905E-CF1FA9D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C242E-F44F-4672-86AC-69E2C33D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26D-8BE2-4D00-947F-92D7981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2D44-9E2D-4930-94F5-85BF1D5E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EDA4-A652-4C2E-9D6A-BABA5394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D322-CBCC-4F41-A4E4-4365362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2531-6F40-40D2-BCA5-AAFEB6D9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8D16-F131-420D-B81E-7690A62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2270-D840-4706-B111-57CDFBE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7C80-F067-41A7-9701-A3AB7E6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5054-5CD1-4AB9-AE4C-995B245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9F9F-6FBC-42C8-9D6C-23CDC9E3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C2C7-8867-499C-9998-DD3144A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8F0-35A5-40E9-BB50-B55DCFA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26AF-1A84-41B1-8612-21552C4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9FD3A-689A-4AE8-A694-14626CE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7CB1-E442-4F55-86A9-4B1A7F4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FAAC-1F5E-401D-80A3-2A503AD4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3252-22B8-4B39-9067-783FD3A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85CF-AF2A-4E6C-826A-3792B4DF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2594-4C7A-4467-AB12-5527610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6007-FBEC-4F3E-A820-AA73F60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4778-3110-45D9-AA70-6B858206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7BA8-AE96-4003-A81D-1F571CDD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18F-F38A-4E80-9E67-A844C51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A052-A501-476E-AFFF-DAF2E45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0C48B-FF28-4D4C-8F25-17745B1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05EC-E548-4547-9B08-6993CC0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C9FA7-03F0-4317-9A8A-A58903A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2C44-57EC-4A51-B439-ECE630F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ADDA-D166-4B9F-8B5B-B344C07F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33DC-8E36-4A09-97ED-B569CCB5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3DB7-DAEF-4503-A38A-86EA65252A3C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385-CBCB-4A03-8665-1B342AF1999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943-85A0-4358-8789-1617B65663F0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D47-BE67-4735-A3FF-3818A7D3BD16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E76-4739-428F-B121-090F352D2774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3AB-6DDA-4FE6-9BA0-F13854A9E4F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326-60B2-4377-B23F-60A47764C11B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024-D226-414E-9F9A-A916F781955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49C-7E2D-4D98-B6F9-6A5457A3955B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850-CB76-48DE-AC61-C19DB205691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F39-73A2-438C-9287-16A596D6DBB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C505-848C-4270-8FB9-D383CDB678D3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312-9BCC-4041-AC76-490AB6AF1F65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908F-9057-4AA3-9D47-78C12DAA18D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F00-9669-41F7-880B-39DA9BD0CE3B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F0FF-BFC0-47B0-A59E-26119BC9D394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879-2C5D-4FF9-85A2-A838C807B93A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8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Brieven en e-mai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EC2-46DE-43CF-8FD9-749B3678DDAC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stscriptum (PS): naschri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s je een laatste opmerking wilt benadru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S Zie mijn website voor meer informati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D6A-C620-4A61-AFC5-18F474E5B03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meer dan één bijlage: numm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lagen: 1 spellingsreg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2 gemaakte fo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45C4-ED4B-48DD-8499-A422EF88FDA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1328760" y="1700280"/>
            <a:ext cx="6486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kelijke to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de toon beleefd en rusti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ldere en ondubbelzinnige inhou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bruik zo min mogelijk 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andel alleen hoofdza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voudig taalgebrui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mijd moeilijke woorden en lange zinn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z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rekening met voorkennis lez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336-7606-4793-8A6C-F29AAA7D64E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dresse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ul de e-mailadressen van geadresseerden in bij ‘aan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een kopie via ‘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onzichtbaar een kopie via ‘b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zend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rg voor een serieus e-mailadr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hef, inhoud en onderteken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ijn hetzelfde als bij een zakelijk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l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bestanden een duidelijke naa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F73-7D19-429F-A58A-E566C8675BB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3020-EC56-4E56-817E-1E32AC65DEF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5" name="Groep 1"/>
          <p:cNvGrpSpPr/>
          <p:nvPr/>
        </p:nvGrpSpPr>
        <p:grpSpPr>
          <a:xfrm>
            <a:off x="2411280" y="1341360"/>
            <a:ext cx="4327560" cy="4900320"/>
            <a:chOff x="2411280" y="1341360"/>
            <a:chExt cx="4327560" cy="4900320"/>
          </a:xfrm>
        </p:grpSpPr>
        <p:sp>
          <p:nvSpPr>
            <p:cNvPr id="386" name="Tekstvak 2"/>
            <p:cNvSpPr/>
            <p:nvPr/>
          </p:nvSpPr>
          <p:spPr>
            <a:xfrm>
              <a:off x="2411280" y="134136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1. Afzender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Tekstvak 8"/>
            <p:cNvSpPr/>
            <p:nvPr/>
          </p:nvSpPr>
          <p:spPr>
            <a:xfrm>
              <a:off x="2411280" y="1917360"/>
              <a:ext cx="270792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2. Dat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Tekstvak 9"/>
            <p:cNvSpPr/>
            <p:nvPr/>
          </p:nvSpPr>
          <p:spPr>
            <a:xfrm>
              <a:off x="2411280" y="227772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3. Adress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Tekstvak 10"/>
            <p:cNvSpPr/>
            <p:nvPr/>
          </p:nvSpPr>
          <p:spPr>
            <a:xfrm>
              <a:off x="2411280" y="283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4. Onderwer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Tekstvak 11"/>
            <p:cNvSpPr/>
            <p:nvPr/>
          </p:nvSpPr>
          <p:spPr>
            <a:xfrm>
              <a:off x="2411280" y="319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5. Aanhef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Tekstvak 12"/>
            <p:cNvSpPr/>
            <p:nvPr/>
          </p:nvSpPr>
          <p:spPr>
            <a:xfrm>
              <a:off x="2411280" y="3557520"/>
              <a:ext cx="4327560" cy="158580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6. Briefinhoud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Tekstvak 13"/>
            <p:cNvSpPr/>
            <p:nvPr/>
          </p:nvSpPr>
          <p:spPr>
            <a:xfrm>
              <a:off x="2411280" y="520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7. Onderteken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Tekstvak 14"/>
            <p:cNvSpPr/>
            <p:nvPr/>
          </p:nvSpPr>
          <p:spPr>
            <a:xfrm>
              <a:off x="2411280" y="556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8. P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Tekstvak 15"/>
            <p:cNvSpPr/>
            <p:nvPr/>
          </p:nvSpPr>
          <p:spPr>
            <a:xfrm>
              <a:off x="2411280" y="593460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9. Bijlage(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176-0D6D-4AB8-8639-48EDCA61014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ciel Groenewoud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laverpas 156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EN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groenewoud@gmail.com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06-9371047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xi Actie BV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ogistiek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9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294 AA Vij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naa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t hoofdlet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atu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ag en jaar in cijfers, maand in lett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tussen plaats en datum een kom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de datering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ruten, 16 september 201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D49F-6286-4472-BA1F-7BB5591A1C4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hr. S.P. van Hols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indelaan 8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282 XP Loosdrec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meente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urgerzak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.a.v. mw. L.J.A. Zwar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8224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KL Dr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C7C-9696-4CB0-A571-6713D40CAC0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houd van de brief in ee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‘Betreft:’ of ‘Onderwerp:’ erv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het onderwerp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nderwerp: spelfouten in documen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D20-54E7-4817-A641-64EFAABF1BD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egroeting in een brie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ndig met een komm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achte heer Zwart,/Geachte mevrouw Zwar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D275-1F0D-4472-8CA6-32B0D795B32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leid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de reden voor het schrijven van d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ddenstu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meer informatie over het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preek één deelonderwerp per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aan wat je van de lezer verwacht of vat de boodschap sam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A188-A7F5-4E10-A627-41EBE475D8A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inhoud 8"/>
          <p:cNvSpPr/>
          <p:nvPr/>
        </p:nvSpPr>
        <p:spPr>
          <a:xfrm>
            <a:off x="4427640" y="1484280"/>
            <a:ext cx="4403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iebedrijf Schrij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e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81040"/>
            <a:ext cx="41860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34E-92EA-458F-8624-306453147FF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826920" y="3192480"/>
            <a:ext cx="2592720" cy="117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4859280" y="3625920"/>
            <a:ext cx="25923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4-09T11:10:18Z</dcterms:modified>
  <cp:revision>145</cp:revision>
  <dc:subject/>
  <dc:title>Sociaal-culturele dimensie Thema 1: Cultuur en identiteit</dc:title>
</cp:coreProperties>
</file>