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7774-C427-498B-94B2-2714725D0B34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7A20-67D2-4FF1-A728-9533D2CF9AE2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F7EE-AC79-4D80-8972-8F1D7984950E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5878-8956-4C51-B459-E4F68176E317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507A-0B5A-4B28-9E10-CEC7B9B4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5420-616F-4297-9FEF-2E79E5B8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3F60-0C87-40F0-B2F0-71B0B2BF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09C4-3877-49E8-89CA-68A16478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6246-BB0E-44F3-AC64-5C5C4248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8D24-8C9B-4E6D-80C2-9356E6E4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9B08-E3E4-4C4C-8C4D-56DE26B6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ACCD-266E-426A-9B4A-7CDB749D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3C32-3162-4A46-AC8C-F0551AA8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726D-FCF7-465E-B191-344B7E30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7215-BD15-4065-9271-FDAC0376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E3C5-58E6-4B23-B496-3DEBDEFD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618B-6DB6-4EC6-8BF8-B9706571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49C1-7312-4AFD-928A-6D45AACC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6419-96DD-46DA-8632-8FAD79B7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91F6-988A-4333-9773-B431D3B9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6800-C6B4-4239-8B8E-DCF62B407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0A6B3-C459-4CC1-86A2-789A0D19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16FB3-F03C-4A6D-85F4-F11AF892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49699-3A3C-418D-8E88-5D34A029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D9722-7D5B-4CD8-8469-F5BA0B3C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6494F-474E-4CD1-ACF3-4C67D943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94CE-D41A-4386-8768-6C037B5A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63BE4-75AE-434F-8429-BB8FD57B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DE0D0-0B8C-42B3-ADC7-506AA0C8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EBEE1-6A00-4FC4-AEF3-BC64F66B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09048-5DD9-44C8-8743-97DA79EA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42AF9-D0FD-49FD-811F-CEE3552C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E867C-C108-49EB-947D-D967C419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5BDD8-E925-42E2-80BE-3DA2F64B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0AEFC-C620-4F13-8083-60E9522D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BC03C-2C9C-49FB-B93D-1300265F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E6DB3-437F-482A-A032-106EA622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235D-0273-41BA-8611-47BAC91A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1A7AA-E508-436F-A56B-53169CE3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02664-AF5B-4C7B-9D47-5F6F9F71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343EB-287D-49AB-9036-A193CAED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7B93A-FC7C-45D2-BB08-59BA621E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6874A-7A67-4645-A4E3-8646EC37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D32EC-0157-4E6D-BB65-4908148A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1D005-C8FA-4212-A1ED-3A646DE7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47FB7-FE29-44BD-809B-8B585847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B7E89-268A-4E7A-982B-A36F9E9B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A7276-2DF5-48EE-9807-FBBBB440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C8DC-3204-4815-A176-17FE1A4A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B2A64-9EBE-4243-8E92-8294A136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24EBF-B9F0-4773-AFEE-3BD376F8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8791D-2913-485E-8F03-AF8C2C7E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23545-226D-44FD-99A0-BDA202C4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3CB20-A19D-4583-9CC2-9E74248C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E32D5-E6A9-4894-8455-6AE9BB17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9769F-3B75-4244-8DFA-F3F9B17A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14185-55A7-4D05-8BED-D48446AE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8DEB7-7501-404D-B252-6680AAE7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EEC09-3DFB-46D5-9274-4F43E713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D0D-0CBB-4995-9216-BA92A707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10537-474B-4745-A92F-32059C18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81403-CEF1-442B-BD49-6DA166513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02687-10BB-4F57-A50B-689639B8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428F2-3B8C-40B3-BA1C-D0FCB81F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16688-680B-4EF8-B94F-7DA2ADD5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5FEDD-FBC5-4751-90BC-10A338D2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9B254-0B09-40C5-AF0B-5C310049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995E7-C98D-4F49-A4DF-2BE780AF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898BC-69B7-4F5B-BA80-44C7C4E1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2BED2-AA13-4AD8-838C-9437641A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9EF2-43FC-43E0-9210-345C488D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69336-427F-41D3-AF8B-BA3F9DAB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73ABB-1FB3-41F5-9369-96B1EAB3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FAF39-747D-41FF-9FF3-54AEC59A1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911C9-6912-4EF9-A30C-2C36A8EC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AF54F-3630-44C5-A7E8-D5DD533E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8113C-291F-4723-9D0C-E8BA9671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3B39C-384E-45AC-9B18-213C2567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0EE7A-F680-4BD0-98F1-38C13FE0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34CD8-4E66-465F-B44B-6797FC8C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81D88-EEBE-4C2D-8E45-1EE661CC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B4F6-181F-4AD9-8992-52546C87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E6476-D8FC-4EA2-AD93-35C33616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419D2-849B-4A9B-A019-8620C70E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0FDF1-DB85-4484-BD0F-39022E85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950AF-D7FB-4FEE-847A-8770F930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C7FED-A196-4136-8BF7-C06A7151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E0C0B-EDDA-4CCD-9940-7C29E417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5EBB6-D8AA-418E-BBDE-AE639E16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BB131-8A23-4EBE-8D2C-ECD6F4F1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2ED24-0933-4D4C-BD0C-5FD90B36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CA9B6-42D1-4D2F-9703-D00D5252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191C-F114-413D-92EE-C2F84127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37669-D32B-4273-AB94-18722BBF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ACDC7-0577-464F-A11A-44C4ED80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E7CF2-663A-4726-9C70-8A0C1D15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09D06-E16C-4FD1-98B5-1A0FE7E5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79BA0-A879-4AAD-8D5C-18CA9001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05C9A-D1E6-40F2-A46B-A6CCE3F7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D1C02-715E-4E26-965F-D908BDD3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0BC7-7C0A-4DF7-A55B-CB65AF5145B6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D828-57E3-41B6-8382-B9195A8A443A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81E5-5E8F-4D23-A82B-F218ACE6EC66}" type="datetime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C24E-B74D-4B08-9CA5-C2528E2FB6FD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8B5C-75B3-4C75-BB9E-BD468D92F2BA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3F97-54E8-4654-83F8-BA311B8672DE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B2B7-2E0B-4169-9C04-ADB8CB32A56F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5C0C-42D4-4453-BC44-D2324CE09AFA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1448-7C87-4AEC-823A-157E9270D128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692A-D1C0-4276-BCE2-0E20024F9A44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CB68-98F2-4C4E-B77C-096117158758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B41F-467C-4AAC-8537-AE6CE73FA49A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8647-DC19-4D2F-B290-F67A2A201704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B31E-3ED9-4C42-92D8-799889956260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56B0-220E-431E-886E-6C62F731B13A}" type="datetime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971F-A9E2-41EB-8D83-6B4904629553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7D05-6370-4830-B5F3-4704CF6DBD6E}" type="slidenum">
              <a:rPr b="0" lang="nl-NL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4" descr=""/>
          <p:cNvPicPr/>
          <p:nvPr/>
        </p:nvPicPr>
        <p:blipFill>
          <a:blip r:embed="rId1"/>
          <a:stretch/>
        </p:blipFill>
        <p:spPr>
          <a:xfrm>
            <a:off x="689040" y="762120"/>
            <a:ext cx="7772400" cy="1805040"/>
          </a:xfrm>
          <a:prstGeom prst="rect">
            <a:avLst/>
          </a:prstGeom>
          <a:ln w="0">
            <a:noFill/>
          </a:ln>
        </p:spPr>
      </p:pic>
      <p:sp>
        <p:nvSpPr>
          <p:cNvPr id="379" name="Ondertitel 2"/>
          <p:cNvSpPr/>
          <p:nvPr/>
        </p:nvSpPr>
        <p:spPr>
          <a:xfrm>
            <a:off x="684360" y="3213000"/>
            <a:ext cx="7772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Hoofdstuk 2</a:t>
            </a:r>
            <a:br>
              <a:rPr sz="4100"/>
            </a:br>
            <a:r>
              <a:rPr b="1" lang="nl-NL" sz="4100" spc="-1" strike="noStrike">
                <a:solidFill>
                  <a:srgbClr val="464646"/>
                </a:solidFill>
                <a:latin typeface="Lucida Sans Unicode"/>
              </a:rPr>
              <a:t>Notulen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EF0B-1427-47B3-B323-959113CABE7D}" type="slidenum">
              <a:rPr b="0" lang="nl-NL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Picture 2" descr="C:\Users\Jorrit\Pictures\Deviant\deviant_logo.png"/>
          <p:cNvPicPr/>
          <p:nvPr/>
        </p:nvPicPr>
        <p:blipFill>
          <a:blip r:embed="rId2"/>
          <a:stretch/>
        </p:blipFill>
        <p:spPr>
          <a:xfrm>
            <a:off x="7236000" y="404640"/>
            <a:ext cx="1428480" cy="514440"/>
          </a:xfrm>
          <a:prstGeom prst="rect">
            <a:avLst/>
          </a:prstGeom>
          <a:ln w="0">
            <a:noFill/>
          </a:ln>
        </p:spPr>
      </p:pic>
      <p:pic>
        <p:nvPicPr>
          <p:cNvPr id="382" name="Afbeelding 2" descr=""/>
          <p:cNvPicPr/>
          <p:nvPr/>
        </p:nvPicPr>
        <p:blipFill>
          <a:blip r:embed="rId3"/>
          <a:stretch/>
        </p:blipFill>
        <p:spPr>
          <a:xfrm>
            <a:off x="611280" y="836640"/>
            <a:ext cx="51847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otulist: degene die de notulen maak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otulen: het verslag van een vergader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oorten notul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oordelijk verslag: je schrijft de vergadering woord voor woord ui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amenvattend verslag: je geeft per agendapunt een samenvattin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sluiten- en actielijst: je noteert alleen besluiten en actiepunt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5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D7CF-E265-4EBD-887E-A598A909062A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e aantekeningen vormen de basis voor de notu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ps voor het maken van aantekenin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nk aan het soort notul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bruik steekwoord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oteer alleen de hoofdzaken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8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2BB3-1FF9-44D6-95BB-AC525341E011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rk je aantekeningen meteen na de vergadering u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chrijf boven de notul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m welke vergadering het gaat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datum van de vergadering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aan- en afwezig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ud de volgorde van de vergadering a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org ervoor dat de notulen begrijpelijk zijn voor mensen die afwezig war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1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365A-9869-4DAA-9503-D4D1AE20E129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0:11:29Z</dcterms:created>
  <dc:creator>Jan</dc:creator>
  <dc:description/>
  <dc:language>en-US</dc:language>
  <cp:lastModifiedBy>Veen, Joke van der</cp:lastModifiedBy>
  <dcterms:modified xsi:type="dcterms:W3CDTF">2017-03-02T14:07:20Z</dcterms:modified>
  <cp:revision>89</cp:revision>
  <dc:subject/>
  <dc:title>Sociaal-culturele dimensie Thema 1: Cultuur en identiteit</dc:title>
</cp:coreProperties>
</file>