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2FD6-C302-46A0-B165-73FD9CF7BA9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AD9-3B14-491A-B1E1-460A09CD368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A70-59E7-43EB-A344-59B36B6D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D13-0C17-487A-8742-7A6D9959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9A6-3814-4172-BFCA-93BBF57E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64F-8B62-4FD5-A8CA-F74B92D2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779D-DA5A-4149-8F14-F75A5289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1AB4-FBFF-4445-BA45-EEEEFCA4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0EEF-4F10-4967-9539-03DF01DB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C6FC-B953-411C-812C-AFE2C8A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2E38-6149-4FCE-B852-DEBB6A3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B980-E686-47B6-B2BA-ADF0116D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E361-0489-42C6-8B2F-BF4CC2E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EDC-574C-4766-9B09-2B38A87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9AC2-5B48-4457-BD0E-699519C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0BD0-36ED-4426-BD8B-3A72D3F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C73-6A39-4080-B8B7-BE5A2729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484B-2A00-4081-8A6E-157EC25D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FFD9-6E44-4BC6-B111-71947B09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287C-5F2D-402F-B2C0-57216163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D3A5-B6F5-4F7C-B699-E859526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8CE5-69AA-459A-B3F3-C9099E58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8182-68EC-48C4-B1D9-ECC09C7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29CF-263F-441D-80DE-386D710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380-AAB7-459B-AFC3-91DDE960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44D1-CF60-4429-A133-41EFDCDF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B776-917F-4270-92CB-9087B4D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EE9E-E51D-44A1-B65C-44562A4C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52C2-1E55-4583-A71E-0C5E895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3D99-EA35-46CF-A39A-E69D8F77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E4FC-BF1F-4055-A5F4-C3461623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8B41-1D89-4F01-B352-86FDF621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8764-9B18-40CF-86AD-42E75AA2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4456-B5BC-447F-9F42-C1810F0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7077-916F-4B9D-8FA1-274CAC4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43A-9EBA-49AA-B87A-369E1F6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B3D7-F0DD-4687-951F-52120EEE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CA24-D2B8-4A43-93AB-59BFCE55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7953-89E3-4994-914C-3E9EA20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72D7-A766-4119-9C4C-21F43D1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A998-6ADB-4AF7-8F61-F038A3F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8C16-0F7C-460A-A0A5-072F76B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5F26-9E93-4D9E-B9A1-1C935F7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82E8-0758-4DAA-84F5-E0D9FF09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FB8F-2618-4730-985E-40718AC4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CC0D7-8978-4C1D-B00B-DB6BF1F7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107-170B-471A-A389-2C8CFEB4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2E1C-8ECD-45F5-9A29-E1E602E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DC61-3ED4-49A1-98A5-6A81A2F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1A0A-A2B2-428E-8E6B-41519FF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8D99-4C8B-467E-98D2-E61B4248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2061-D1A2-421B-9F24-B9685073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CCC2-BEDD-4F5F-9DFE-BAD11723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2EB28-EE1F-4926-8A07-79FD57F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9ACF-41CE-4F3E-9FF8-E4E9F30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B88B-CFD6-4665-9892-0D7A8A2E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12CE-AD3D-46FF-B4BD-5011E03D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BF5-ED77-4CA0-B4D0-876782DB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E807-682C-4AF6-BDC8-6B6BB5F1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D1FE-7081-4E1D-8F26-F9EC9000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6BCE-2419-4940-8831-760A415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B45A-4B38-408B-940F-C1A0850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120B8-4AF6-448E-9357-0C0F2158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0FB2-222A-4A24-85B8-F9451C9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4AF71-64E9-4C20-A5DD-F31FC5A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B09F-42C3-4B10-8BAD-70D83504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22C2-D46A-4B5C-9EC4-A7BE93FD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4B53-CDE0-43E0-B96B-87BB44F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F3A-2B56-4E01-A376-E3B610E1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0BA81-9E22-4658-9769-ABE3325B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A14E-C3EB-446B-9EF6-02E460E9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7279-2736-443C-A58D-295B9230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AB33-DDF0-439E-BF6C-24AD9E2B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446A-6399-49DE-A530-58720FD3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39EBB-A731-43BC-ADBD-2E5A7C17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D9C0-152E-4018-BA81-2365419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ADAFA-A6DA-4F63-A61D-82BF9630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E2F5-DA51-4E6C-89C0-2D8B17E6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7D0F-1A22-407C-B960-61E8257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ABE-2654-4ED2-B0BC-DC4A256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A7E18-4B63-4C38-ADCF-DBCD9BE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6C93-C0A3-4E07-83E6-5EB062E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E4BA5-306D-478C-86D5-0EE27E00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B7A9-FB96-4C05-8FCE-20DC375E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C5D4-E5E0-4383-8DCE-7B9840ED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2DC8F-E08C-4B17-9E86-7BF5395E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7228C-0358-4FD4-A9B1-A477E20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E7A4-577C-4D7E-B56E-637BF4FB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3BBC-C6E5-4444-A3C6-E392B9DB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0124B-1C5C-434C-BB02-4343E62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361-801B-4E3F-BFDF-01468C3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DD66-EC96-4D53-A90C-79D9A510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3D13-2B23-4DFC-BC2D-2AB10C3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09E39-50A7-40B0-A02B-82355D8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9631-B4E1-4B83-BAC6-50754CDE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4F337-6CB0-4ADB-8526-2CB0E0B7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55E36-3029-4A8A-AFC0-51A618B1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808F-797E-4D41-AAB8-5ABA416E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6DF3-B3E3-42E2-8A42-7850ADC1870F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221B-3AC6-4AA7-B7D2-1AD4A0115D25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2CEB-9E02-42D1-8BA4-2E704B4684B7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CE81-737F-43DB-A892-BC78212781C1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D5A-ACF4-45E6-8389-6DBC0BCF23F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EE68-E9FE-40FA-854B-678DE342527D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B572-CE1A-4820-B35B-506E450C29C1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07FE-5F58-448F-94FA-6922CEAE86F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0E49-C8A0-4155-8DF4-F0BDD3078D97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24D5-5296-41D1-AF63-56188FD88AC7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5940-B519-4127-942D-533FF053B44C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35C-C59D-4484-8A3A-5724F181CB24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6616-4BC7-4E7A-8239-A6C9F79083B9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69D7-2187-4641-AF6E-DAC64BCCDAB7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C967-59A0-40FA-B7C0-CB281FF9B76F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440-998E-4836-BDE4-65B4823F0DF4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389E-3874-414A-B5A2-AE851653268F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10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Vergadere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A640-4742-497B-BE56-7566ACA410BE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de voorbereid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int de agend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nk na over de agendapun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ees de notulen van de vorige vergader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FF6-0828-4B0F-9784-6749E65C26D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ste volgor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Op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slag vorige vergader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dedelingen en ingekomen/uitgegane stukk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houdelijke agendapun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.v.t.t.k. (wat verder ter tafel kom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Rondvraa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fsluit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7B78-A005-4EB1-8397-7A560367FC7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genda m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adering openen en slui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tulist aanwijz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gendapunten inleiden en afslui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scussies lei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praken samenvat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jd bew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E951-193D-42E8-8A52-2063EDC9268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3-02T14:06:27Z</dcterms:modified>
  <cp:revision>174</cp:revision>
  <dc:subject/>
  <dc:title>Sociaal-culturele dimensie Thema 1: Cultuur en identiteit</dc:title>
</cp:coreProperties>
</file>