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D82-FC8F-4599-A989-895EA511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CC3-CCC7-4AD8-BA01-99190E80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250-101D-4C8D-9179-B07322EF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033-93FF-4F60-8FC8-64E7E7CD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9EF2-9F6A-450D-AFAB-0144B5BF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4BC8-90B0-4D2D-B470-56EED644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9EB5-061B-4DF1-996B-6D45AEE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F5DD-3AA4-4FF3-872E-B62E5546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A1AE-5976-410C-AC8D-4C47ED40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F376-9F6A-4A13-998E-74017E96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EBD9-6DB6-4D01-A50F-94842BF4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475-2B5E-413D-AD77-A7A58B0A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472F-F868-4692-A4A1-68D439DA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FF32-394B-490C-85D4-D398FA65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0E7A-583D-4338-BDE1-38494277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FAF3-C31D-4FC2-AA77-E3B9D2A7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DC67-0057-471C-9912-05F58452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A81D-DACE-47D3-BBB7-236A9188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2DDA-516D-4935-B978-F05E71B7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19C3-AF8E-4533-9501-0F127A0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499B-E73E-4636-A3A3-F5AB044C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5625-E0F5-4987-8296-7EC3AE7D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7B1-7985-4987-9BA7-C0F02EEF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6E73-CDE6-480B-8F48-CC1413D9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28B1-142C-4E18-BEB3-D9377DCF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D541-AB67-49F8-BFC2-C71EA48D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631D-8724-4B33-8044-A6F7D0A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8C97-CB69-40A1-814A-5E2B6FD7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53FD-B5EB-401D-A0BA-1632F0D2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9FF7-646D-43C5-AAF9-AE281D77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07785-2BBD-4BC3-887C-A1822A1C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B8828-08A2-4F5A-8D86-C945D9CF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070F-1754-4154-881E-71BD1695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694-8B02-4D6B-B99D-E1439006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2C82-0AC6-4D58-86A7-A0E6F8F2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67AB5-82B4-4119-A1B8-3E09F96F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4045-9100-43A2-B129-D5692CE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4279-7E69-47CA-8EE4-A49B37C0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2BD5-DD8D-442D-84D0-AC83CBFB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F8E47-01F5-47B1-8241-CE278834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588A-2E6E-473B-A676-1577634B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A126-4CE9-40DB-B108-BE5C1EC4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8A95-BFAF-4E01-B37B-6E2090E5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9EC28-3507-4DDF-A090-5389CECC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292-098D-4B62-8FBA-89D084A4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9CF5-329C-4839-A48F-D81FBFCC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384B-82FC-4204-875E-DA8D0F06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4A1F8-B116-46A1-B8EB-C0FBCA92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59B57-4699-4868-9EA0-ED277E74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7A2B1-4029-488F-AA8F-818C18E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6927-E020-4C5F-8C9D-FB4066B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8058D-43CB-42DA-810E-604D71D6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6AC36-8D8D-49DE-985F-D56B45E0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A654-A333-469D-89EF-F753BE8B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CEB3-29F2-41C6-89ED-3782CD21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94C-05E7-42A2-82EB-F177A123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87548-0BF9-4AB5-831C-1169751E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66F8C-DA9B-41DD-89DB-1B0F18F0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F6F9-8CCE-42EF-9E5F-64138A94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5582-19D1-4F31-8F03-084BEBFF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928E9-73A1-4FE3-A5E7-7ED7350A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65A0-B16C-427C-909D-5A9D76B4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B54E-E9D3-4F7B-A22D-8E8E81EB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E427-5A76-4EBF-A05B-25FC1AD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5D6A-ED45-4807-8AA3-030B5F4F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1B2C9-F224-43E3-9B73-D78B027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F7A-386C-4104-A8C7-8AF4AA18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FEF03-EE1B-47C7-8719-DF356B02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0FA9A-C2C5-43A5-8050-38C9EB45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BADAD-3EB4-4D64-81A8-DA217A08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5BE3-994B-4B2F-B94E-6E00C2BF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D1C09-D7E1-4FE4-A4E0-E9A12C42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C4EB9-1CCE-44C4-AE5C-A3506643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460D9-D716-4A8E-A1CA-9AD062BB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A7490-5DCB-43DC-86E5-28B42E7A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0BC7-0A9E-4D9B-A80F-381DC07D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F6D9E-5756-46EF-AEBA-B18952FA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792-AA2B-45BE-B2E1-EE8DF53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0D3E5-4A16-4F9C-A16F-625CA06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9D87D-A5DA-4846-8EA7-86C3DF25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D194E-3982-48FF-9514-83770397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9F0D6-C320-43F1-8563-CC124588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61D52-D204-4906-8C59-796E43D3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AE99E-6B54-4BBE-8CE6-67E3A4B4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8246E-16E1-4BC1-8C09-6510FA37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286B-A016-4089-8325-EBD4FC04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C44DB-075C-4261-8A76-A13B5695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09AD-6789-4833-BB63-DB77B439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5FE-FCCE-4E02-9E96-0C04A91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9AFBF-EC1A-4F89-89E8-1810959A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33B02-27A0-4953-BA03-B7A5DF96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406BB-62FF-4229-BFC9-98D7420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DEE50-21FB-4563-B844-CA9D3F7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4B0F-E10E-4DC2-884A-4D9F070C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F8F0A-5BD5-432A-AEB8-6F572A4B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C663-7484-4C64-9022-E3F76444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2245-0D59-4BAD-AF77-E1958512B1C6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7642-05E3-4AE6-92E2-1724B8CB1693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F04D-598C-480B-91EA-15FADDA72158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C454-BFD6-49F7-AE98-59A4C1EBE98A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F200-1750-4E92-825F-2CEC853D33B0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30DA-1CFF-47B1-A1FA-8C59431E5B3D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6C25-EA5A-47C0-842C-47AB546CBE86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8B0A-F9E9-4343-863A-1399CEB15AF0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8C1E-E90E-4175-8AC1-66E19EC8A247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82D6-A1EF-4480-8E74-49EA63C2AC9C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51A1-0CD6-4EDA-9D33-74CE15ED5D66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3DAD-6221-4DE3-AD9C-7B3EE1F2ED51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B472-AEE4-4DED-BF85-88E60569F152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B9ED-D7EC-440E-BA3A-BF2BBA4005ED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99D-BB33-420E-A741-ADB3766669B2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EA6D-10FF-4437-8DE4-49151FE87787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AEFB-BB1C-4662-869C-83CBA3647B3A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2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4: 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Int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AFEB-DCB3-4EB0-B45A-B6EE2C7B1278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75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Op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vraagwoord (5 W’s en 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el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 informatie dan gesloten vraa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en moeilijker te verwerken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4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Gebruik de LSD-methode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L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luister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samenvatt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door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el 3" descr=""/>
          <p:cNvPicPr/>
          <p:nvPr/>
        </p:nvPicPr>
        <p:blipFill>
          <a:blip r:embed="rId1"/>
          <a:stretch/>
        </p:blipFill>
        <p:spPr>
          <a:xfrm>
            <a:off x="469800" y="182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Lees deze vraag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Lucida Sans Unicode"/>
              </a:rPr>
              <a:t>Dus als ik het goed begrijp, wordt het arbeidscontract vandaag verstuurd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is het doel van deze vraag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Is dit een open of een gesloten vraag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voor type vraag is he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jdelijke aanduiding voor voettekst 1" descr=""/>
          <p:cNvPicPr/>
          <p:nvPr/>
        </p:nvPicPr>
        <p:blipFill>
          <a:blip r:embed="rId2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  <p:sp>
        <p:nvSpPr>
          <p:cNvPr id="409" name="Rechthoek 1"/>
          <p:cNvSpPr/>
          <p:nvPr/>
        </p:nvSpPr>
        <p:spPr>
          <a:xfrm>
            <a:off x="826920" y="1916280"/>
            <a:ext cx="7490160" cy="1008000"/>
          </a:xfrm>
          <a:prstGeom prst="rect">
            <a:avLst/>
          </a:prstGeom>
          <a:noFill/>
          <a:ln w="550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is na te gaan of de vraagsteller het goed heeft begrep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gesloten 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, want je kan er met ‘ja’, of ‘nee’, op antwoord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type vraag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controle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gges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mpertinent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olgvraag (doorvraag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ol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der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flec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keuz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554-2EEA-4A3D-A421-DA56CD9F74BF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twoord zit in d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ntrouwe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U heeft zeker geen vertrouwen in de politi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B4D2-5666-4263-A459-612217C91E0F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uta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Klopt het dat uw vrouw bij u weg wil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7EEF-E1EE-4643-93C3-AFD10162159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vra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actie op een antwoord van de geïnterview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bedoelt u daarme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AE46-FFDD-49ED-9CE3-F190DF3E8D60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te controleren of je de geïnterviewde goed hebt begre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Begrijp ik het goed dat …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241C-144B-4537-ADF6-C861C05AD132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als reactie op een ander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ak kritis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arom wilt u dat van me we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7B49-FCE9-4E7A-B9A1-94FD34D42290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bruik beleefde taal en pas je taalgebruik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aat elkaar uitpra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eem op gepaste wijze de beu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 bij het onderwerp, begin niet zomaar ergens anders o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a in op wat de gesprekspartner zeg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414E-6FE5-4CBF-9110-FD680CFAC33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iemand na te laten denken over zijn eigen situ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denkt u dat er van u verwacht word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8C86-66DA-4481-9047-D43C6FBAD01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met gegeven antwoordopt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Hoe tevreden bent u met onze diens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B906-BF7E-4728-851B-B968F5B12D2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terview: vraaggesprek tussen interviewer (de vragensteller) en geïnterviewde (degene die de vragen beantwoord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4E95-9422-495C-861D-491097345A1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en van do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persoon: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ningen peil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A7E0-CE7A-4E9D-97C4-195BB4A2AB6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je van tevoren weet, hoe beter je interview verloop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8AA9-5906-4B74-8476-46F1868FFBB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chrijf je vragen van tevoren 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B56F-3A0B-4C58-A450-36468F9BF32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ps voor een goed inter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reek af op een rustige ple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tel het doel van het interview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ister goed en vraag do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ntroleer of je vraag goed is begrep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ak een opname of aanteken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dank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A145-E4C6-452F-ACE8-7D1C6F9C0DC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perkte antwoordmogelijkhe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ecifieke informati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ie, wat, waar, waarom, hoe, wanneer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uitgebreid antwoo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er ruimte voor geïnterview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AF14-E70F-4A3E-B8A4-D43CC69492E5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Geslot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werkwoord (Bent u met de auto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buClr>
                <a:srgbClr val="2da2b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 is ja of ne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len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kan op 1 manier uitgelegd wor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stuurt het gesprek een richting o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je hoort alleen wat je hebt gevraag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7-02-28T09:36:25Z</dcterms:modified>
  <cp:revision>165</cp:revision>
  <dc:subject/>
  <dc:title>Sociaal-culturele dimensie Thema 1: Cultuur en identiteit</dc:title>
</cp:coreProperties>
</file>