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9AE91-E59B-4464-9292-610F1CB320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E9BD1-E87C-41D2-8B37-2596156D81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0FF05-A059-4085-B635-CF7729AD43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A6870-6CA3-4617-89BF-349E0984A9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0D7BA-7CC4-407E-8F8B-352D1A7156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F1124-953E-4B40-937E-1411D1D53E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C984-9A79-49F1-82D4-DE555DD89D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8DE00-E75B-45B6-A212-584C7CB761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D7C10-C6DC-4067-8B79-8A4AC063A0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30887-99CE-45F4-BDD3-8B47208B74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CBCDE-9CB3-4D70-A987-CA4632CB18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D45CB-D420-4884-B019-084C5F5872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2D392-5F9A-4DF9-95D1-2E54D55A7E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D1F4-60C1-4CC2-9AC1-5B00BA8737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634-B819-40CC-9E63-F0840726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0F9-260F-4E59-9961-CDA28F4C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A78-A0D2-45A6-B862-803E0AFD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B09-A657-4818-B03E-BCCC1AE4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0F9-5CC3-49E8-BFC8-ACAB6D81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690-0337-4796-95C7-3BB7246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C563-9B90-4328-8489-44319F35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691-BF9D-4508-BCC4-F874A3E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FBC-6E81-4977-BD3F-39B1DC9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231-67F9-4CFA-BF9B-46EE5525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4DDE-ABA3-41F6-9D00-C5F40F4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846-E192-4756-956B-6BF1B73F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271E-F4D6-4658-A854-C832FC9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7C9-21BF-4BDF-9DF5-47469C7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8FD-6A3A-4CE9-82D7-0B85EEF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40F3-845E-463C-9F87-33466F03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C30-FC9E-40D7-8E3F-6E1EABA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6E8E-3038-404B-8C06-F658320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764D-A5B1-41A5-96C2-873969F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9072-827B-4DEA-8807-4CAB1AE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57C2-A192-4291-A387-39E2A49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A0B6-2BE1-4AD7-B3E2-61E27EB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AD8-B864-4676-B286-10FC3673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A940-5CD8-4A8F-963D-37CBFE96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8CE4-122F-4ABD-896F-A1E603F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4211-2B40-495E-B171-56EA831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6FEE-BBBC-4378-84BE-F573399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A92E-5DA9-49D9-88C9-2193CB7C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C531-852C-4F66-8279-CC72416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BB49-8FCB-4DE6-82EF-1461D2B2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1B75-BAC9-4F1F-86A6-8112687F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4D24-C72F-4C3E-912B-34B6CA6E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662B-8C9F-4412-A316-01CEF69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019-15FF-4852-A015-F24E90F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CF73-322B-4C2D-A4D1-52F264F0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5F66-1C7D-429F-9E1A-EF4CC76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2B92-FB9D-4782-AFE7-486F21D0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D3E0-08AA-4469-A168-36E872E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031C-61FA-4ED8-8EF0-7EF47EC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37E6-CD75-4CAC-9120-29837B4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05D0-67F2-4988-BB71-CBCEB367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CD2F-54D5-4061-860A-B4059720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B601-0D50-48C1-9970-AFFCA783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2912-4211-4885-93CB-A33EBF6B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FC3-874B-4EF2-949B-7844371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E90D-43C2-491A-A834-F6EF5320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F213-A6ED-47A2-B6C8-0B9A822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8ABA-D4B6-4B57-B6E2-DAE564A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26B8-C9BE-416C-9A3A-21BBB734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04CE-110D-4D8F-A14E-512EE75D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1C13-89C7-4B4B-A728-172329E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F1CC-24A1-4894-BB5C-F0B3949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FC32B-A23F-49A2-881F-C3EE5E9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3231-204C-40FA-8D1B-B0E2D27D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5B92-CF76-4873-AF39-B4AC9FE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7EE-ED2C-44BD-BEE2-102FF1A2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4DB8-81C5-4615-885B-1159C00F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DEC62-29F0-4370-9BAC-07C25392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BCD1-18CB-419F-BAD9-4302F59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87BC-E4CA-4C52-9752-EC7DBA36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41E9-6E17-4BCB-97A0-B488D6E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F23F-F78E-4B64-A7E5-34C2F09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0D75-6F81-4E30-94AA-C0B68132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BB8F1-269D-4CF5-BE48-4354195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B8C9-1FA2-42EA-BCBD-D1BF85D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668D-6A71-421B-A731-001198AA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341-13FD-4ADA-8F71-22616B9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CE0E1-5CA7-4F71-8107-B7D5089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0609-E134-4596-8217-222A813F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86EE-6947-43A4-9307-52931D18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096D-9B44-4643-B073-DCF4635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17D5-4E53-4291-8E73-BB977A4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C22F-DC1B-4B52-BC1E-BDEF9B8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A30B-9B70-4B75-B5F4-BD57271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B4B2B-F5EA-4CFF-B28F-B51752D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F3E6-57DB-4FC0-8C80-4860487B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9C41E-053C-4D7B-9FE6-298489F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67F-F8F4-41CF-9F3F-402690B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4DC00-8532-4328-9705-BD4BAD8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AF1F-F1FC-4403-BD65-B8679EE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77BF-F6A7-463B-91D5-1D5921FD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818B-8D6B-4608-A34E-EE6BCA5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8C23-D648-42B2-BC86-A27ED4AE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6C32-9D35-48EE-9E46-CADE5425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41F1-C387-41DD-B326-72E9FAFE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0A4A-123A-400C-9927-4084117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A986-4849-4ACF-8C58-5FEC7B3B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F774-A62A-416D-BDC9-2F14CF9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5CE-0B9B-4773-808B-DC820DF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B7ED2-7ADC-40A3-BF2C-2875AF6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66326-B5F9-48A7-A548-2232FBD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AAEF-AB3C-42EB-8CD0-DB6E367B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0775-46F0-40C7-815D-9C67E64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74517-AC28-4089-ACE0-B09F4B1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3FBC7-77DC-4711-AC24-36CDA594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27B8-594E-4D59-913C-2364E9C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57127-1115-4A27-8BC8-C38D840BB74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1B7B2-7638-41EC-85E9-6FF056674DA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8ADD6-A0AD-43C0-97BD-3474EA4DB8E7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F0A28-EADD-4743-AE3E-66DD7DFCBD3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7308-8990-4AFF-B409-C53D03E1E30A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58E01-3952-4C52-AEC8-C387392EF40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9ED42-08EB-48F7-98A6-A08BE048185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C6480-6986-44AC-819B-A55414754C7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9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ottrauma’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capillaire doorlaatbaarhei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permeabiliteit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toename van 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Maessen, Joyce</cp:lastModifiedBy>
  <dcterms:modified xsi:type="dcterms:W3CDTF">2019-10-24T11:56:16Z</dcterms:modified>
  <cp:revision>24</cp:revision>
  <dc:subject/>
  <dc:title>Koude en warmtebehandeling</dc:title>
</cp:coreProperties>
</file>