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22AE9-6247-4868-996E-4058AD810E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3C571-519B-4815-9646-704B73D382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2240B-CD15-4ACE-BB43-39A75DF775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0B96A-D317-4942-9666-233D9164E9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01393-E45C-4A13-B682-8BD074D8AA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616ED-4367-4AEF-8ECE-16BB5F202B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8B086-7A56-48FF-AEDF-CFC7901496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0D6D7-EDAF-45F0-86A4-8CC5E11EEF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CCAF4-DF9E-4D5C-ABF2-BBBD8E060F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9BCE6-73F3-4169-AA47-909766CF5C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4A8F4-D9CC-4962-A16E-708DFE200EC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2F265-ECDA-4EA0-8546-F21D4677E7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A5343-E10B-4831-AB72-E45F8CF909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220A-9494-478D-B377-F91EDACFCA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4C6-7175-47E6-8432-9BD304E6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076-7EE2-4BCD-9FE4-5CE5900B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11C-2CBC-4F77-B958-7C822F24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309-E563-4063-B642-0AF54E22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194C-1CE2-4312-A43F-65BCE856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32C0-65B0-4444-868D-C97ADF2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E765-527F-4084-BF2A-B644FF6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4A18-D4B4-478F-96DC-8357F81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3CEA-6341-4D59-AEB9-06AD601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F5A-F87C-4C83-A3E1-5AF0F28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9578-8E71-4F03-A1ED-4BC0504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1C8-9C6B-49BA-8F5B-9F5461F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0E8C-5527-4BB7-A957-BED407B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E991-5DD5-4282-9A8C-E6E77D9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FE7-3163-4BD2-8A47-1FF93078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3D3C-2838-474B-802F-F262EE24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9423-EF4D-4203-909E-0AD9DA6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4B3E-994D-4EA8-B768-A7D29DB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F44A-8D6C-4967-B0A7-026CBE6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1C7C-3704-40FA-B53C-2A80AB5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1944-90EC-426E-92BF-4E88B9DE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E401-A9F8-4C64-BE9E-9D28AD37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C34-BFC6-46FE-9FE9-6884958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FCDB-D5CA-45A8-9CDE-35981BF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A8F2-D97C-446A-BD10-A2306A7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B5ED-391E-411F-8C3B-C5BFFD0F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9C5A-CA4E-4F87-B52D-EADB4C0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B9A3-0756-4D5C-8A8D-3CB3A4B1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F6E11-1C54-4614-9379-C3C23BE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863B-67B3-4592-91E8-8B8BB875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3428-A860-47EE-8C35-725DFBEE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FE52-DB67-4383-9E39-DBE23E7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DAE2-6959-4C3D-A5BF-381865F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127-E38C-4521-850C-8D169133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39D9-A0E0-4A3D-8025-A786912A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F2BD-5110-46E3-B73A-4CE8959B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F8B2-D897-441D-9CEC-F7BAF28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5DE4-D269-4900-8518-20EB578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DA07-0C2C-4405-B0C3-1521C4F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6217-1719-4A1F-B0D2-AD96201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C4F7-34E6-4ACC-86C2-70BADAA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D4D6-57CE-4D2B-A660-3FC774B9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C9F1-A1F7-4AD5-BE38-648AAC6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D0BD-AA8D-4D9B-8A77-F291DDAC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5F3-DA12-4C6F-AE11-E8A80E1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5DB0F-953E-47F4-A412-9A03BE3D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12D4-932B-4661-882B-F4E1F38B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6687-2F39-407F-9A8E-299D6B0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64C8-33AD-478B-B1AE-C79CEA89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C438-04F1-446B-8C11-02D96DB0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551C-BA2B-44DF-BE6E-014F8A2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04EB-47F4-4079-8198-AFC155D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1332-2D77-4585-9622-0BC6DB90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7334-78B1-4F90-A94F-7593454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A12C-7F3C-46D2-8733-23D71D08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D78-0166-46A2-A3B4-C2C6E14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2668-BE28-4080-9946-68BD860B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F121E-DF75-4C8F-B603-4157A15C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9095-9DD0-4111-8775-5414B577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51D4-9C64-4039-BA12-AE24722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DB73D-1A4D-440E-9524-E5C9679C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806EE-5174-49CD-BEA9-DE26B42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7009-B034-40ED-8C4C-D1ABB7FF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3A8A-D0DD-47FF-98AB-1F059B5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DB95-B804-41DA-8A13-3342527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D08A-FB0D-415B-967C-F464758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A7C-FD59-4CF6-8C59-1BC9C8EC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B1514-D972-4EE2-9154-9914409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6504-E206-4AFF-8DF0-79794047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BB00-CC37-4AC6-B2DB-14ED73EB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1DF2A-4E21-4513-9BCE-90A43E8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A6DC4-94E3-4E67-9FB2-8075FEAB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8555-D00E-4B0C-9D77-4D531B3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030CA-99D6-4E93-ABE6-A2B2C02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E5DB-D67F-493B-A78D-97BB74D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E3DE-F447-4694-9BBE-79AFBCE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5339A-EB0A-4187-86DC-0A4B87B5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AB1-C586-4DE6-BC7B-F73706D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FAB71-CA03-4479-B32E-8F5A494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18AD-85B5-42B2-BECB-E11A55E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A848-D9E0-49CC-A0C6-E475852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C982-1938-489A-8866-832C6590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52960-9700-41B6-8DA4-A97ABDAC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43765-9CBA-46FF-89E2-6AB16F65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CE2B3-70AF-406C-9B23-5107E1DB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36DD-5367-4FB7-AA75-8B47B46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69D1-4508-41F6-B2DE-86F79432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1CE6-F1F7-4B79-A608-86AFBE11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88E-96DA-42CD-AAAA-38DEC0D5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F0ED-49EE-4635-9516-27060F4F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5FD5-9563-4475-919E-E33F93B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50D9D-B3B8-484A-9941-A053B01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08FE-5C11-4F4C-9880-5A06686B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5B58-9F29-4E49-A05D-049604FE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C831D-12D9-4388-A7F3-9A01122F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B480-734A-4B80-9063-B7C0193D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7C0AB-8306-41FD-9708-49010A6CC4F7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F0282-49E4-455C-8773-0CB2A005CD1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F1B1A-5B63-4F68-B5D8-2497AD9CAEA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24927-3FA1-4557-804C-6493CDBE421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B5B8F-B234-44B4-97AC-00855F9C2CB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1A8EC-EA5F-4621-9463-8444246507F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EC014-3361-40B2-B8DC-1B16ECA7C3CA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D0A44-E320-462D-B32D-45DF4EA942CA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9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ottrauma’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189720" indent="-189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capillaire doorlaatbaarhei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permeabiliteit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e toename van de viscositeit van het bloe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Maessen, Joyce</cp:lastModifiedBy>
  <dcterms:modified xsi:type="dcterms:W3CDTF">2019-10-24T11:56:16Z</dcterms:modified>
  <cp:revision>24</cp:revision>
  <dc:subject/>
  <dc:title>Koude en warmtebehandeling</dc:title>
</cp:coreProperties>
</file>