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A6C3E-FB8C-47DA-AE13-1DA3B2098B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BDFE0-0896-4EBD-8AA1-3B83C7477B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F7364-F3C9-43BD-ABD6-8BFAD43A63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4AF19-D903-42FC-A4F9-FA53DBF7FE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8F7BA-18B5-4485-9E74-86CE29C5D3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7B136-A6E7-4ECA-BD67-15676DF6BE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79A77-BFF7-4385-A3AF-1D41E7CE16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7EF41-2734-4F2F-AB0C-E9DD7C3688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E6D27-9A7A-4446-8CCF-71AACA52DC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B9C1A-AA67-4813-A138-E78D64FC3C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8EACF-10E0-4DC4-9D06-8084C74826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1E505-3927-441C-AF2F-BAD8B6F9DD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4666B-0B06-472F-8078-5672E19FA4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D1B78-5305-4B99-82DC-1875D5FB95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6FC-89E3-43D0-8269-4E55AE6F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519-1432-4D59-9FFB-2A01009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4A0-C01F-47EC-A8A0-3040E9F3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75D-0A5E-499F-BF7C-9EC98BF5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0798-B3D7-47FD-A072-0F905844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6F81-DD2E-49E3-A76B-594FC8A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FA9-ED42-4CED-AD75-5468EB63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252B-B2BB-489E-B32E-003CC998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066A-8AA1-4424-BBE1-0F85A966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E3D4-17D5-4325-9A51-83BD3CD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FBAD-5BE2-4165-B8FE-EE59EA5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BBD-5835-4C16-B987-CB723E36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624C-5762-47DF-BA2B-A0EA8D7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0778-264D-428F-8782-933FEC1C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021E-1352-438D-B6E3-74B3252D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A33F-AB7D-4E01-B242-B3EC7EFD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0EAA-7034-4448-82AF-34C229B4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70AE-D1B9-4968-BE42-464602B7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047F-30D0-467D-A36B-CB1C2AF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79D4-67CB-4ED7-8C7C-5680F64E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8F54-D70C-420A-B549-A50E58A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CC6F-7F9D-4C91-8888-F51F655C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4C0-7E20-4987-AC75-CB62815B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E1502-0620-430D-95E3-AE164E3A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0E98-2552-4B6C-8E11-D4C8AD6A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1D62-A317-4D7F-9C52-1D2FD45B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B6D7-DA98-4782-8239-F83AED15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E929-49D1-4229-AE06-8F03F5C2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0090-CC1B-4D8F-B4A7-6B6598DA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5795-EB6D-4704-A269-D609AE50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98170-0CC2-41E9-8476-F92E83B1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1059-591A-4638-B965-9619B49C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E98FA-9420-40C7-8421-8CAD1CB3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B9D-D23C-42BF-BC00-9DA1D2C1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92BF-7E52-469C-A931-1087133E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5A02-6FE5-4703-990C-A7CC033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A4FA-040D-400E-B745-FCE240B6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D8C9-1EAA-4E36-997A-AE7F917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E809-2469-4ABB-ABF0-6A2F223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7E70-FD93-414B-81E5-4039819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F9932-F1E0-48BD-B11D-C227374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CDDA-DA8B-4034-81A5-3A172A86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EFA4-9117-4CFE-A68E-AD08EC3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3AA1-FD41-4D63-B4B5-773583D0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E98-472D-4D97-8476-48A88C0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85299-4A50-42B3-A6E8-DBD6E44B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3BF6-8079-48CA-ACE6-DA6B4C15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F9EDC-D133-44CA-82B9-2CB06431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DC51C-E2BE-4332-9B9E-37EA695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8F82-57F8-4EFA-BEDE-CB1A6801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508C1-84B1-4EB3-9B30-4A4DD37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CACF-1969-4F4E-97C0-0903C261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63D5-B8B4-4267-8A3C-2F9E9B2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C614-619A-42F8-8B50-F3F0EE19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E6D0-A6E2-44F2-9D67-3E65DFF0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E98-23FB-4539-9242-3D1402CF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B2E53-F78C-40FD-B530-11E23B8D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62C5-62F5-4938-835A-D3E4E346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80ED4-4603-48BA-8DA9-0AF81803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C11AF-C359-4483-9142-B0022C36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0E6F-C9D5-4583-A280-734EB2EE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33BCC-D3BF-4945-AC25-269B4FE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D169-2CE8-475B-B4FA-668D40C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E864-78D3-444D-B103-B7C9DF6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F966-017B-46A9-A29F-43A7F85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5C95C-C8B0-483C-8D8E-5AE8099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74C-7929-45BC-B190-FA35FAB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E77A-222D-45EB-858F-ED7BFB9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250A-734F-4C3D-A505-5A1C6D8A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2F210-BB64-4CAA-AEF2-72396868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3C55E-87BA-4D11-ADC5-4CF0368E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7C6AA-97C6-4C71-9D73-8022C17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1714-A644-47E9-AC0F-0EB6674A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946D-B304-4F2C-8190-F950AED6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675E-F31C-4023-A19F-3F04235B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CF00-7577-405D-B9F8-1B993FCC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BB41-3452-41AD-AAC5-3D88C40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2BC-4719-4108-8A5C-1A215A1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33CBF-3C81-424E-8804-F09BB7A5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9CBE-DBCB-4932-A6F4-342F788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5663-E40C-493E-ABCD-FEFBACF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3C7DE-9DB0-44ED-870B-5A067F6B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5E777-DC97-4EF1-A06D-76E086DF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32011-F1B3-4ED5-A910-78420236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EAAA-B42D-4339-8853-5B5A0F85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E9338-045F-4E84-A54F-8AC1A777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96FD-1048-48B2-B1E6-99B2D7D2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3B498-FE2D-4AF6-88BC-8CB4AB30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B71-E474-41BF-82D5-8AA223BB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7C5D9-9FAF-40AC-A19D-2F9656FB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82D72-C1EC-4AFF-A3A5-6560D8D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71F95-EBA3-4BC1-BBF0-7CD55FE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9F49-9E06-43B2-A5B8-3218214F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221A-69F7-4DEE-A083-78A2D72D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65000-413E-4147-8430-15907DDA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311B-30D5-4F5A-9316-BE59C8AD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17829-6A7E-430E-83A4-EDF8564A65F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90D72-C14B-45D0-91BA-D23364758A0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B882C-D69D-4D00-8352-43C3ABC171A1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D66FF-C3B0-483A-A4FC-2CA9D61D18D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AAA73-5EB3-4C92-842F-AA900044C7B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0F12A-C844-4503-AD66-6ADBF65A6F8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EDCDB-1D8E-4EF0-90B7-B45A6CCFE19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7B870-4E12-4434-8B03-56CBEAD1F541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9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ottrauma’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viscositeit van het bloe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e capillaire doorlaatbaarhei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permeabiliteit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e toename van de viscositeit van het bloe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Maessen, Joyce</cp:lastModifiedBy>
  <dcterms:modified xsi:type="dcterms:W3CDTF">2019-10-24T11:56:16Z</dcterms:modified>
  <cp:revision>24</cp:revision>
  <dc:subject/>
  <dc:title>Koude en warmtebehandeling</dc:title>
</cp:coreProperties>
</file>