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6440" y="4686840"/>
            <a:ext cx="54111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2) Niet ambulante compressie therapi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, zorgvrager kan de spierpomp niet gebruiken ,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v. zitten in een rolstoel. 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ordt ook vaak gebruikt bij zorgvragers waarbij het verband verschoond moet worden, soms ook bij ambulante zorgvragers  bv. ulcera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anneer de patiënt niet mobiel is, kan geen verbetering verwacht worden t.a.v. spiercontracties ; dan is een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elastisch verband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er, omdat  er dan continue druk gegeven wordt. Langereks oefenen weinig druk uit bij het lopen en veel druk  uit in rust. = rustdruk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ordt gebruikt bij oedeemvorming in de onderbenen/voeten.  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ange-rek zwachtel wordt alleen overdag gedragen.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 de nacht worden  ze verwijderd en voor/bij het opstaan weer aangebracht, ze moeten dagelijks verwisseld worden. Kan eventueel na instructie door de zorgvrager zelf aangebracht wo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et fixeren van de zwachtels gebeurd met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chtpleister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, nooit met klemmetjes om verwonding te voork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dviseer de patiënt niet op sloffen/slippers te lopen, maar op schoen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, i.v.m. dat de kuitspier niet optimaal gebruikt word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nk aan arbo richtlijnen! Zwachtels wa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kle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ede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Compressie therap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oel; druk van buitenaf te geven, oedeem snel en blijvend te laten verdwijnen en de bloed- en lymfestroom te verbeteren door de functie van de kapotte kleppen in de benen te ondersteune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6FD-44FD-4BEA-AA0E-54D3354A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5D2-6A03-4CA2-8F71-2AB5F0F3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376D8-6FAA-49C5-AA54-FC7DE4C0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F4AF4-E8CC-4EF1-A3E8-37E7523E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11332-F694-4528-A9E2-E7802269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DB971-3BBD-45AF-A424-D568E51A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56543-E50E-46CC-8DA1-63047A2E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1EEBD-102D-4E06-8658-83D07974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6DEFC-F2DC-4CA4-B074-27F17D54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35582-4B4F-4D80-AA2A-B39E08B4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78175-96F5-41E5-890C-0C6A2619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09C38-18CB-4518-8353-E884A3CE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EF0-B177-4E86-9E45-DCA71606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2DF65-86F9-4E10-A8F9-0272D916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933C5-A227-45E9-A199-11C2EFB9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52DFD-02FC-46C5-AED0-853B0982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DC0C1-88AC-42C5-94EF-1A22C27D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5A2C7-B4F2-4DEF-A736-7F84B864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D83BE-2043-49C3-AECE-E50C3F0D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4C2AE-27A6-4CE6-AE20-153CB4B9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FF0D6-83A6-4BCD-A8B3-B632F95D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4E0F4-2A6E-46A8-861D-555756D1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D06EF-532B-45E5-B2A7-9AA647E0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77D-7B22-4E6D-AC77-ED5A2A79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1EB1E-CA0A-4B6F-A1D6-382935E7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719B-B45F-4A0F-A159-EF878CDE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496A-573B-4DC6-A724-19F3BCB6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CE18-7F55-43F4-8C8E-4B45E499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A3B6-C1E9-46AB-902F-005CE94F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890D-8D4D-4058-8CD4-FC01ACE8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157B-511D-4CA2-9CFB-94D2E9E1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E9D1-CD5E-4991-9B94-C40574A4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3AF-CDDC-46CC-B8CF-0941FF8A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A5D0-E0B4-46DD-B1E3-49FE4777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015C-4376-49C5-BC1D-9C549CA6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26C8-E283-45C9-BF68-3F8A249A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C673-EA6A-4C38-8844-0A87CC1A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1722-7FA0-4075-A08D-C5B4C886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095BC-2957-42DF-8B6A-219F6EA9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EC993-70BC-4877-B999-59B5A296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11335-3B1A-419F-BEE0-8FDC76FD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73FCD-6417-4832-9421-FF6E26F4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BCA8B-625E-4924-B522-4F7E24E7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C346-E3C4-4B6D-9B83-862466EB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B9586-483A-4E95-9665-46FC3CF6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09FFC-D558-4ECC-A9E0-CC3EDC1E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AC987-9D26-40E1-AA0F-B03B5641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D7441-9D96-418D-8FEF-5C91332D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E481B-790B-4ECD-A491-6C7EA500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840BD-B0FA-4176-94D0-9EE78A6D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8E353-B5D7-49CE-8B3D-9D7CD379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8271F-0442-4EE7-A5CC-4DE671F9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2250B-422F-441F-97C9-B392E8AE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C6470-99CC-4163-B84A-4FEE8155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4203-D8A4-4D3F-9914-151093E2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5535B-73A1-4CBA-B417-4A7CBA75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4CA56-E55A-48D0-88F9-64D7E148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5067A-2EFE-43DD-8A6A-751778C4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0BAC4-EC57-4BA0-9411-A882D40C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62AA8-E981-41C7-94B6-5AFA3AA2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08A97-F903-4F12-A8AC-A691DE22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F4A09-0B73-4CAD-84C7-1F576B75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8814B-4979-47EB-8A4A-93C695C3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D7C0A-6702-434A-BE2D-34CA42C2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26800-CE75-4E87-802E-A99A17BB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FFE-A36A-48D5-AAC7-0C8FAF97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DD0EE-ABA5-49B1-9441-63F1689D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8488B-A08E-4F07-B5D0-7C47AB56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A7C21-25B3-428F-94B6-373EB3D8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C1CF4-EA42-455F-8012-C01AFDE2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DEBBF-35F5-45E6-83A6-73C897C2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9D12B-C04C-4F8C-8FE0-B19E2AF4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B229F-4E51-4D10-961D-9A304C3C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92382-87DA-4366-87F4-53B73C31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ADC2D-D37D-4843-8101-6CF00103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06625-F30B-4024-990C-739D06A8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544-7445-491F-9F73-18A59A3C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1BD59-E13A-481C-AF45-581C3DF3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D82A6-7F28-43F3-A4D6-8EC6020D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E1D43-E584-4F89-B009-34501461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0DFD5-66C1-475A-B4A9-7B7849B5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6A185-CF71-4D26-8662-8667684D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7B29B-372F-428D-8D93-D08E05E9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5A4F7-3C9E-40E3-98C8-9E721A12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C0F51-CB60-40BD-A88C-5EED67CF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C99FA-6D7B-47E8-A432-7478795B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DBDF5-23CC-4B9F-BDAB-77AFE4E2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783-495D-40FA-BE4A-DDE2D623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914BA-DE84-4D6E-9BA3-C6676173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330DA-4FF0-40D6-9E4C-D773C32C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97B6F-4189-4056-87A5-DFFAD23C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716DB-8F42-45B5-8F31-67406048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B8905-3D0F-4272-8E64-497EE524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EB1A9-1F75-4AFB-A302-6B4D0EAA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9469F-D30D-44C5-BC76-528E1DD2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3E287-0687-4DA3-8905-46DBA970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73294-AC0F-4CF3-A89E-FD896CD5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78170-19F7-4B37-8C3C-517865ED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299-6543-4EC5-8EAC-829BAD14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B39E0-651E-4D0A-A864-6ED21665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DF8CB-F407-4D33-BF8C-21E098BF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2717C-8189-4474-BD0B-25E581F1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DAF07-4563-41FC-9E92-0E9E48DD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3D4A0-5CF5-4967-9313-52FC6B20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11EFA-5E99-480D-A653-E1EC4B5F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E215B-7535-4876-A457-7B799862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5EB41-0294-4E8E-8228-8C246167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E66CD-B7FB-4262-814E-D0C24A48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C4F61-C55D-45AA-84DB-7F4BF8CF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7AD-6C04-401E-9655-56C89066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08EDF-C24B-4C00-BAAE-B986D3A1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52644-5E71-46D1-A933-A141A124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FE209-E4C1-4F9C-999C-539DE1FD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9004B-FFB8-4FF7-BCE9-D2DEBF88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F64A5-73F9-48A3-A445-67814E4D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66063-8B0F-4C90-B8F4-13026778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AE95B-2063-4A82-B69B-7AE0BB22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3FEC6-ABD9-4519-9DAB-6A50C865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3FDB7-0DF5-4137-96AE-F04F706F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7ACBE-1A54-4F51-9E80-3541A7C0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92AAE-17AD-4FBA-B441-ED388B830393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CD42E-8E32-41B6-91E2-92CBF9916DD2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13EAC-CFC8-4765-B5E7-9D8EE0C637C7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B703A-43FB-45AB-901A-99D841027EEA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94BD7-13AE-4260-B903-6457ECBEB5B8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D8609E-07C3-40E6-B71A-B7D55BDFCE4B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DBE54-7CC6-48C6-BBC6-1E43E1EB6598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CAA87-272C-4904-BBAA-091DC0518D9C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2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6C05A-09D0-45C4-819C-12E98D8BC233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06716-3298-405E-89E5-D6779BD53DB1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244440" y="2042640"/>
            <a:ext cx="95616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MODULE 8: VERPLEEGTECHNISCH HANDELEN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510920" y="4152600"/>
            <a:ext cx="604836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  <a:ea typeface="Arial"/>
              </a:rPr>
              <a:t>Lesweek 8: compressietherapie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8" name="Afbeelding 3" descr=""/>
          <p:cNvPicPr/>
          <p:nvPr/>
        </p:nvPicPr>
        <p:blipFill>
          <a:blip r:embed="rId1"/>
          <a:stretch/>
        </p:blipFill>
        <p:spPr>
          <a:xfrm>
            <a:off x="6492960" y="1181160"/>
            <a:ext cx="21668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050560" y="620640"/>
            <a:ext cx="688356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AMBULANTE COMPRESSIE THERAPIE(ACT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8000" y="2205000"/>
            <a:ext cx="692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insufficiënti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atiënt moet kunnen lo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rkdruk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.m.v. korte rek zwachtel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63280" y="62028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ENODIGDHEDEN /MATERIAL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84360" y="227664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uisverban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olstermateriaa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inimaal 2 korte- rek zwachtel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chtmateriaal(geen haakjes i.v.m. huidbeschadiging maar pleister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64260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ECHNIEK, AANDACHTSPUNT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294840" y="1746360"/>
            <a:ext cx="73947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g en nacht worden gedrage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1 keer per week verwissele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t in flex stand,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el goed inpakke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en bij teenbasis boven op voe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wachtel dicht op de huid afrollen, been volgen altijd in de zwachtel kijke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wachtel been volgend, tegengesteld aanbrengen, vult de gaten op van de eerste zwacht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0" name="Picture 5" descr="Scannen0001"/>
          <p:cNvPicPr/>
          <p:nvPr/>
        </p:nvPicPr>
        <p:blipFill>
          <a:blip r:embed="rId1"/>
          <a:stretch/>
        </p:blipFill>
        <p:spPr>
          <a:xfrm>
            <a:off x="6486480" y="2081160"/>
            <a:ext cx="240660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NIET AMBULANTE COMPRESSIE THERAP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84360" y="213372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atiënt kan spierpomp niet gebruik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mmobiele patiën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inefficiënti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arbij het verband verschoond moet word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agelijks verwissel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Rustdruk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.m.v. Lange-rek zwacht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37704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AUERBIN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ware kwaliteit zwacht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angerek,  elastisch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k is de patiënt is immobi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ntinue wordt er druk gegev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leen overdag gedra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a instructie, soms zelf aanbre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Fixatie met pleist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k bij oedeem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03280" y="404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MPLICATIES NA ZWACHTEL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0920" y="2133720"/>
            <a:ext cx="8280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rritatie van de hui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toedee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nsteroedee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ij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fzakken verband,onvoldoende spierpomp ondersteun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wachtelstriemen, insnoeren van verban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laren, ulcera of oedeem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kleuren ten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EGELEIDING AC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68000" y="2276640"/>
            <a:ext cx="64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dacht, begrip, tijd en ruimte geven voor verandering, inform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rocedure zorgverlen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na aanbrengen zwachtels: bewegen, schoeisel, huid- en nagelverzorging, optimale voeding (eiwit en energie), 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63770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NTWIKKELING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50920" y="2205000"/>
            <a:ext cx="757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ban zwachtel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ites: WCS, CBO-richtlijnen, kennisorganisatie TNO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Farrow Wra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Juxta-lit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rgoK2 compressiesysteem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N NU DE DE PRAKTIJK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79240" y="2276640"/>
            <a:ext cx="70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betekent ACT voor jou op jouw afdeling? Welke kennis/vaardigheden heb jij nodig? Waar vindt je informatie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ziektebeelden spelen een rol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kun jij een zv stimuleren tot bewegen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wetten spelen een rol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RAGEN</a:t>
            </a: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5" name="Picture 2" descr="3d mens met vraagteken Royalty-vrije Stock Afbeelding"/>
          <p:cNvPicPr/>
          <p:nvPr/>
        </p:nvPicPr>
        <p:blipFill>
          <a:blip r:embed="rId1"/>
          <a:stretch/>
        </p:blipFill>
        <p:spPr>
          <a:xfrm>
            <a:off x="3978360" y="2781360"/>
            <a:ext cx="20527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63770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PATHOLOG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rteriële insufficiënti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5 – 20 %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door bv. trombose, diabetes, roken 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insufficiënti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70 – 80 %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63640" y="620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ORZAAK VENEUZE INSUFFICIËNT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8000" y="2349360"/>
            <a:ext cx="71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leppen sluiten onvoldoend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 spierpompfunctie is verminder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schadiging van de beenad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stoorde bloedafvo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lapte vaatwan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vergewicht, familiair, veel staan/zitten, trombose, ulcus cruris venosum, zwangerscha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ERSCHIJNSEL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19120" y="2276640"/>
            <a:ext cx="728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om, zwaar en moe gevoel, krampen kui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edeem , vooral ‘s avond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atad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ond (ulcus)meestal aan de buitenkant van de enkel, niet scherp begrens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kleuringen onderbeen, pigmentati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unne witte plekken met daaromheen vuurrode puntvormige capillairen ( atrofie blanche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4" descr="Scannen0002"/>
          <p:cNvPicPr/>
          <p:nvPr/>
        </p:nvPicPr>
        <p:blipFill>
          <a:blip r:embed="rId1"/>
          <a:stretch/>
        </p:blipFill>
        <p:spPr>
          <a:xfrm>
            <a:off x="3132000" y="620640"/>
            <a:ext cx="3025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MPRESSIE THERAP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26920" y="1988640"/>
            <a:ext cx="69948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oel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druk van buitenaf geven,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edeem snel en blijvend te laten verdwijn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erpompfunctie verbet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bloed en lymfestroom versnell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kapotte kleppen ondersteun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8000" y="549360"/>
            <a:ext cx="8229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MPRESSIE THERAPI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94920" y="1989000"/>
            <a:ext cx="67071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oel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toevoer van zuurstof en voedingsstoffen te verbet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nderhuidse bloedingen te voorkomen of aanwezige onderhuidse bloedingen te stop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63788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NTRA INDICATIE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9528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rteriële insufficiënti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gesloten diep veneus systeem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wezige actieve huidaandoen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lergi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ardiale klach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79640" y="620640"/>
            <a:ext cx="69674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YMPTOMEN VAN ARTERIËLE INSUFFICIËNTI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94920" y="242100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e, witte voeten en onderbenen, soms paarsrode of paarsblauwe verkleur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 Nacht pijn in ben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ijn in kuit bij lo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ondvorming, voorkant been, hiel of tenen, scherp begrens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wezigheid pulsati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1:02:01Z</dcterms:created>
  <dc:creator>Koopmans</dc:creator>
  <dc:description/>
  <dc:language>en-US</dc:language>
  <cp:lastModifiedBy>Maessen, Joyce</cp:lastModifiedBy>
  <cp:lastPrinted>2012-04-25T10:11:45Z</cp:lastPrinted>
  <dcterms:modified xsi:type="dcterms:W3CDTF">2018-04-18T09:00:34Z</dcterms:modified>
  <cp:revision>105</cp:revision>
  <dc:subject/>
  <dc:title>Zwachtelen en compressie</dc:title>
</cp:coreProperties>
</file>