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5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915840" y="739440"/>
            <a:ext cx="493416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76440" y="4686840"/>
            <a:ext cx="54111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2) Niet ambulante compressie therapie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, zorgvrager kan de spierpomp niet gebruiken ,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bv. zitten in een rolstoel.  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ordt ook vaak gebruikt bij zorgvragers waarbij het verband verschoond moet worden, soms ook bij ambulante zorgvragers  bv. ulcera.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anneer de patiënt niet mobiel is, kan geen verbetering verwacht worden t.a.v. spiercontracties ; dan is een </a:t>
            </a:r>
            <a:r>
              <a:rPr b="0" lang="nl-NL" sz="1200" spc="-1" strike="noStrike" u="sng">
                <a:solidFill>
                  <a:srgbClr val="000000"/>
                </a:solidFill>
                <a:uFillTx/>
                <a:latin typeface="Arial"/>
              </a:rPr>
              <a:t>elastisch verband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beter, omdat  er dan continue druk gegeven wordt. Langereks oefenen weinig druk uit bij het lopen en veel druk  uit in rust. = rustdruk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ordt gebruikt bij oedeemvorming in de onderbenen/voeten.  </a:t>
            </a:r>
            <a:br>
              <a:rPr sz="1200"/>
            </a:b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Lange-rek zwachtel wordt alleen overdag gedragen. 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oor de nacht worden  ze verwijderd en voor/bij het opstaan weer aangebracht, ze moeten dagelijks verwisseld worden. Kan eventueel na instructie door de zorgvrager zelf aangebracht word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et fixeren van de zwachtels gebeurd met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hechtpleister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, nooit met klemmetjes om verwonding te voork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Adviseer de patiënt niet op sloffen/slippers te lopen, maar op schoenen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, i.v.m. dat de kuitspier niet optimaal gebruikt word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Denk aan arbo richtlijnen! Zwachtels wass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erkleu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Oede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 u="sng">
                <a:solidFill>
                  <a:srgbClr val="000000"/>
                </a:solidFill>
                <a:uFillTx/>
                <a:latin typeface="Arial"/>
              </a:rPr>
              <a:t>Compressie therap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oel; druk van buitenaf te geven, oedeem snel en blijvend te laten verdwijnen en de bloed- en lymfestroom te verbeteren door de functie van de kapotte kleppen in de benen te ondersteunen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iep veneuze trombo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Etalagebenen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 is een vaatziekte. De slagaderen in uw been zijn vernauwd. Deze ziekte veroorzaakt pijn, kramp of een doof/moe gevoel in uw been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F9C7-6A33-4F3F-B706-FCFD06739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FA70-0556-4C7B-8887-67B36A2A7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F1BFF1-F63A-4B68-ABB2-4E4CBC309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A576E7-81DA-43FB-875F-0410CD698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E56651-FDCE-4BF3-A8FD-B3C5DA9C2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53320E-CB12-46FD-BC75-9AEC1714F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3F4C8E-E1BD-4DF3-9EF2-5DCDAEF6F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1D12E7-C6FA-421B-BC1A-591139D73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0A3FC0-CB7B-470B-AEE2-EEE74F885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7232DC-14AD-43E0-9A64-4C017060D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9A869D-81E6-47B7-9CC9-FA3D70708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36AFE6-D5E9-457C-A852-D8278D74D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D971-5D59-4141-973B-AFE03A917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86CEBB-C1D0-43BB-9080-FF7A2B3A3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681E57-766B-4A6F-9699-6B7A949E0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AD8671-86CC-41D9-8BDF-0FAC4A57C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1FC9D6-65B0-4AD9-B1FA-CDF8395A5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E4175A-0B0E-4E60-8AF9-42CB1411A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DBD06E-7BA6-4BA4-8660-06D374AF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8D2C30-B898-430D-94DD-FC4C15A79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84C7C1-1B78-4F4C-99F1-BAB7916E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7ACE9D-E562-4FB1-8535-CC64F4EE4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440C07-B728-4830-9A8A-8BA37A8E3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FC39-E789-4FBC-8594-33F695969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2D6E70-4611-41B0-92F3-807A88754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17BC8-71F0-4D78-A981-19B7E182C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04C5F-05BB-4041-9ADE-E30C1EF32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5C929-F882-4753-A02D-7010F6BAC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0F13D-CB12-4625-8C33-3F2A9D3CA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7AE22-DAB7-41F5-8DE5-8813C881C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6467B-CA7E-46A0-BD91-047CCEC85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4C73D-41CF-4542-AEFB-CB7EA4A2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3891-FB6E-40EF-A727-70F3C1AEC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5CE8F-238C-4F1E-836D-E591B1789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71177-FC02-4D3C-A5A5-297EA480B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0EBE3-28E3-447D-81A0-D39C59E05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9D127-40B9-4016-973B-52F57D62E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6997E-24BB-4A47-829C-1800C722A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D314A-68E3-4619-A443-3BBCE7BEA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BDA06-5DA1-4BBE-A00E-663316ADE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72DFC-B6C6-49AA-A8F0-5E8F03963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05265-1A24-4EC1-98C6-A57B903F2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909F4-82EA-4EE6-908F-BB5A387C4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CF58-D6B5-4F5E-8623-DD0BE29D9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66670-B88F-4274-A792-C2B22B025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F937A-6D80-41A8-8E3E-5C126E4B9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91C1E-F418-409C-97FC-62CADA72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FBF9B-435B-42F6-939D-480805A3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2E7B8-9562-4A18-869D-58CEF0BCB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8E262-E6AA-45E2-ADF1-4FD55E10D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A8FB4-A878-4A0A-B786-A139CC62B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80108-E6E6-487A-A782-7209CE5A4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89018-4F9E-4A7A-BA14-193ABF5E4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DE308-5DC9-4CAA-8215-A893C4EC5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E27E-AF74-48C0-B01E-6B34318D8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5510E-E655-4CC5-87FE-D9854AAD6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29810-B836-4C7C-BA1F-9A1E39B56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5D5F7-854E-4C4F-9576-7F350EF35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E92E0-A7E1-47A3-99CC-CC95DB39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E4E21-A73E-45B4-81E3-858868186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DF4F0-6A5B-49A1-880F-F72253889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62028-425C-41C9-BA13-E801C0E1A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6EE50-C018-4527-BBF5-E83B42EDA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B80FA-BE22-4200-BADE-F7208FB4E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BC65FD-7974-4DC6-A253-0489C7527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47B6-F103-4EA4-BD3A-0107BED14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F0DA9E-2A4D-44A0-83E9-E030945E0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A9115D-2BC9-4647-A6FD-3B8AE44C7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229AA-40BD-455D-9C43-0954C119E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37106-016D-41BE-AB66-37AECA7E9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CAB77B-6941-45F1-86B5-A5FF46919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D13802-D3B6-465F-8940-A33F85799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A3D5A-AA12-4B59-A80C-9C50FFC28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1296A6-F19C-4D0F-B9E3-0BA446C6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C8572A-E442-4156-B119-DBAE0747B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5B93DF-B0C5-4AE0-A69F-AA4300987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EAFA-9351-4BBF-BE0B-86751F463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D8C94-0BC7-46AA-AB03-A1D852B86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05FAB8-F3FD-4F4C-8482-8D4E5C14D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7D0F53-C7E1-4FFF-A5F2-49DECE5D7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6C58C8-E1D7-46AB-ABCD-9120688C7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2830A9-655D-4526-8B6C-C3BD5660A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ADF90A-33E2-4D01-B831-A82D71170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DF055A-9283-411D-A88F-8F2B2D948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914B9D-0F37-4BED-A7B4-18A052EA1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B7BC0E-3EF1-4195-8EAB-30335FA1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19E305-3D3E-49D5-99D0-CEDBD5C50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14A5-F872-4DA5-83ED-BB958713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91E2F4-3E8D-41EA-ADE8-F9BE31B5C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A93853-303F-4DDE-9354-35DEEE87A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B293CE-CE08-40F5-9708-992A75F5F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235D19-1901-4C8F-8257-2C3D650FE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456C4F-4359-4DEA-B9E6-5EF7776CE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73FA35-7219-400C-8700-01B649491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E0249D-3C7F-41FF-BEC4-1D5B6FFA4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7E6AAE-5A11-41D5-B83C-94495017F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FEFF20-E7A9-4F2A-B3E9-978C9A434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BF1E7F-6A24-41CD-8BFA-B5C558771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B910-670E-47B3-A529-EA0738245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4B894B-1668-46AA-AF0C-3185D6534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5DFF66-25F6-4A26-82D8-A4DE2507B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1D4C49-A594-4364-855D-ECCC2D56A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F6A8ED-48E4-44F3-8E33-8CFABB71A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4820E2-E599-4A3F-B0B0-1739CE0DA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2A0BD2-B5EF-4366-8412-3A8202350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8A5352-9501-43D3-AB1F-7B908F74D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8BDD19-B342-48E3-965D-F1B404A09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EEDB01-82F1-422E-B817-044D20A61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EC6DCF-D407-4D1C-9355-0CD369500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DBC7-3B86-4F6E-8CA2-1A3AB362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9F9947-DA9E-478D-B5D7-A008368AA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E2AA51-ED9F-4762-93B7-90A34C0FF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B51683-E3EE-4E74-91E5-E427D080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3A7DC0-0D71-49FF-8C91-E26F3C8B2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693C91-7D24-45EC-9F44-70CBEC1C6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0CFE4B-C3C2-4854-BA29-3C33AFFDD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461B3A-5B55-44E5-8B46-1196FB4EA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62C61D-015F-41C9-8C97-F33656777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229CDC-521D-4A2B-A209-4959A1817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124D02-5008-4369-A75D-052DE7572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C2-HD-TOP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81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9328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71800" y="380520"/>
            <a:ext cx="1978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8CA919-9E8C-45B8-840B-77469D4E972E}" type="slidenum">
              <a:rPr b="0" lang="nl-NL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7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8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9"/>
          </p:nvPr>
        </p:nvSpPr>
        <p:spPr>
          <a:xfrm>
            <a:off x="593280" y="380520"/>
            <a:ext cx="4830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30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C28D83-4693-4C60-BC07-49734BC273D9}" type="slidenum">
              <a:rPr b="0" lang="nl-NL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C2-HD-TOP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81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C2-HD-BTM.png"/>
          <p:cNvPicPr/>
          <p:nvPr/>
        </p:nvPicPr>
        <p:blipFill>
          <a:blip r:embed="rId3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932080" y="4324320"/>
            <a:ext cx="2297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914040" y="4324320"/>
            <a:ext cx="4879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058080" y="1430280"/>
            <a:ext cx="2171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B6F24E-950A-4299-9839-AE68ECBD372E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C2-HD-TOP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81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59328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71800" y="380520"/>
            <a:ext cx="1978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E75BC6-1A4D-41DD-9107-7988D661A9BC}" type="slidenum">
              <a:rPr b="0" lang="nl-NL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8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593280" y="380520"/>
            <a:ext cx="4830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606CED-E975-4F95-B9C7-8A450EEFF0BD}" type="slidenum">
              <a:rPr b="0" lang="nl-NL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7" descr="C2-HD-TOP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8108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59328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571800" y="380520"/>
            <a:ext cx="1978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4335F5-2228-4FD4-874B-FF85AC5A93C3}" type="slidenum">
              <a:rPr b="0" lang="nl-NL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7" descr="C2-HD-TOP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8108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59328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6571800" y="380520"/>
            <a:ext cx="1978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FEDFE6-01A2-4068-89EE-956624BFF784}" type="slidenum">
              <a:rPr b="0" lang="nl-NL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7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9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20"/>
          </p:nvPr>
        </p:nvSpPr>
        <p:spPr>
          <a:xfrm>
            <a:off x="593280" y="380520"/>
            <a:ext cx="4830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21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250D20-D31C-4DC6-9331-2B7D06A9AC8C}" type="slidenum">
              <a:rPr b="0" lang="nl-NL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14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296" name="TextBox 12"/>
          <p:cNvSpPr/>
          <p:nvPr/>
        </p:nvSpPr>
        <p:spPr>
          <a:xfrm>
            <a:off x="231840" y="80820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7" name="TextBox 13"/>
          <p:cNvSpPr/>
          <p:nvPr/>
        </p:nvSpPr>
        <p:spPr>
          <a:xfrm>
            <a:off x="8147160" y="3021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22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3"/>
          </p:nvPr>
        </p:nvSpPr>
        <p:spPr>
          <a:xfrm>
            <a:off x="593280" y="379440"/>
            <a:ext cx="4830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4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01D26D-7A8C-471B-9A77-3241F6570BDD}" type="slidenum">
              <a:rPr b="0" lang="nl-NL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8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25"/>
          </p:nvPr>
        </p:nvSpPr>
        <p:spPr>
          <a:xfrm>
            <a:off x="5562360" y="379440"/>
            <a:ext cx="218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26"/>
          </p:nvPr>
        </p:nvSpPr>
        <p:spPr>
          <a:xfrm>
            <a:off x="593280" y="379440"/>
            <a:ext cx="4830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27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F32E12-76C3-424F-B64E-A812EC17E50B}" type="slidenum">
              <a:rPr b="0" lang="nl-NL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-244440" y="2042640"/>
            <a:ext cx="956160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MODULE 8: VERPLEEGTECHNISCH HANDELEN 1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510920" y="4152600"/>
            <a:ext cx="6048360" cy="5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  <a:ea typeface="Arial"/>
              </a:rPr>
              <a:t>Lesweek 8: compressietherapie</a:t>
            </a: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28" name="Afbeelding 3" descr=""/>
          <p:cNvPicPr/>
          <p:nvPr/>
        </p:nvPicPr>
        <p:blipFill>
          <a:blip r:embed="rId1"/>
          <a:stretch/>
        </p:blipFill>
        <p:spPr>
          <a:xfrm>
            <a:off x="6492960" y="1181160"/>
            <a:ext cx="2166840" cy="78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763280" y="620280"/>
            <a:ext cx="720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BENODIGDHEDEN MATERIALEN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755280" y="2133720"/>
            <a:ext cx="7201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uisverband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Polstermateriaa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Minimaal 2 korte- rek zwachtels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echtmateriaal(geen haakjes i.v.m. huidbeschadiging maar pleisters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14400" y="64260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TECHNIEK, AANDACHTSPUNTEN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294840" y="1746360"/>
            <a:ext cx="739476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dag en nacht worden gedrag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1 keer per week verwissel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oet in flex stand, 9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iel goed inpakk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tarten bij teenbasis boven op voe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Zwachtel dicht op de huid afrollen, been volgen altijd in de zwachtel kijken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zwachtel been volgend, tegengesteld aanbrengen, vult de gaten op van de eerste zwacht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ttps://www.youtube.com/watch?v=9kZ5MQB4waw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54" name="Picture 5" descr="Scannen0001"/>
          <p:cNvPicPr/>
          <p:nvPr/>
        </p:nvPicPr>
        <p:blipFill>
          <a:blip r:embed="rId1"/>
          <a:stretch/>
        </p:blipFill>
        <p:spPr>
          <a:xfrm>
            <a:off x="6486480" y="2081160"/>
            <a:ext cx="240660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4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4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4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4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4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4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4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4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835280" y="47628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NIET AMBULANTE COMPRESSIE THERAPIE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684360" y="2133720"/>
            <a:ext cx="7067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ij: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Patiënt kan spierpomp niet gebruik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Immobiele patiënt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neuze inefficiëntie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aarbij het verband verschoond moet word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Dagelijks verwisseld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Rustdruk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D.m.v. Lange-rek zwacht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57" name="Afbeelding 1" descr=""/>
          <p:cNvPicPr/>
          <p:nvPr/>
        </p:nvPicPr>
        <p:blipFill>
          <a:blip r:embed="rId1"/>
          <a:stretch/>
        </p:blipFill>
        <p:spPr>
          <a:xfrm>
            <a:off x="5584680" y="3983040"/>
            <a:ext cx="262908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0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4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4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692360" y="475920"/>
            <a:ext cx="6377040" cy="129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DAUERBINDE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39528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Zware kwaliteit zwacht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Langerek,  elastisch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aak is de patiënt is immobi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Continue wordt er druk gegev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lleen overdag gedrag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Na instructie, soms zelf aanbreng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Fixatie met pleister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aak bij oedeem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60" name="Afbeelding 1" descr=""/>
          <p:cNvPicPr/>
          <p:nvPr/>
        </p:nvPicPr>
        <p:blipFill>
          <a:blip r:embed="rId1"/>
          <a:stretch/>
        </p:blipFill>
        <p:spPr>
          <a:xfrm>
            <a:off x="4788000" y="1484280"/>
            <a:ext cx="435600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0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4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4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4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4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4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4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403280" y="404640"/>
            <a:ext cx="6378480" cy="129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COMPLICATIES NA ZWACHTELEN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610920" y="2133720"/>
            <a:ext cx="828036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rritatie van de huid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oetoedeem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ensteroedeem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Pijn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fzakken verband,onvoldoende spierpomp ondersteuning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Zwachtelstriemen, insnoeren van verband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Blaren, ulcera of oedeem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erkleuren tenen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63" name="Afbeelding 1" descr=""/>
          <p:cNvPicPr/>
          <p:nvPr/>
        </p:nvPicPr>
        <p:blipFill>
          <a:blip r:embed="rId1"/>
          <a:stretch/>
        </p:blipFill>
        <p:spPr>
          <a:xfrm>
            <a:off x="5724360" y="4162320"/>
            <a:ext cx="3308400" cy="2479680"/>
          </a:xfrm>
          <a:prstGeom prst="rect">
            <a:avLst/>
          </a:prstGeom>
          <a:ln w="0">
            <a:noFill/>
          </a:ln>
        </p:spPr>
      </p:pic>
      <p:pic>
        <p:nvPicPr>
          <p:cNvPr id="464" name="Afbeelding 2" descr=""/>
          <p:cNvPicPr/>
          <p:nvPr/>
        </p:nvPicPr>
        <p:blipFill>
          <a:blip r:embed="rId2"/>
          <a:stretch/>
        </p:blipFill>
        <p:spPr>
          <a:xfrm>
            <a:off x="4751280" y="1697040"/>
            <a:ext cx="28576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0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4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4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979640" y="47628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BEGELEIDING AC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468000" y="2276640"/>
            <a:ext cx="649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andacht, begrip, tijd en ruimte geven voor verandering, informer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Procedure zorgverleningsproces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andachtspunten na aanbrengen zwachtels: bewegen, schoeisel, huid- en nagelverzorging, optimale voeding (eiwit en energie), pij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763640" y="476280"/>
            <a:ext cx="63770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ONTWIKKELINGEN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250920" y="2205000"/>
            <a:ext cx="757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Coban zwachtels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Sites: WCS, CBO-richtlijnen, kennisorganisatie TNO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Farrow Wrap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Juxta-lite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UrgoK2 compressiesysteem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69" name="Afbeelding 3" descr=""/>
          <p:cNvPicPr/>
          <p:nvPr/>
        </p:nvPicPr>
        <p:blipFill>
          <a:blip r:embed="rId1"/>
          <a:stretch/>
        </p:blipFill>
        <p:spPr>
          <a:xfrm>
            <a:off x="5724360" y="4549680"/>
            <a:ext cx="2310120" cy="2311560"/>
          </a:xfrm>
          <a:prstGeom prst="rect">
            <a:avLst/>
          </a:prstGeom>
          <a:ln w="0">
            <a:noFill/>
          </a:ln>
        </p:spPr>
      </p:pic>
      <p:pic>
        <p:nvPicPr>
          <p:cNvPr id="470" name="Afbeelding 4" descr=""/>
          <p:cNvPicPr/>
          <p:nvPr/>
        </p:nvPicPr>
        <p:blipFill>
          <a:blip r:embed="rId2"/>
          <a:stretch/>
        </p:blipFill>
        <p:spPr>
          <a:xfrm>
            <a:off x="7335720" y="2070000"/>
            <a:ext cx="1827360" cy="2262240"/>
          </a:xfrm>
          <a:prstGeom prst="rect">
            <a:avLst/>
          </a:prstGeom>
          <a:ln w="0">
            <a:noFill/>
          </a:ln>
        </p:spPr>
      </p:pic>
      <p:pic>
        <p:nvPicPr>
          <p:cNvPr id="471" name="Afbeelding 5" descr=""/>
          <p:cNvPicPr/>
          <p:nvPr/>
        </p:nvPicPr>
        <p:blipFill>
          <a:blip r:embed="rId3"/>
          <a:stretch/>
        </p:blipFill>
        <p:spPr>
          <a:xfrm>
            <a:off x="0" y="0"/>
            <a:ext cx="2411280" cy="2058840"/>
          </a:xfrm>
          <a:prstGeom prst="rect">
            <a:avLst/>
          </a:prstGeom>
          <a:ln w="0">
            <a:noFill/>
          </a:ln>
        </p:spPr>
      </p:pic>
      <p:pic>
        <p:nvPicPr>
          <p:cNvPr id="472" name="Afbeelding 6" descr=""/>
          <p:cNvPicPr/>
          <p:nvPr/>
        </p:nvPicPr>
        <p:blipFill>
          <a:blip r:embed="rId4"/>
          <a:stretch/>
        </p:blipFill>
        <p:spPr>
          <a:xfrm>
            <a:off x="4357800" y="3092400"/>
            <a:ext cx="238104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258920" y="620640"/>
            <a:ext cx="6378480" cy="129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EN NU DE DE PRAKTIJK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579240" y="2276640"/>
            <a:ext cx="705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at betekent ACT voor jou op jouw afdeling? Welke kennis/vaardigheden heb jij nodig? Waar vind je de juiste informatie?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elke ziektebeelden spelen een rol?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oe kun jij een zv stimuleren tot bewegen?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elke wetten spelen een rol?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VRAGEN</a:t>
            </a:r>
            <a:r>
              <a:rPr b="0" lang="nl-NL" sz="4000" spc="-1" strike="noStrike">
                <a:solidFill>
                  <a:srgbClr val="000000"/>
                </a:solidFill>
                <a:latin typeface="Century Gothic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77" name="Picture 2" descr="3d mens met vraagteken Royalty-vrije Stock Afbeelding"/>
          <p:cNvPicPr/>
          <p:nvPr/>
        </p:nvPicPr>
        <p:blipFill>
          <a:blip r:embed="rId1"/>
          <a:stretch/>
        </p:blipFill>
        <p:spPr>
          <a:xfrm>
            <a:off x="3978360" y="2781360"/>
            <a:ext cx="205272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6377040" cy="129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PATHOLOGIE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68360" y="2421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rteriële insufficiëntie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15 – 20 %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(door bv. trombose, diabetes, roken )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neuze insufficiëntie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70 – 80 %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entury Gothic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763640" y="620640"/>
            <a:ext cx="6378480" cy="129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OORZAAK VENEUZE INSUFFICIËNTIE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68000" y="2349360"/>
            <a:ext cx="7164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Kleppen sluiten onvoldoende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neuze  spierpompfunctie is verminderd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eschadiging van de beenader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Gestoorde bloedafvoer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Slapte vaatwand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Overgewicht, familiair, veel staan/zitten, trombose, ulcus cruris venosum, zwangerschap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33" name="Afbeelding 1" descr=""/>
          <p:cNvPicPr/>
          <p:nvPr/>
        </p:nvPicPr>
        <p:blipFill>
          <a:blip r:embed="rId1"/>
          <a:stretch/>
        </p:blipFill>
        <p:spPr>
          <a:xfrm>
            <a:off x="6084720" y="1773360"/>
            <a:ext cx="2857680" cy="2438280"/>
          </a:xfrm>
          <a:prstGeom prst="rect">
            <a:avLst/>
          </a:prstGeom>
          <a:ln w="0">
            <a:noFill/>
          </a:ln>
        </p:spPr>
      </p:pic>
      <p:pic>
        <p:nvPicPr>
          <p:cNvPr id="434" name="Afbeelding 2" descr=""/>
          <p:cNvPicPr/>
          <p:nvPr/>
        </p:nvPicPr>
        <p:blipFill>
          <a:blip r:embed="rId2"/>
          <a:stretch/>
        </p:blipFill>
        <p:spPr>
          <a:xfrm>
            <a:off x="5651640" y="4869000"/>
            <a:ext cx="2689200" cy="20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71640" y="404640"/>
            <a:ext cx="6378480" cy="129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VERSCHIJNSELEN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519120" y="2276640"/>
            <a:ext cx="7283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Loom, zwaar en moe gevoel, krampen kui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Oedeem , vooral ‘s avonds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Spatader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ond (ulcus)meestal aan de buitenkant van de enkel, niet scherp begrensd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rkleuringen onderbeen, pigmentaties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Dunne witte plekken met daaromheen vuurrode puntvormige capillairen ( atrofie blanche)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37" name="Afbeelding 2" descr=""/>
          <p:cNvPicPr/>
          <p:nvPr/>
        </p:nvPicPr>
        <p:blipFill>
          <a:blip r:embed="rId1"/>
          <a:stretch/>
        </p:blipFill>
        <p:spPr>
          <a:xfrm>
            <a:off x="6249960" y="1341360"/>
            <a:ext cx="278604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Picture 4" descr="Scannen0002"/>
          <p:cNvPicPr/>
          <p:nvPr/>
        </p:nvPicPr>
        <p:blipFill>
          <a:blip r:embed="rId1"/>
          <a:stretch/>
        </p:blipFill>
        <p:spPr>
          <a:xfrm>
            <a:off x="5651640" y="836640"/>
            <a:ext cx="3025800" cy="5483160"/>
          </a:xfrm>
          <a:prstGeom prst="rect">
            <a:avLst/>
          </a:prstGeom>
          <a:ln w="0">
            <a:noFill/>
          </a:ln>
        </p:spPr>
      </p:pic>
      <p:pic>
        <p:nvPicPr>
          <p:cNvPr id="439" name="Afbeelding 1" descr=""/>
          <p:cNvPicPr/>
          <p:nvPr/>
        </p:nvPicPr>
        <p:blipFill>
          <a:blip r:embed="rId2"/>
          <a:stretch/>
        </p:blipFill>
        <p:spPr>
          <a:xfrm>
            <a:off x="179280" y="1773360"/>
            <a:ext cx="5311800" cy="39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229600" cy="103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COMPRESSIE THERAPIE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826920" y="1557000"/>
            <a:ext cx="6994800" cy="46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Doel: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-  druk van buitenaf geven;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oedeem snel en blijvend te laten verdwijnen;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Spierpompfunctie verbeteren;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-  bloed en lymfestroom versnellen;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kapotte kleppen ondersteunen;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-  toevoer van zuurstof en voedingsstoffen te verbeteren;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onderhuidse bloedingen te voorkomen of aanwezige onderhuidse bloedingen te stoppen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86920" y="333360"/>
            <a:ext cx="6378840" cy="129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CONTRA INDICATIES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95280" y="2349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rteriële insufficiëntie (etalagebenen)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fgesloten diep veneus systeem (DVT)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anwezige actieve huidaandoeningen (vaker dan 3x pw)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llergie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Cardiale klacht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979640" y="620640"/>
            <a:ext cx="69674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SYMPTOMEN VAN ARTERIËLE INSUFFICIËNTI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394920" y="2421000"/>
            <a:ext cx="795492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Koude, witte voeten en onderbenen, soms paarsrode of paarsblauwe verkleuring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s Nacht pijn in ben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Pijn in kuit bij lop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ondvorming, voorkant been, hiel of tenen, scherp begrensd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fwezigheid pulsaties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46" name="Afbeelding 2" descr=""/>
          <p:cNvPicPr/>
          <p:nvPr/>
        </p:nvPicPr>
        <p:blipFill>
          <a:blip r:embed="rId1"/>
          <a:stretch/>
        </p:blipFill>
        <p:spPr>
          <a:xfrm>
            <a:off x="5651640" y="4724280"/>
            <a:ext cx="2495520" cy="16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050560" y="620640"/>
            <a:ext cx="688356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AMBULANTE COMPRESSIE THERAPIE(ACT)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394920" y="2133720"/>
            <a:ext cx="6923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ij: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neuze insufficiëntie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Patiënt moet kunnen lop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erkdruk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D.m.v. korte rek zwachtels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49" name="Afbeelding 1" descr=""/>
          <p:cNvPicPr/>
          <p:nvPr/>
        </p:nvPicPr>
        <p:blipFill>
          <a:blip r:embed="rId1"/>
          <a:stretch/>
        </p:blipFill>
        <p:spPr>
          <a:xfrm>
            <a:off x="5502240" y="2581200"/>
            <a:ext cx="3218040" cy="32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1:02:01Z</dcterms:created>
  <dc:creator>Koopmans</dc:creator>
  <dc:description/>
  <dc:language>en-US</dc:language>
  <cp:lastModifiedBy>Limpt, Julian van</cp:lastModifiedBy>
  <cp:lastPrinted>2012-04-25T10:11:45Z</cp:lastPrinted>
  <dcterms:modified xsi:type="dcterms:W3CDTF">2019-10-22T13:01:54Z</dcterms:modified>
  <cp:revision>120</cp:revision>
  <dc:subject/>
  <dc:title>Zwachtelen en compressi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312C1C14FABDD54C92D826838356CFE8</vt:lpwstr>
  </property>
</Properties>
</file>