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6440" y="4686840"/>
            <a:ext cx="54111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2) Niet ambulante compressie therapi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, zorgvrager kan de spierpomp niet gebruiken ,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v. zitten in een rolstoel. 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ordt ook vaak gebruikt bij zorgvragers waarbij het verband verschoond moet worden, soms ook bij ambulante zorgvragers  bv. ulcera.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anneer de patiënt niet mobiel is, kan geen verbetering verwacht worden t.a.v. spiercontracties ; dan is een </a:t>
            </a:r>
            <a:r>
              <a:rPr b="0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elastisch verband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beter, omdat  er dan continue druk gegeven wordt. Langereks oefenen weinig druk uit bij het lopen en veel druk  uit in rust. = rustdruk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ordt gebruikt bij oedeemvorming in de onderbenen/voeten.  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ange-rek zwachtel wordt alleen overdag gedragen.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 de nacht worden  ze verwijderd en voor/bij het opstaan weer aangebracht, ze moeten dagelijks verwisseld worden. Kan eventueel na instructie door de zorgvrager zelf aangebracht wo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et fixeren van de zwachtels gebeurd met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chtpleister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, nooit met klemmetjes om verwonding te voork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dviseer de patiënt niet op sloffen/slippers te lopen, maar op schoenen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, i.v.m. dat de kuitspier niet optimaal gebruikt word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nk aan arbo richtlijnen! Zwachtels was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kle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ede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 u="sng">
                <a:solidFill>
                  <a:srgbClr val="000000"/>
                </a:solidFill>
                <a:uFillTx/>
                <a:latin typeface="Arial"/>
              </a:rPr>
              <a:t>Compressie therap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oel; druk van buitenaf te geven, oedeem snel en blijvend te laten verdwijnen en de bloed- en lymfestroom te verbeteren door de functie van de kapotte kleppen in de benen te ondersteune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7856-4C63-410A-996B-DBB8F5BB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B9AD-2C4D-40BC-A048-7530C0AC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0A8F1-F98A-4880-A8ED-F5DFA93A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50C85-E072-4106-8AAA-93D796C7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BB441-31CF-4054-8103-883B34E7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9183C-6E5C-434D-A939-FF73356E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133E3-19E2-4B60-AA6E-F443A608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D675A-4733-4E94-8AD9-6A2CF1B8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0545F-77FF-4D45-A991-FB018A4C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9D510-80BD-4A59-9E88-1A625EFF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B631D-0478-4118-A772-6BD27622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8120E-95A8-448E-895A-13FC2ADD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0A3D-FB4C-4322-BE3F-3A407D90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4E2E4-4C61-4AFD-ABE1-9733B520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EE9DD-00A5-43AE-BCA0-808FC541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59E04-559C-4711-88E1-E899F4EB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DF37E-E072-4F14-A074-42B47636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F30C0-9B79-49B3-8DFB-87A96806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B563A-A19C-4827-91DA-2BE20CE4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D527C-5152-4749-AE04-EDBBC5D3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4212A-140D-44B8-BB15-969B4B0B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989B1-832F-45E9-9335-FFE73D4B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FA413-9923-402B-BB43-E49DCCCC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9441-E725-4307-B767-7CA29E86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71A14-F9AB-4D39-87BE-BE31F568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8A21-5CCD-4759-9C26-EDA4B87F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02C0-373C-4A49-9CAC-479CB127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D076-F647-4BF8-B699-055B619A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0AA1-194C-47DF-A0A4-DD964B1F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026D-6A45-415A-80B1-4ABBA4BF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E66A-2202-4D57-BB0E-4D7CE3A0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7D34-CD84-4AEE-8F1E-EF7B4AE9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3F7C-37E5-42F7-A28F-B5BC2AA6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4161-C83A-49F5-93A7-FEABA62E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81E0-CF18-4AA7-A7BB-F000E2CB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92A7-5E8D-4103-A575-EACF53F3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8150-E77E-4646-B74D-FE1E429C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96B8-8056-45E1-8AF8-783771D56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176F3-B2CC-4ECD-8161-A3454595A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1C439-C24C-4F81-8405-CE57CC03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7EFA0-FA86-4CEC-99FD-6A2C70F7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3E436-D700-4FDA-B1EC-F94292F9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08769-86DF-43D8-ACAE-EDDB75D2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9B8C-2F5C-46E0-B373-5A0E9390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DD99D-B145-4D36-AAB9-796C48D2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99590-CFA4-412A-8AD9-8B741FA2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CD44E-0052-43C4-AD60-5A3FB81A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352D9-F52C-402B-B3B7-FA3611FE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E0A5F-0FB5-4B8D-873F-1F5D372E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43579-7AC9-44BE-909D-AF8A79B4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F30BC-94A4-4F37-9878-C2C83705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DA465-8D41-47C4-B8C5-6F59DBEB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69417-E30C-4BB5-AC39-A62D4480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E8309-B903-4958-9795-6BF76167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6015-763F-47C0-A404-25B59EC8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5656A-DB0A-45C4-9A16-39486DDD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DC8B0-5738-4BD6-8FBA-17277810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5A1A7-57F1-4374-B6AE-6E20226D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1F01C-4577-4A2F-A565-51F37979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52BAE-AD35-4082-A1F4-19E412D0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54724-E7D2-405B-8859-AB2643B8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D0C65-B819-46DC-8494-82C7E59C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7419E-6C8A-4DF2-8AD9-6BFE5FFC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0D690-F444-45B4-B026-8EDDF9E3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8D961-4286-4106-8052-36FED833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6233-19FD-4082-9DD0-908328D8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49777-E4DD-4411-9BDE-02DD8556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50C7F-F520-40A8-A6D9-5E40B3EC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2B6B1-6408-4F74-AB8B-526A9CCF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C84A2-C7D9-47EE-A5BD-AA56D508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85F60-B3FC-42B3-938A-90B56DA6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1F5D9-0826-4ED1-A28D-B979AE23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83067-19AD-4960-A186-06052324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BC5F8-620D-44A1-B313-566E55FC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C6AFC-D296-4862-B993-E089BBCF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20178-0291-49A1-9C32-E88F6DE3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EDA9-5C7A-4D9A-8293-C87DE5CA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D931E-6A1A-42E0-BE32-C749BCE0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BFEBF-43C1-4AC0-853F-43637236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6B438-12F1-4AAA-835B-6470AA63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7B4FC-735E-4098-87D5-57E5A3B4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73CBF-AC14-4B7A-939B-CA374AD4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804F8-C5DE-43A2-BFDC-6208EB6B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11B66-D94D-4922-952A-C894714A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988C0-B33B-4DEC-97FB-AB10FBB5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2CA1C-A31E-4311-8256-9E606E36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71E5A-290F-4339-B46E-413A0BA1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7F79-46B4-4D5E-8250-FCDEBA5C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DCED9-29D2-4029-B842-C975A6F4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0AA81-9129-4CBB-BB36-5BDC1DC4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9EB0C-5FDE-41AC-B08C-34C8449A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26F55-20A5-468D-A8FB-A45B57F4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61FE5-B97F-4691-BF7D-CEDD5B8C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F8419-60DF-4F5D-90F0-F46BB395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09762-EDB7-431B-B2CD-49E63E79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F79B5-70BB-460C-B749-087BCBDB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CBC70-1FAC-4DAC-9A1E-77DFC888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AC607-11C9-4A63-8774-B574B156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009F-35C2-482E-998B-2BE20EB7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C869C-A718-446D-BDE1-EB0B5245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CDD21-C818-4494-8EF6-CA2E5B30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4A778-3132-423E-B320-82588D91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4394C-EC57-4253-BCC1-C0F44DF8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67CD7-5977-40B6-87A3-FD7BD224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32D64-F3F5-42E5-97A0-F839F6D96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0F721-5D9D-4F81-8C8C-BCA7F90B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CD7FD-C0B3-4908-BD4F-6AD5FBFB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08115-9E17-4FA1-BFE0-1F9A03AF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9D38A-2442-4D77-B32D-8B3308D5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348F-3FB5-4118-AE5E-52D176DD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F044B-FD27-4386-8AE9-766B92F9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CC3A1-9DA2-418A-B7EC-165B6EB6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6007A-4833-4ADF-8D9F-A517BE23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61299-D034-4B06-9C7B-C61ABDA7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83379-7509-414B-B597-9868EFE2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D5CE0-4949-4B05-86EE-1D34C3EB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49719-ACE6-47F8-AD5D-AED3B149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001A8-7402-4038-8D1C-861B91BB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E688C-A6E5-491C-A743-4C6867B4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80670-287A-49BB-A2EF-D1B22957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D3386-C864-4172-AA27-2D64C10E1CCD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C7EE11-6681-449F-99DB-F90804DD0123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2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3ACA0F-A785-403E-8D81-5FC6898F158A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EEEF2C-1E2E-4029-922D-D5A6C960025D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964CD5-FEE3-4380-9963-80A771375D77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59F448-A3F5-4838-A392-A28ACA93F17D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07675-8503-420F-BEF6-4C4417D0E625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594992-02FD-4A72-B562-219BA0F4FEBD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4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96" name="TextBox 12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4F59A-B589-4C68-ABC8-8AA0F53FF0EF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C059F7-8C11-4B96-9776-FA9208EBB96E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-244440" y="2042640"/>
            <a:ext cx="95616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MODULE 8: VERPLEEGTECHNISCH HANDELEN 1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510920" y="4152600"/>
            <a:ext cx="604836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  <a:ea typeface="Arial"/>
              </a:rPr>
              <a:t>Lesweek 8: compressietherapie</a:t>
            </a:r>
            <a:endParaRPr b="0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8" name="Afbeelding 3" descr=""/>
          <p:cNvPicPr/>
          <p:nvPr/>
        </p:nvPicPr>
        <p:blipFill>
          <a:blip r:embed="rId1"/>
          <a:stretch/>
        </p:blipFill>
        <p:spPr>
          <a:xfrm>
            <a:off x="6492960" y="1181160"/>
            <a:ext cx="21668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050560" y="620640"/>
            <a:ext cx="688356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AMBULANTE COMPRESSIE THERAPIE(ACT)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68000" y="2205000"/>
            <a:ext cx="6923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ij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neuze insufficiënti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atiënt moet kunnen lop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rkdruk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.m.v. korte rek zwachtel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763280" y="620280"/>
            <a:ext cx="72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BENODIGDHEDEN /MATERIAL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84360" y="2276640"/>
            <a:ext cx="720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uisverban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olstermateriaa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Minimaal 2 korte- rek zwachtel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echtmateriaal(geen haakjes i.v.m. huidbeschadiging maar pleister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64260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ECHNIEK, AANDACHTSPUNT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294840" y="1746360"/>
            <a:ext cx="73947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ag en nacht worden gedrage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1 keer per week verwissele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et in flex stand, 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el goed inpakke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ten bij teenbasis boven op voe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wachtel dicht op de huid afrollen, been volgen altijd in de zwachtel kijke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wachtel been volgend, tegengesteld aanbrengen, vult de gaten op van de eerste zwacht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0" name="Picture 5" descr="Scannen0001"/>
          <p:cNvPicPr/>
          <p:nvPr/>
        </p:nvPicPr>
        <p:blipFill>
          <a:blip r:embed="rId1"/>
          <a:stretch/>
        </p:blipFill>
        <p:spPr>
          <a:xfrm>
            <a:off x="6486480" y="2081160"/>
            <a:ext cx="240660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835280" y="47628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NIET AMBULANTE COMPRESSIE THERAPI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84360" y="2133720"/>
            <a:ext cx="706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ij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atiënt kan spierpomp niet gebruik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Immobiele patiënt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neuze inefficiënti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arbij het verband verschoond moet word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agelijks verwissel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Rustdruk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.m.v. Lange-rek zwacht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637704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DAUERBIN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Zware kwaliteit zwacht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angerek,  elastisch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ak is de patiënt is immobi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ntinue wordt er druk gegev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lleen overdag gedra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Na instructie, soms zelf aanbre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Fixatie met pleiste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ak bij oedeem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03280" y="40464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COMPLICATIES NA ZWACHTEL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0920" y="2133720"/>
            <a:ext cx="82803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rritatie van de huid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etoedeem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nsteroedeem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ij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fzakken verband,onvoldoende spierpomp ondersteunin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wachtelstriemen, insnoeren van verband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laren, ulcera of oedeem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kleuren tene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79640" y="47628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BEGELEIDING AC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68000" y="2276640"/>
            <a:ext cx="64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andacht, begrip, tijd en ruimte geven voor verandering, informer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rocedure zorgverleningsproc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andachtspunten na aanbrengen zwachtels: bewegen, schoeisel, huid- en nagelverzorging, optimale voeding (eiwit en energie), pij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763640" y="476280"/>
            <a:ext cx="63770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ONTWIKKELING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50920" y="2205000"/>
            <a:ext cx="757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ban zwachtel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ites: WCS, CBO-richtlijnen, kennisorganisatie TNO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Farrow Wrap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Juxta-lit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UrgoK2 compressiesysteem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EN NU DE DE PRAKTIJK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579240" y="2276640"/>
            <a:ext cx="705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at betekent ACT voor jou op jouw afdeling? Welke kennis/vaardigheden heb jij nodig? Waar vindt je informatie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lke ziektebeelden spelen een rol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Hoe kun jij een zv stimuleren tot bewegen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lke wetten spelen een rol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VRAGEN</a:t>
            </a:r>
            <a:r>
              <a:rPr b="0" lang="nl-NL" sz="40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65" name="Picture 2" descr="3d mens met vraagteken Royalty-vrije Stock Afbeelding"/>
          <p:cNvPicPr/>
          <p:nvPr/>
        </p:nvPicPr>
        <p:blipFill>
          <a:blip r:embed="rId1"/>
          <a:stretch/>
        </p:blipFill>
        <p:spPr>
          <a:xfrm>
            <a:off x="3978360" y="2781360"/>
            <a:ext cx="20527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637704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PATHOLOGI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rteriële insufficiëntie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5 – 20 %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(door bv. trombose, diabetes, roken )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neuze insufficiëntie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70 – 80 %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763640" y="62064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OORZAAK VENEUZE INSUFFICIËNTI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68000" y="2349360"/>
            <a:ext cx="71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leppen sluiten onvoldoend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neuze  spierpompfunctie is verminder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eschadiging van de beenader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stoorde bloedafvoe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lapte vaatwan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vergewicht, familiair, veel staan/zitten, trombose, ulcus cruris venosum, zwangerschap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VERSCHIJNSEL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519120" y="2276640"/>
            <a:ext cx="728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oom, zwaar en moe gevoel, krampen kui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edeem , vooral ‘s avond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atader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ond (ulcus)meestal aan de buitenkant van de enkel, niet scherp begrens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kleuringen onderbeen, pigmentati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unne witte plekken met daaromheen vuurrode puntvormige capillairen ( atrofie blanche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4" descr="Scannen0002"/>
          <p:cNvPicPr/>
          <p:nvPr/>
        </p:nvPicPr>
        <p:blipFill>
          <a:blip r:embed="rId1"/>
          <a:stretch/>
        </p:blipFill>
        <p:spPr>
          <a:xfrm>
            <a:off x="3132000" y="620640"/>
            <a:ext cx="3025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COMPRESSIE THERAPI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826920" y="1988640"/>
            <a:ext cx="69948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oel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 druk van buitenaf geven,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edeem snel en blijvend te laten verdwijn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erpompfunctie verbeter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 bloed en lymfestroom versnell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 kapotte kleppen ondersteun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8000" y="549360"/>
            <a:ext cx="8229600" cy="10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COMPRESSIE THERAPIE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94920" y="1989000"/>
            <a:ext cx="67071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oel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-  toevoer van zuurstof en voedingsstoffen te verbeter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nderhuidse bloedingen te voorkomen of aanwezige onderhuidse bloedingen te stopp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86920" y="333360"/>
            <a:ext cx="637884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CONTRA INDICATIES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95280" y="227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rteriële insufficiënti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gesloten diep veneus systeem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anwezige actieve huidaandoeni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llergi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ardiale klacht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79640" y="620640"/>
            <a:ext cx="69674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SYMPTOMEN VAN ARTERIËLE INSUFFICIËNTI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94920" y="2421000"/>
            <a:ext cx="7954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oude, witte voeten en onderbenen, soms paarsrode of paarsblauwe verkleurin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 Nacht pijn in ben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ijn in kuit bij lop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ondvorming, voorkant been, hiel of tenen, scherp begrens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wezigheid pulsaties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1:02:01Z</dcterms:created>
  <dc:creator>Koopmans</dc:creator>
  <dc:description/>
  <dc:language>en-US</dc:language>
  <cp:lastModifiedBy>Maessen, Joyce</cp:lastModifiedBy>
  <cp:lastPrinted>2012-04-25T10:11:45Z</cp:lastPrinted>
  <dcterms:modified xsi:type="dcterms:W3CDTF">2018-04-18T09:00:34Z</dcterms:modified>
  <cp:revision>105</cp:revision>
  <dc:subject/>
  <dc:title>Zwachtelen en compressie</dc:title>
</cp:coreProperties>
</file>