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6440" y="4686840"/>
            <a:ext cx="5411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2) Niet ambulante compressie therapi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zorgvrager kan de spierpomp niet gebruiken ,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v. zitten in een rolstoel.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ook vaak gebruikt bij zorgvragers waarbij het verband verschoond moet worden, soms ook bij ambulante zorgvragers  bv. ulcera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nneer de patiënt niet mobiel is, kan geen verbetering verwacht worden t.a.v. spiercontracties ; dan is een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elastisch verban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er, omdat  er dan continue druk gegeven wordt. Langereks oefenen weinig druk uit bij het lopen en veel druk  uit in rust. = rustdru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gebruikt bij oedeemvorming in de onderbenen/voeten. 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ge-rek zwachtel wordt alleen overdag gedragen.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de nacht worden  ze verwijderd en voor/bij het opstaan weer aangebracht, ze moeten dagelijks verwisseld worden. Kan eventueel na instructie door de zorgvrager zelf aangebracht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fixeren van de zwachtels gebeurd met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chtpleiste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nooit met klemmetjes om verwonding te voork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viseer de patiënt niet op sloffen/slippers te lopen, maar op scho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i.v.m. dat de kuitspier niet optimaal gebruik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nk aan arbo richtlijnen! Zwachtels wa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kle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ede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Compressie thera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l; druk van buitenaf te geven, oedeem snel en blijvend te laten verdwijnen en de bloed- en lymfestroom te verbeteren door de functie van de kapotte kleppen in de benen te ondersteun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ep veneuze tromb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Etalageb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 is een vaatziekte. De slagaderen in uw been zijn vernauwd. Deze ziekte veroorzaakt pijn, kramp of een doof/moe gevoel in uw bee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FBE-B92C-45A7-A341-E5C80E9D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468-6239-4023-BDCF-AF4049F6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45294-4548-40C2-B982-0653D27D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1F7E4-8294-4CA2-9E51-9F8B826D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07116-7A42-4BBA-B697-A4D70DB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94719-0545-4405-9C39-03CC9B0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52552-82C4-4D92-BC6C-5028B23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514C5-8A95-4AF0-96C3-86213EA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5B7C5-BD73-4794-9A9B-9DB3989F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E8ED2-9FD4-4332-97CD-C70F2585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557BD-B7D3-4631-A60F-565D7B4C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D13CE-5798-4D5B-9A63-70AAF103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A2C-CC72-44E9-9B2A-835FE582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AF8C8-9A30-4630-A2ED-E104F5BE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19029-AE07-4BEE-AD6B-21C85CBB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B0E23-11F6-412A-BE62-E6905917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B69AD-0A6F-44CF-B1E2-73DEC34E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FF5B-1FA8-4244-8FB4-045A41CD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9C377-1F16-4CA9-8B24-7669AA6D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5A6A9-C3DB-4E9B-9649-0E11479A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028F3-8B29-4D4D-9EDC-D1CBFCB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797E3-77E0-4149-839C-0EA2C010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B2903-6F90-4C0F-B133-F63A9DCA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0C3-C0B0-43DC-9758-97374F34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4C7B1-7F94-435C-B4B3-4A26E242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958D-E68D-4398-8493-F74392FE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36CA-F372-40E0-A347-FB0C0A5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65EA-0EF9-4A9B-A9DE-0FE1E5B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BF5D-9831-4937-BFAC-DA57ADCF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5479-7813-46EB-8F14-F3323DC2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F772-6E3A-4F59-8202-B0D3BFC6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FF7A-5F7E-4FE5-B041-CA37B8D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3CB-4753-4BE4-8034-06BC578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F99A-5583-492A-AFCD-926A211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219F-053B-4826-996C-79BFB92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B022-FACB-4717-8446-965CA1B0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C7E1-E6C0-49EC-8070-1B4DA8F3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761D-DA52-4FD2-A964-6CBF270E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C8D4-732A-4E1B-89D4-4117350A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9948-387B-4490-B54A-49DB47AC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AAA3-6828-4204-BA8D-C9A0C958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7159-CFED-4533-A845-3242F69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80389-8B21-4F99-B626-9213158F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621-5BB9-41D8-AAEC-33FC170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E433-EB44-42FA-8080-23C5CE39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B8CC-B0D5-4D81-8ABB-41E1CA23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52F4D-9430-4B7E-89F2-E7507F8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4EA63-7300-42B3-A9A5-2E9B5765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5449-9157-41B1-A731-21EB8B58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B0E5-9FFD-45D6-B4A8-3C4E7A17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9CB05-299C-4AC5-8425-644CEACE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C9D68-0772-44C3-BED2-3E043403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5EE36-D1BF-4F7A-9635-2704F34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687F-DAD6-49EE-A694-2E88C4A6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0C0-6E14-4917-8B35-9B92D20E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AA875-3198-437C-A3AB-FB629D3F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9663-F7E0-4924-A555-DD984221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447D-A3E5-4355-B7D5-30550203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D87F-4978-4D98-9BF0-BE4457A0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159B-CB6B-40E4-B9D7-4DD5F8A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927FF-E743-4045-8722-C892274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9D29F-B2A1-40C1-9E82-DE6009AD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013D0-9695-4BFC-8BDC-5FAE715E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8D40-8217-442D-B669-FDC34BF5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E559-6C01-4217-B02E-4DFE9014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350-B725-4DC0-A4DA-D3180E44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FA35-9B6F-47E3-A146-5AC90839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7C171-34E6-434D-A356-4750120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E358-6A11-465B-BB46-40FCC0B4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4D77D-B1A1-4A1D-A54F-F3C73BFE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40CE-98A5-4B42-A96B-BC1118AC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284A-8BBF-4DD6-A133-CBE1DDE3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16D4-B06C-4829-84F1-98E1CF23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1FBC5-6DE2-45D2-A384-EBBD36E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D8EE-ECFC-46C5-8B67-DE3E377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ACB1-B27D-4866-A30B-51DF2583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7C5-C309-4E1A-8D28-B7731723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A132-DE08-46D7-8402-3BB3A2F5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E6E0E-A22D-4568-9DD5-047538CA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03B98-B5EE-4CD8-ABCC-0D79FC56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EBF38-130F-4DA7-84CB-73DDB2AE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450FB-EFFD-4E29-86D3-05550745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96C43-2E8C-435D-B515-21EA1CD9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8050A-E0B9-4A6B-A1F6-66BC1535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57B1-3454-48FD-A865-706A155E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6DF5-FF96-409A-9512-67B7180E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F65D2-03A4-4496-9B95-04E074A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F4E-F769-4734-B6AB-659DCDDB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9C3AD-8104-420B-BE1C-5B230AA7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71B27-BD8C-4857-A28D-F39E70F5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FE66-DA0E-4669-8F32-66F6393F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C7F6F-1188-47C9-8F89-B4EB9253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898A-986C-48B8-9518-0C5499B0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C98C3-B868-490F-8D3D-FC4342E5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EC14B-F1A1-4C4F-820B-CC20549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368E2-D716-4F67-81C1-99B42B53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DEB6E-E707-43FF-8421-D4ABCE62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77C6B-718F-49AB-8FD7-5CE3C90E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4736-7774-471D-A093-EC1BEDB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95E4-8403-4265-AACB-F7BE0B76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66F3E-81D8-4FAE-AEAD-90AFF9D9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5008F-D173-4A66-A0FD-391D82F4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BCD2-08D4-4AC6-8DED-C81BE265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E0F89-8E98-42AA-8C06-7A9AAA62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5D2E-2130-45AD-8CE2-3FA1EC21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3B796-4AF6-4CBD-8D96-26DA024A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B64C5-1AC1-4478-A660-B608E855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55FFF-DB44-4D54-A1A6-4EA966D3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F2B29-781E-404E-981A-52EB4DEE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EA4-95C4-437C-8E25-9A673B89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920D-C14D-421E-974F-B325854A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A8F7C-E677-4EF6-BFE5-C273342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CF4F7-8749-4821-86B0-21282F6A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07BA3-9B67-4499-9F3A-0A0652A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B299C-0163-44D4-99FD-58ED979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2819D-2192-4ED0-B05F-2F4E93A1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ED825-4F3D-444C-B11F-BD2EFB77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DA606-9076-4DF4-AB84-2007AD1B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B0AF-3CB4-421A-868A-84BFAA75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DBF27-D038-4488-97A0-5D2AE5BC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42DD5-B28E-490D-9EFB-8C54D0D36159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E481A-6974-4239-8032-32BC9E97EBC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D7C84-EB22-47E5-9D61-9C08F6AACD8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EC5EB8-35E4-45F6-AFF6-8474743EA976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2B783-D99D-408F-8222-59694C21ED0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0EFE-BDC5-435D-86D0-D33A55C0BAD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F7F331-8E10-418F-A994-7E47C4CFB1BF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85F67-8FBE-4825-80B6-7C80C256959B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C17CC-83D9-4F9D-B220-17C3FD86C290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3B063-C659-47B1-A55F-A8D55CC7665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244440" y="2042640"/>
            <a:ext cx="9561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ODULE 8: VERPLEEGTECHNISCH HANDELE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10920" y="4152600"/>
            <a:ext cx="604836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  <a:ea typeface="Arial"/>
              </a:rPr>
              <a:t>Lesweek 8: compressietherapi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6492960" y="1181160"/>
            <a:ext cx="2166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NODIGDHEDEN MATERIA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55280" y="213372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isverb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lstermateriaa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nimaal 2 korte-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chtmateriaal(geen haakjes i.v.m. huidbeschadiging maar pleis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ECHNIEK, AANDACHTS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94840" y="1746360"/>
            <a:ext cx="73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 en nacht worden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 keer per week verwissel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t in flex stand, 9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iel goed inpa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tarten bij teenbasis boven op voe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wachtel dicht op de huid afrollen, been volgen altijd in de zwachtel kijk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zwachtel been volgend, tegengesteld aanbrengen, vult de gaten op van de eerste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9kZ5MQB4waw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4" name="Picture 5" descr="Scannen0001"/>
          <p:cNvPicPr/>
          <p:nvPr/>
        </p:nvPicPr>
        <p:blipFill>
          <a:blip r:embed="rId1"/>
          <a:stretch/>
        </p:blipFill>
        <p:spPr>
          <a:xfrm>
            <a:off x="6486480" y="2081160"/>
            <a:ext cx="2406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NIET AMBULANTE 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84360" y="213372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kan spierpomp niet gebrui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mmobiele patiën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e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arbij het verband verschoond moet wor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elijks verwissel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ustdruk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Lange-rek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7" name="Afbeelding 1" descr=""/>
          <p:cNvPicPr/>
          <p:nvPr/>
        </p:nvPicPr>
        <p:blipFill>
          <a:blip r:embed="rId1"/>
          <a:stretch/>
        </p:blipFill>
        <p:spPr>
          <a:xfrm>
            <a:off x="5584680" y="398304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AUERBIN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ware kwaliteit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ngerek,  elastisc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is de patiënt is immob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ntinue wordt er druk gegev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en overdag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a instructie, soms zelf aanbre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ixatie met pleist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bij oed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0" name="Afbeelding 1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3560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ES NA ZWACHT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10920" y="213372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rritatie van de hui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t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nster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zakken verband,onvoldoende spierpomp ondersteu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chtelstriemen, insnoeren van verba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laren, ulcera of oedee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leuren ten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5724360" y="4162320"/>
            <a:ext cx="3308400" cy="2479680"/>
          </a:xfrm>
          <a:prstGeom prst="rect">
            <a:avLst/>
          </a:prstGeom>
          <a:ln w="0">
            <a:noFill/>
          </a:ln>
        </p:spPr>
      </p:pic>
      <p:pic>
        <p:nvPicPr>
          <p:cNvPr id="464" name="Afbeelding 2" descr=""/>
          <p:cNvPicPr/>
          <p:nvPr/>
        </p:nvPicPr>
        <p:blipFill>
          <a:blip r:embed="rId2"/>
          <a:stretch/>
        </p:blipFill>
        <p:spPr>
          <a:xfrm>
            <a:off x="4751280" y="169704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GELEIDING AC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68000" y="227664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, begrip, tijd en ruimte geven voor verandering, inform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rocedure zorgverlen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na aanbrengen zwachtels: bewegen, schoeisel, huid- en nagelverzorging, optimale voeding (eiwit en energie),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3770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NTWIKKELING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50920" y="22050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ban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ites: WCS, CBO-richtlijnen, kennisorganisatie TN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arrow Wr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uxta-li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rgoK2 compressiesysteem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9" name="Afbeelding 3" descr=""/>
          <p:cNvPicPr/>
          <p:nvPr/>
        </p:nvPicPr>
        <p:blipFill>
          <a:blip r:embed="rId1"/>
          <a:stretch/>
        </p:blipFill>
        <p:spPr>
          <a:xfrm>
            <a:off x="5724360" y="4549680"/>
            <a:ext cx="2310120" cy="2311560"/>
          </a:xfrm>
          <a:prstGeom prst="rect">
            <a:avLst/>
          </a:prstGeom>
          <a:ln w="0">
            <a:noFill/>
          </a:ln>
        </p:spPr>
      </p:pic>
      <p:pic>
        <p:nvPicPr>
          <p:cNvPr id="470" name="Afbeelding 4" descr=""/>
          <p:cNvPicPr/>
          <p:nvPr/>
        </p:nvPicPr>
        <p:blipFill>
          <a:blip r:embed="rId2"/>
          <a:stretch/>
        </p:blipFill>
        <p:spPr>
          <a:xfrm>
            <a:off x="7335720" y="2070000"/>
            <a:ext cx="1827360" cy="2262240"/>
          </a:xfrm>
          <a:prstGeom prst="rect">
            <a:avLst/>
          </a:prstGeom>
          <a:ln w="0">
            <a:noFill/>
          </a:ln>
        </p:spPr>
      </p:pic>
      <p:pic>
        <p:nvPicPr>
          <p:cNvPr id="471" name="Afbeelding 5" descr=""/>
          <p:cNvPicPr/>
          <p:nvPr/>
        </p:nvPicPr>
        <p:blipFill>
          <a:blip r:embed="rId3"/>
          <a:stretch/>
        </p:blipFill>
        <p:spPr>
          <a:xfrm>
            <a:off x="0" y="0"/>
            <a:ext cx="2411280" cy="2058840"/>
          </a:xfrm>
          <a:prstGeom prst="rect">
            <a:avLst/>
          </a:prstGeom>
          <a:ln w="0">
            <a:noFill/>
          </a:ln>
        </p:spPr>
      </p:pic>
      <p:pic>
        <p:nvPicPr>
          <p:cNvPr id="472" name="Afbeelding 6" descr=""/>
          <p:cNvPicPr/>
          <p:nvPr/>
        </p:nvPicPr>
        <p:blipFill>
          <a:blip r:embed="rId4"/>
          <a:stretch/>
        </p:blipFill>
        <p:spPr>
          <a:xfrm>
            <a:off x="4357800" y="3092400"/>
            <a:ext cx="23810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N NU DE DE PRAKTIJ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79240" y="227664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betekent ACT voor jou op jouw afdeling? Welke kennis/vaardigheden heb jij nodig? Waar vind je de juiste informatie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ziektebeeld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kun jij een zv stimuleren tot bewege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wett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7" name="Picture 2" descr="3d mens met vraagteken Royalty-vrije Stock Afbeelding"/>
          <p:cNvPicPr/>
          <p:nvPr/>
        </p:nvPicPr>
        <p:blipFill>
          <a:blip r:embed="rId1"/>
          <a:stretch/>
        </p:blipFill>
        <p:spPr>
          <a:xfrm>
            <a:off x="3978360" y="2781360"/>
            <a:ext cx="2052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PATHOLOG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5 – 20 %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door bv. trombose, diabetes, roken 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70 – 80 %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ORZAAK VENEUZE INSUFFICIËNT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000" y="2349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ppen sluiten onvoldoend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 spierpompfunctie is verminder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adiging van de been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stoorde bloedafvo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lapte vaatw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vergewicht, familiair, veel staan/zitten, trombose, ulcus cruris venosum, zwangersch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3" name="Afbeelding 1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57680" cy="2438280"/>
          </a:xfrm>
          <a:prstGeom prst="rect">
            <a:avLst/>
          </a:prstGeom>
          <a:ln w="0">
            <a:noFill/>
          </a:ln>
        </p:spPr>
      </p:pic>
      <p:pic>
        <p:nvPicPr>
          <p:cNvPr id="434" name="Afbeelding 2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689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ERSCHIJNS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19120" y="227664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om, zwaar en moe gevoel, krampen ku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, vooral ‘s avo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at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 (ulcus)meestal aan de buitenkant van de enkel, niet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kleuringen onderbeen, pigment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unne witte plekken met daaromheen vuurrode puntvormige capillairen ( atrofie blanch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7" name="Afbeelding 2" descr=""/>
          <p:cNvPicPr/>
          <p:nvPr/>
        </p:nvPicPr>
        <p:blipFill>
          <a:blip r:embed="rId1"/>
          <a:stretch/>
        </p:blipFill>
        <p:spPr>
          <a:xfrm>
            <a:off x="6249960" y="1341360"/>
            <a:ext cx="2786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Scannen0002"/>
          <p:cNvPicPr/>
          <p:nvPr/>
        </p:nvPicPr>
        <p:blipFill>
          <a:blip r:embed="rId1"/>
          <a:stretch/>
        </p:blipFill>
        <p:spPr>
          <a:xfrm>
            <a:off x="5651640" y="836640"/>
            <a:ext cx="3025800" cy="5483160"/>
          </a:xfrm>
          <a:prstGeom prst="rect">
            <a:avLst/>
          </a:prstGeom>
          <a:ln w="0">
            <a:noFill/>
          </a:ln>
        </p:spPr>
      </p:pic>
      <p:pic>
        <p:nvPicPr>
          <p:cNvPr id="439" name="Afbeelding 1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31180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6920" y="1557000"/>
            <a:ext cx="699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druk van buitenaf gev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snel en blijvend te laten verdwijn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pompfunctie verbeter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bloed en lymfestroom versnell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apotte kleppen ondersteun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toevoer van zuurstof en voedingsstoffen te verbeteren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huidse bloedingen te voorkomen of aanwezige onderhuidse bloedingen te stopp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3788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NTRA INDICA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528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 (etalagebenen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gesloten diep veneus systeem (DVT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wezige actieve huidaandoeningen (vaker dan 3x pw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rg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ardiale kla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674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YMPTOMEN VAN ARTERIËLE INSUFFICIËNTI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4920" y="242100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, witte voeten en onderbenen, soms paarsrode of paarsblauwe verkleur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 Nacht pijn in be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 in kuit bij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vorming, voorkant been, hiel of tenen,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wezigheid pulsati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6" name="Afbeelding 2" descr=""/>
          <p:cNvPicPr/>
          <p:nvPr/>
        </p:nvPicPr>
        <p:blipFill>
          <a:blip r:embed="rId1"/>
          <a:stretch/>
        </p:blipFill>
        <p:spPr>
          <a:xfrm>
            <a:off x="5651640" y="4724280"/>
            <a:ext cx="24955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883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AMBULANTE COMPRESSIE THERAPIE(ACT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94920" y="213372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moet kunnen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dru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korte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9" name="Afbeelding 1" descr=""/>
          <p:cNvPicPr/>
          <p:nvPr/>
        </p:nvPicPr>
        <p:blipFill>
          <a:blip r:embed="rId1"/>
          <a:stretch/>
        </p:blipFill>
        <p:spPr>
          <a:xfrm>
            <a:off x="5502240" y="2581200"/>
            <a:ext cx="32180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1:02:01Z</dcterms:created>
  <dc:creator>Koopmans</dc:creator>
  <dc:description/>
  <dc:language>en-US</dc:language>
  <cp:lastModifiedBy>Limpt, Julian van</cp:lastModifiedBy>
  <cp:lastPrinted>2012-04-25T10:11:45Z</cp:lastPrinted>
  <dcterms:modified xsi:type="dcterms:W3CDTF">2019-10-22T13:01:54Z</dcterms:modified>
  <cp:revision>120</cp:revision>
  <dc:subject/>
  <dc:title>Zwachtelen en compressi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