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5F8-CE98-4238-AE16-73743AF2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8CE-2DC1-4EDA-A497-8B8BC1E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FDC49-26D2-4936-B9F1-C8AA571D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26568-37A8-4E6A-AE4E-757B3643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6C599-C88D-406A-8475-ED9E281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21148-7F38-4F72-AF02-7E68272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A48A6-58AB-4D73-AD80-2ADF555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FF593-84F2-40B8-A7DA-554D4C2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32CEF-1EAC-4BF3-A9AB-CABD8CB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BD28-13A5-4A49-95FE-03B61CAE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FD4FC-F379-460E-AC86-CC51375B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62A22-DAB6-431B-BBFC-667D65A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C4-B9C6-4396-8568-B1F04765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213F4-0BBA-43D7-ACC7-B72AB21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1E6B5-D6B8-4387-8637-880FF52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6E02D-8457-4332-9704-24724B9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49CFC-4974-407D-91EE-0C05BA1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20C1C-20B6-4BC5-B30F-2713BBE7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5EB05-B47E-4300-BA14-84F8917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3B260-5A68-441C-AA14-A5CCE8E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E0F86-AE9B-43D6-8168-DC3443E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ED2CC-54C6-4426-8490-B9D0B5CB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D0ED5-CE49-4F91-A857-9A03386B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30-3AC8-4385-A307-1D6B1757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94EF8-FF8D-47AC-B6CF-FB2E287C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3190-ED0D-4525-A4E0-9C423702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4D12-C52A-4083-A28C-D97E9FE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D6B7-2B0F-45CD-85D6-B3806FE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AEE-6D33-4E65-96AA-D9552D0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5E37-AC0C-48E2-866F-AB07F91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A1F8-E25F-4CE6-B18F-9D120406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D014-AD29-4A0C-98D3-06DD410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A66-2EE0-437F-A90F-A308EDD6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323-B0E6-49C2-9B60-9658792D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15AF-93D8-476C-B8DC-5E93DAC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9339-1ECE-49DD-B9C0-49136609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6648-A21C-4138-B9FB-32D57406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7358-6036-4504-97C8-39F574B1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35CB-3D1E-4BDD-A620-6FFD6729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B515-5B23-42D3-BD00-6A8CDA6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A5C5-9DB2-4A7D-9FE4-12F4E13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2200-C7D8-4146-A806-D702B02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121E-BC21-419D-9491-EB85EF31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8FE-2114-46E2-82AC-ECC709C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436D-821F-45EC-9FC1-D66D90B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950C-68D1-4020-B3FE-4CC3527D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0D95-8CDF-4F5D-9A00-A1DAE23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0762-0E92-405F-9C91-DDF85B6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70DB-6897-48DE-8BAA-6C49B62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FCD7-0841-467D-9B7F-361C44A2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0068-2B2C-4365-8B34-1805FBD8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7D95-3213-4D65-8F09-CFF719AE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14F9-F34C-4DE7-A120-CDE4FD19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C8C0-260A-47C6-BD17-6B08F92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709-6459-46D7-887F-6D34B4EB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63E3-B109-4584-AD8D-FEE4812A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BAE8-11DF-4984-9B24-B5287D26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7C35-6979-45FB-9536-2A13F9A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99B5-4941-446C-9BE2-666EE8B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38B1-1F4E-415A-81A6-0FB392F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E1E5-C1AD-4DF5-B57D-23CC5FF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DC12-B371-4859-B6BB-1C1AC99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4785-06DC-4CEF-AB49-46FFB83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2877-1E11-487E-A844-05DC2DA9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DBFB-AE13-4C84-954F-2B60021E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343-C28B-44E6-977E-527F5D5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FE71-2438-4695-A939-6F992EEF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C8D3-535B-488D-9649-C7E44237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EF2B-DE6B-48B5-9DA0-BFA0B1B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703A-5F35-48C4-BBF9-17C7097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44C4B-83B8-4614-A01E-3C5A9C6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A07A-CCDD-4750-BC64-21E13D8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2943-E01A-4846-8E21-9385409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EBD7-8E99-41F4-9DFC-879374A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467A-E2E8-4876-953B-B0DCBCF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2FA6-CB6D-4F88-92E9-BACB450B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F8F-AE37-45D8-A5FB-7EC45022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B2CC-0B62-4E38-A452-8EB65691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BCDC-A90C-4E77-962C-F4F0DA7E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03E46-AE5E-4F4E-AFAF-29D9F2B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22E8-02B4-40F5-A0C0-E7690C5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4CA31-6522-47AC-AF95-9144DD59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8F10-2F72-4CA0-9B87-B70AD46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3793-4C92-4F05-9AA6-B85747F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3BB5-61AB-464C-8A25-C27E699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4E43-EA1D-42E9-A3E3-90339BA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F1D5-0439-402F-A210-F8AD93B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941-B412-42FB-ACAC-7DEDC63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F7E0-9EF5-4EFC-BBCE-EF7A5AE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BA5A-36A7-42EC-986E-1881FA0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23BD-643C-47FC-8DF0-4FC5FD42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D656-E2DF-4DF8-B8A3-AB68500A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3A29-E6B3-4950-85D6-A671ABD6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8A13-59A3-4F15-B768-FF60221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2888-7619-4E91-B8AA-808B2A3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E615C-E392-48AC-8957-132F2899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6DB4-E797-40FB-B5B9-86F1CF8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4DC5B-B977-403A-8AEE-1A976F5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63E-F496-421B-BC3D-73E2E1D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0227-1E32-4D2F-A87E-0E8A4B9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1202F-80B0-4E1D-8B31-5822149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960D2-ABE3-4397-9B19-4CE4FAFA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90D40-E8F8-42AA-A016-AF5FB7FA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CCE7-9E5A-4990-8CA4-565E7D80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B11D-11B7-4CAD-98F6-45D32DFE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FFEC-F154-41D6-A607-AB2B7389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9C653-5B32-491B-9558-464F6278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5E3F-0309-40CD-A347-5A31643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CB6C7-2FB0-4C60-B9A4-39DC0E03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D80-21F8-43C0-BC69-B2251B0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A3417-E940-45CE-83F9-1BD8CEEF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2AC54-FB22-4929-8484-0DC92BA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FD753-B488-449F-BF59-283C9C02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5EE6-0265-470F-8781-D705F579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1EEE-CC02-4982-8806-9F87B57E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069B-D925-45E1-8D34-748DF37B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B36E-2638-4E2D-A616-3D40689E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2E761-7C5E-410D-B164-727A84B4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BEE6D-4046-4673-9DCE-4B4BE0C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6F7FB-8C5C-4F66-8EA6-0C90DA0D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BC0D3-AE00-4EFB-A088-06E313DA716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9DE9A-FFB3-4905-A7A7-D3FDC7C46E5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82E11-7C16-4F8B-939A-0FCD8527B87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DCB08-39CF-4EAB-9730-4294DA169EF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1F9FC-9E89-4075-B914-BC17B6CC170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80759-73F5-4F14-9206-BB4386FD4D9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A094A-2181-4CA4-A431-19A4EDC4F6C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99DA7-406B-473E-8257-4C39249FD27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0ED0B-CB0B-4E46-A90E-6A89A27D2E1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5637E-B67B-46AD-9A76-5CADE922748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000" y="220500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/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4360" y="2276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0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t j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5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Scannen0002"/>
          <p:cNvPicPr/>
          <p:nvPr/>
        </p:nvPicPr>
        <p:blipFill>
          <a:blip r:embed="rId1"/>
          <a:stretch/>
        </p:blipFill>
        <p:spPr>
          <a:xfrm>
            <a:off x="3132000" y="620640"/>
            <a:ext cx="3025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26920" y="198864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,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kapotte kleppen ondersteu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4920" y="1989000"/>
            <a:ext cx="6707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Maessen, Joyce</cp:lastModifiedBy>
  <cp:lastPrinted>2012-04-25T10:11:45Z</cp:lastPrinted>
  <dcterms:modified xsi:type="dcterms:W3CDTF">2018-04-18T09:00:34Z</dcterms:modified>
  <cp:revision>105</cp:revision>
  <dc:subject/>
  <dc:title>Zwachtelen en compressie</dc:title>
</cp:coreProperties>
</file>