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p veneuze tromb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talageb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is een vaatziekte. De slagaderen in uw been zijn vernauwd. Deze ziekte veroorzaakt pijn, kramp of een doof/moe gevoel in uw bee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0A3-EEF5-40BB-BA40-8B3A401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42F-DC3C-4790-ADFC-A137056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1F06D-8793-4E90-841F-65E0EE4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637BA-FE18-4119-B370-B55E0FD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C9EF-14C9-4AB8-91EF-218114E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D7646-7BD7-453D-94A2-0388B60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6778D-A597-4AF0-BB27-80E45E9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3ED85-E522-46F7-88F2-7AD33A8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49F32-1A89-4595-8DA3-7CA4E187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92F16-0C6C-4EC9-8FB4-4A8AEE1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B3CCD-07E2-4D8C-A0C0-04D708C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0B258-49A9-41C8-B3B2-FE305130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1EB-9F90-44FB-99E2-89B92045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9034A-D269-4FDC-AC2E-6BA54C8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2AEF3-D695-4979-9E09-694683C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C95C9-AB53-4520-8783-F51F1762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153E6-4D8D-4BA5-96DE-FB52DFB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0D9EA-A759-474F-AC5E-AB7C910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CDCF-040D-4B43-82FD-A450E9B2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C8AE1-8DF9-4541-8E74-0518301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5C28-FB78-40FC-8648-1264357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F6E03-ADDB-4C59-A354-045FF43F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D0745-B98D-4026-823D-A38F33F5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830-F28E-44E2-ABA3-E789E9FC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8CA7E-F669-42F5-94C5-B1C7174A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D151-B57A-4295-A9AE-DF506CCC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4DF9-6BF4-49D9-AE80-F83D39F8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99CD-E343-466D-AC55-8DA408F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3F98-F14D-4E39-ADCC-FECCC7D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446-C803-4659-844B-2378879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ADB4-D8ED-4A62-8DF9-97B1A77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35A-3D41-4D15-B1BB-AAC7E1F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BDF-9AAE-4246-9773-ED6113D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CE98-96F9-4C09-A0A1-D7CA9BD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718-257D-4EE7-8A15-FDBF57F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0058-CCF3-4A41-99EC-4AB5D32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A11-69B6-4573-8D67-8917CED4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5158-13BB-4C14-AA8C-5D68CE9B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B0DE-1E9B-4E2A-807C-30A24E22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EF17-31FA-4203-A5AB-578248A9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C2F8-4CFE-4036-A425-DD22C50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A2B6-3254-44BE-B68A-6A890C50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A9F7-DE52-43D8-80DD-EA263871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76F-29A8-4284-889D-08BB092D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94B8-A747-4A88-893C-15743FC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A3AD-799C-43D6-8CC4-7B22F21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BCA6-C86C-4905-914C-4E84794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1F70-6E22-4541-8893-89B2BDA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FF9A-DDCC-48DF-90F7-8EB8E632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7025-5096-44B4-B33C-9841AD8F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2AF1-5A2C-4544-ADF2-AC588E96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5DD7-50C6-43D9-9072-B310BCCC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ED34C-BB79-4A68-927F-CF279B3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AB17-DDDA-4A47-9ADA-2F1184A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A94-63BE-4359-813A-22E6FC3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5D45-2C36-4D4D-9EF3-A143CC42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A0A8-2591-4843-9AD9-90460AB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927B-E80D-4C53-AB10-904DAC89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877A-BF5E-49CB-BEF8-4315EA9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8A7B2-07AE-4A07-86E3-244B0A7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99BF-9FD2-4A67-A2F0-E98A768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780B-774C-49F6-986C-1C6C03F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504F-473A-48E7-872A-FC773D66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FE3B-F411-465D-830D-A1EF3321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CD36-639F-4BF8-B694-B80922A3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90C-9292-4EFA-A641-B369366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9D9D-FAC7-4168-BF78-EA586F3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003E-D653-4DE4-9481-D83061C9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73DB-2482-49B9-8C86-6050F76C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00ABF-716E-4417-8FE9-6B27653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33B4-A0F1-4E17-9FFF-037EB18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BE16-BD75-48EB-8771-7E45663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20DD-97C1-4D71-8F0C-AEDA08E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0B10-280A-404D-ABE6-EDFBA4D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EB38-D3E9-4A01-B8D1-963B375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B654-9612-4DA7-B313-0772967B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B44-C68E-473B-98C0-587929AC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C4CE7-88FD-4BCB-93E0-07BCC5C8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CD0B1-2312-473D-BF25-92E7208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5F630-F062-4964-9FD2-3D6C472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54CD-B6C8-448B-9101-FBFB7AF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501B-08C2-465B-AEEC-A41BA06B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5A4F-2E98-49D2-B77C-A410751A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A1C8-D4E2-4225-91C4-D7B4ADB9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06EB-B161-4890-9D86-E1AA8F2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C009C-9194-4AFA-8B0A-0CF3D9C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8A5C-FA0E-4337-89D5-40E7980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7DE-EB13-4C9B-BE2E-21E6AF9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D3A2-2ADC-4F79-A30C-C471F7FE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7F18-C45F-4A9F-8B00-C8DA029D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14D3-DCE5-4F64-B8FC-78F50CD1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9FA3-6A78-486D-B8EE-41386BCD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FD06-08D3-4867-B434-17D64DA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1473E-A91F-4E46-A590-871A2C00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3B976-3E77-4784-98FA-B6C29A7A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B160-2B18-4C93-AC69-970E3E3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E1F0-6A28-410D-922F-2CA8F9E8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3326-3F3A-47D0-A7F3-E1C678E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945-FF1C-4F29-A553-91C8DCA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C453-B4CF-47E9-9387-02E76CE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253F-207F-4CE2-9AC8-2384B2A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3A5C-8463-41BE-83B8-620EF49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4AF0-4F22-43CE-B15B-01134332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06A6-908B-480B-8CD4-3B16AD1B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B516-1F00-4C2C-97F0-0EF55DCD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6CD59-4319-43B6-BE2C-06F554A5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F0DB7-20A9-4BD8-B4C1-35CDDC2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BC33-8831-4232-82FA-2AF492E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B4C4-C6D1-417A-AD2F-AAC05F4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335-3EC4-495E-A760-4129BAA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C6C20-5315-4CF5-B5E4-CD2072D4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FF5A-7D89-4ED6-895C-13C73C12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92FF-95BD-4859-B3B4-E01AFB7D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1A7A6-B449-4DF4-8171-935892A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7E75A-EB4E-47E9-A569-C2183D0F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57DA4-EF4E-4354-9CAA-39FF943B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E9EB-0AEC-4FD0-ACC2-488044D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1B7C9-B63B-4B81-A311-BD958547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FF39-1CDC-45B2-AEAF-F3CAA8E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D2B44-36DD-46EB-8D41-37E215FB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75403-E732-43EB-B728-05CD0152853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48C3D-005A-4CB5-B484-531FA7CFDE8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0D1EF-2F08-4126-A2C5-E435659F07D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0601A-9C4D-4B15-8CDF-C12D7B72E4A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4F8B3-5785-4AD5-ACDB-7CE8C7B5E96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E2BCC-D28F-44E2-AC87-0B9ED6683B9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54084-D317-4C6C-9D49-B73D7D05AB7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4B8EC-9DE6-4533-BC12-0DCD8729B10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06C05-2DE9-4B05-918A-7EF07FBA5C3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7B2C1-9CA4-4AB0-8397-5A4FAEE9148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5280" y="21337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9kZ5MQB4waw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4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1"/>
          <a:stretch/>
        </p:blipFill>
        <p:spPr>
          <a:xfrm>
            <a:off x="5584680" y="398304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0" name="Afbeelding 1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5724360" y="4162320"/>
            <a:ext cx="3308400" cy="247968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2" descr=""/>
          <p:cNvPicPr/>
          <p:nvPr/>
        </p:nvPicPr>
        <p:blipFill>
          <a:blip r:embed="rId2"/>
          <a:stretch/>
        </p:blipFill>
        <p:spPr>
          <a:xfrm>
            <a:off x="4751280" y="169704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9" name="Afbeelding 3" descr=""/>
          <p:cNvPicPr/>
          <p:nvPr/>
        </p:nvPicPr>
        <p:blipFill>
          <a:blip r:embed="rId1"/>
          <a:stretch/>
        </p:blipFill>
        <p:spPr>
          <a:xfrm>
            <a:off x="5724360" y="4549680"/>
            <a:ext cx="2310120" cy="2311560"/>
          </a:xfrm>
          <a:prstGeom prst="rect">
            <a:avLst/>
          </a:prstGeom>
          <a:ln w="0">
            <a:noFill/>
          </a:ln>
        </p:spPr>
      </p:pic>
      <p:pic>
        <p:nvPicPr>
          <p:cNvPr id="470" name="Afbeelding 4" descr=""/>
          <p:cNvPicPr/>
          <p:nvPr/>
        </p:nvPicPr>
        <p:blipFill>
          <a:blip r:embed="rId2"/>
          <a:stretch/>
        </p:blipFill>
        <p:spPr>
          <a:xfrm>
            <a:off x="7335720" y="2070000"/>
            <a:ext cx="1827360" cy="2262240"/>
          </a:xfrm>
          <a:prstGeom prst="rect">
            <a:avLst/>
          </a:prstGeom>
          <a:ln w="0">
            <a:noFill/>
          </a:ln>
        </p:spPr>
      </p:pic>
      <p:pic>
        <p:nvPicPr>
          <p:cNvPr id="471" name="Afbeelding 5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2058840"/>
          </a:xfrm>
          <a:prstGeom prst="rect">
            <a:avLst/>
          </a:prstGeom>
          <a:ln w="0">
            <a:noFill/>
          </a:ln>
        </p:spPr>
      </p:pic>
      <p:pic>
        <p:nvPicPr>
          <p:cNvPr id="472" name="Afbeelding 6" descr=""/>
          <p:cNvPicPr/>
          <p:nvPr/>
        </p:nvPicPr>
        <p:blipFill>
          <a:blip r:embed="rId4"/>
          <a:stretch/>
        </p:blipFill>
        <p:spPr>
          <a:xfrm>
            <a:off x="4357800" y="3092400"/>
            <a:ext cx="2381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 je de juist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Afbeelding 1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2438280"/>
          </a:xfrm>
          <a:prstGeom prst="rect">
            <a:avLst/>
          </a:prstGeom>
          <a:ln w="0">
            <a:noFill/>
          </a:ln>
        </p:spPr>
      </p:pic>
      <p:pic>
        <p:nvPicPr>
          <p:cNvPr id="434" name="Afbeelding 2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68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7" name="Afbeelding 2" descr=""/>
          <p:cNvPicPr/>
          <p:nvPr/>
        </p:nvPicPr>
        <p:blipFill>
          <a:blip r:embed="rId1"/>
          <a:stretch/>
        </p:blipFill>
        <p:spPr>
          <a:xfrm>
            <a:off x="6249960" y="1341360"/>
            <a:ext cx="2786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Scannen0002"/>
          <p:cNvPicPr/>
          <p:nvPr/>
        </p:nvPicPr>
        <p:blipFill>
          <a:blip r:embed="rId1"/>
          <a:stretch/>
        </p:blipFill>
        <p:spPr>
          <a:xfrm>
            <a:off x="5651640" y="836640"/>
            <a:ext cx="3025800" cy="5483160"/>
          </a:xfrm>
          <a:prstGeom prst="rect">
            <a:avLst/>
          </a:prstGeom>
          <a:ln w="0">
            <a:noFill/>
          </a:ln>
        </p:spPr>
      </p:pic>
      <p:pic>
        <p:nvPicPr>
          <p:cNvPr id="439" name="Afbeelding 1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3118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6920" y="155700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apotte kleppen ondersteu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5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 (etalagebenen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 (DVT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 (vaker dan 3x pw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6" name="Afbeelding 2" descr=""/>
          <p:cNvPicPr/>
          <p:nvPr/>
        </p:nvPicPr>
        <p:blipFill>
          <a:blip r:embed="rId1"/>
          <a:stretch/>
        </p:blipFill>
        <p:spPr>
          <a:xfrm>
            <a:off x="5651640" y="4724280"/>
            <a:ext cx="24955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94920" y="213372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9" name="Afbeelding 1" descr=""/>
          <p:cNvPicPr/>
          <p:nvPr/>
        </p:nvPicPr>
        <p:blipFill>
          <a:blip r:embed="rId1"/>
          <a:stretch/>
        </p:blipFill>
        <p:spPr>
          <a:xfrm>
            <a:off x="5502240" y="2581200"/>
            <a:ext cx="32180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Limpt, Julian van</cp:lastModifiedBy>
  <cp:lastPrinted>2012-04-25T10:11:45Z</cp:lastPrinted>
  <dcterms:modified xsi:type="dcterms:W3CDTF">2019-10-22T13:01:54Z</dcterms:modified>
  <cp:revision>120</cp:revision>
  <dc:subject/>
  <dc:title>Zwachtelen en compress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