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F446-DA77-4AA5-939B-D1E3A3C0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108-5FE6-46B3-BB02-18B68D62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AC7D-0346-4B2C-BFE1-5728EA13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6036-D8FF-4040-A50E-F9C25EA3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B369-2701-403E-9BFA-96B64465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58EA-5CE9-4960-988D-2A7E590E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BBCA-8032-4447-9C9D-89C72A5B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E352-C8D3-4E18-99A9-9B69E444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60AF-FB95-4B47-B9E9-038E455D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C8B8-E904-4780-AD14-DEC9AC91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E3FE-59BD-4C40-A79B-02792170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B266-FE72-4C5A-B31B-A029849B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44BB-DE89-40C8-B4CE-99E82051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D243-2132-432A-BDF0-A3CE04D9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2D65-6B2E-460B-B60D-084CE4D8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7763-4142-402A-82A4-59F63142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01E8-39D6-487F-A36A-32D03896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38A6C-AAFE-4C18-85CA-C8DB32B7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92911-A9D6-46E1-99C9-9358BC8F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EF9CB-CEDC-45FB-993F-EC003809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B6F2F-BE40-40F7-9D56-967BF2CF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A8C4A-F3A3-41EB-BF43-F82BD53E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8009-AB44-4715-A674-469CE9F1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5CE22-286F-4A8D-A894-E25C84E2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F85FB-D751-47B8-A8F9-F9FDBA66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27490-9487-4356-8303-CFCD242F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EEFBF-0BF2-4B3C-9E23-A4321BD1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F83C5-1A93-489B-BB50-00D12B2C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2F974-0E88-45EA-9F60-6505AB6D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42CCD-37D7-437C-8DB6-6D4EDB8F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D3DC3-A042-481E-B25C-FADF19E0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C5F0E-3EAB-4B4D-A021-000E16FE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568B0-7573-4C3C-87E6-730D0877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1C94-6190-4426-842D-0E9D965B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70A19-90B2-4C3F-A273-65E558B9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83D42-77CD-4E7A-A946-E160F216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56E96-E9C2-4067-B32A-C69158F2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7CD70-C562-46A0-8B70-E225244A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B1710-25D2-4895-8835-53B1924E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5FEA3-4CBE-43D4-BCD3-87F2E426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66D84-44B5-4AD6-93B5-9A9F1BAA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F60C0-0702-4F74-BC53-698F4874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46E63-BA7C-4FD2-9527-E4D797C7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4EE6-672A-4306-9968-11CB1B1E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D5B4-3573-4E0E-8519-7A0DE230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7F3B-893C-4BEE-AA1E-47D3A269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7771-8221-4EB1-8194-DCA3E564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AA14-BCDF-4C1E-9D58-16D981B7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9CE51A-11CC-4F7C-BD81-6814EFD03296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2C44F8-4BEB-4CC6-A835-8BAA476E5E6E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B8895D-A816-448C-8738-984E1426CD64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445AC-14AD-4E83-A53C-E0FC3671982E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Hoofdstuk 3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7f7f7f"/>
                </a:solidFill>
                <a:latin typeface="Trebuchet MS"/>
              </a:rPr>
              <a:t>Chemische gewasbescherm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D5651-7ED8-4B7B-85FF-49E9D81F16B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4345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ormuleringscod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268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E; aerosol, middel in spuitbu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C; emulsieconcentraat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R; granulaat, strooikorr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C; suspensie concentra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L; water oplosbaar concentra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P; water oplosbaar poed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G; waterdispergeerbaar granula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P; stuifpoed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W; emulsie in water formuler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5779BB-E8BD-48BB-8FE7-444B4CCA0B6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000" y="12240"/>
            <a:ext cx="7224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ormuler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4920" y="103356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oed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erkzame stof met kal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Zichtbaar residu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tuift bij afwe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OF (water oplosbaar folie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tuifpoeder DP nog maar weinig gebruik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puitkorrel W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Poeders in korrelvor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tuift mind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akkelijk af te we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ang te bewa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ost iets moeilijker op. Vb.Pirimo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D7D411-BB49-4E48-A9BE-40ABF1896ED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3840120" y="271440"/>
            <a:ext cx="3087720" cy="2131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2"/>
          <a:stretch/>
        </p:blipFill>
        <p:spPr>
          <a:xfrm>
            <a:off x="5580000" y="3357720"/>
            <a:ext cx="17305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Poeders in korrelvorm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B77639-02D0-4568-BEB2-0B4FE6A47625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1"/>
          <a:stretch/>
        </p:blipFill>
        <p:spPr>
          <a:xfrm>
            <a:off x="291960" y="2422440"/>
            <a:ext cx="1428840" cy="2000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"/>
          <p:cNvPicPr/>
          <p:nvPr/>
        </p:nvPicPr>
        <p:blipFill>
          <a:blip r:embed="rId2"/>
          <a:stretch/>
        </p:blipFill>
        <p:spPr>
          <a:xfrm>
            <a:off x="2055960" y="3637080"/>
            <a:ext cx="1428480" cy="2000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"/>
          <p:cNvPicPr/>
          <p:nvPr/>
        </p:nvPicPr>
        <p:blipFill>
          <a:blip r:embed="rId3"/>
          <a:stretch/>
        </p:blipFill>
        <p:spPr>
          <a:xfrm>
            <a:off x="3807000" y="2422440"/>
            <a:ext cx="1428480" cy="2000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"/>
          <p:cNvPicPr/>
          <p:nvPr/>
        </p:nvPicPr>
        <p:blipFill>
          <a:blip r:embed="rId4"/>
          <a:stretch/>
        </p:blipFill>
        <p:spPr>
          <a:xfrm>
            <a:off x="5651640" y="3637080"/>
            <a:ext cx="1428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ormuler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3760" y="1112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ranulaat G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orrel vb. bodemherbiciden, nematiciden en systemische insectici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akkelijk toedien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trooimid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orrel met loksto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lak en muizen 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loeibare mid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Flowable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mulgeerbaar concentra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muls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39F54B-4B1B-48D6-8EC4-D9809FFF83E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320976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58920" y="16524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loeibare 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100620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Flowables of suspensie concentraat SC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(poeder zweeft in water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ispergeermiddel tegen uitzak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udden voor gebrui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rstvrij bewa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eft residu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Toevoeging flow of SC. Vb. Decis Flow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name door het blad minder – water en waslaa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6E8DCB-5084-4683-9A92-D27A0D6DFDC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5373720" y="1670040"/>
            <a:ext cx="1890720" cy="1944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2"/>
          <a:stretch/>
        </p:blipFill>
        <p:spPr>
          <a:xfrm>
            <a:off x="2556000" y="4659480"/>
            <a:ext cx="1428480" cy="20001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"/>
          <p:cNvPicPr/>
          <p:nvPr/>
        </p:nvPicPr>
        <p:blipFill>
          <a:blip r:embed="rId3"/>
          <a:stretch/>
        </p:blipFill>
        <p:spPr>
          <a:xfrm>
            <a:off x="668160" y="4651200"/>
            <a:ext cx="1428840" cy="20005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"/>
          <p:cNvPicPr/>
          <p:nvPr/>
        </p:nvPicPr>
        <p:blipFill>
          <a:blip r:embed="rId4"/>
          <a:stretch/>
        </p:blipFill>
        <p:spPr>
          <a:xfrm>
            <a:off x="4500720" y="4659480"/>
            <a:ext cx="1428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3444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loeibare 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13647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mulgeerbare concentraten EC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engbare oliën, organisc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vat emulgato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etere meng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aak een melkwitte vloeisto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inder residu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egenvaster dan poed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erp voor gewas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eerder verbrand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C7306-3DAE-421A-B2F3-A88442BED10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5176800" y="939960"/>
            <a:ext cx="1866960" cy="24890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"/>
          <p:cNvPicPr/>
          <p:nvPr/>
        </p:nvPicPr>
        <p:blipFill>
          <a:blip r:embed="rId2"/>
          <a:stretch/>
        </p:blipFill>
        <p:spPr>
          <a:xfrm>
            <a:off x="630360" y="4653000"/>
            <a:ext cx="1428480" cy="2000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"/>
          <p:cNvPicPr/>
          <p:nvPr/>
        </p:nvPicPr>
        <p:blipFill>
          <a:blip r:embed="rId3"/>
          <a:stretch/>
        </p:blipFill>
        <p:spPr>
          <a:xfrm>
            <a:off x="2516040" y="4653000"/>
            <a:ext cx="1428840" cy="20001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"/>
          <p:cNvPicPr/>
          <p:nvPr/>
        </p:nvPicPr>
        <p:blipFill>
          <a:blip r:embed="rId4"/>
          <a:stretch/>
        </p:blipFill>
        <p:spPr>
          <a:xfrm>
            <a:off x="4430880" y="4653000"/>
            <a:ext cx="1428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loeibare 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9480" y="16776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mulsie in water opgelost EW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lie achtige stof opgelost i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er, waarin actieve stof z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eldere oploss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Pulsfo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LV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5BB7B3-178F-4F6D-9764-BE72672518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4788000" y="263520"/>
            <a:ext cx="2033640" cy="4238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2"/>
          <a:stretch/>
        </p:blipFill>
        <p:spPr>
          <a:xfrm>
            <a:off x="596880" y="4602240"/>
            <a:ext cx="1428840" cy="2000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3"/>
          <a:stretch/>
        </p:blipFill>
        <p:spPr>
          <a:xfrm>
            <a:off x="2722680" y="4602240"/>
            <a:ext cx="1428480" cy="2000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"/>
          <p:cNvPicPr/>
          <p:nvPr/>
        </p:nvPicPr>
        <p:blipFill>
          <a:blip r:embed="rId4"/>
          <a:stretch/>
        </p:blipFill>
        <p:spPr>
          <a:xfrm>
            <a:off x="4788000" y="4602240"/>
            <a:ext cx="1428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ndere formulering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41200" y="1480680"/>
            <a:ext cx="63468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Rookmiddel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randbare stof met remme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smeul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verdampen werkzame sto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Zwavel, Pirimo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korte werking en weinig verbranding, geen residu, alleen bovenzijd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erosolen A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5-10% Werkzame stof in oplo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iddel in spuitbus. Som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wasschade. Alleen bovenzijd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1A6E9B-4625-42B4-ABE8-C98528376F1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5167440" y="3355920"/>
            <a:ext cx="179064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ndere formulering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26520" y="1773000"/>
            <a:ext cx="6348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Fumiganti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loeibaar middel dat in de grond wordt gebracht en damp vormt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odemtemp 7 – 16 </a:t>
            </a:r>
            <a:r>
              <a:rPr b="0" lang="nl-NL" sz="2200" spc="-1" strike="noStrike" baseline="30000">
                <a:solidFill>
                  <a:srgbClr val="404040"/>
                </a:solidFill>
                <a:latin typeface="Trebuchet MS"/>
              </a:rPr>
              <a:t>o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asta voor wonden bij bom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meer middelen tegen vlie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plostablet voor wortelopnam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trooizwa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92d050"/>
                </a:solidFill>
                <a:latin typeface="Trebuchet MS"/>
              </a:rPr>
              <a:t>http://agro.bayer.nl/#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04A1B7-B3F3-497E-A1EA-C8DFD2ED1A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88880" y="1298520"/>
            <a:ext cx="649944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 Wat is de formulering van een middel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e vorm waarin het wordt gelever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is het residu van een middel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Resten wel of niet zichtbaa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aarom wordt een dipergeermiddel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oegevoegd aan een SC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Om poeder zwevend in oplossing te hou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 Wat is de functie van een emulgator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oegevoegd aan een EC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enging olie in wat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1D6D2B-7E78-4516-B376-9B0ED954FF8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280" y="275760"/>
            <a:ext cx="8498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at zijn de nadelen van chemie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8920" y="2771640"/>
            <a:ext cx="634860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sistenti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roeiremm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ijwerking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ilieubelastend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chadelijk voor niet doel organis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vaarlijk voor mens en leefomgev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B80089-EF03-404C-889D-8672997E7FF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2897280" y="1569960"/>
            <a:ext cx="3844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eng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68360" y="1628640"/>
            <a:ext cx="6346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  <a:ea typeface="Arial"/>
              </a:rPr>
              <a:t>é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 werkgang (tijdwinst) soms wel 12 s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Risico’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ïnvloeding werking( bij 3 middelen stijgt pH met 0,5-1,0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ntmeng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wasschade / groeiremm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ocktail vlb.met vlb.en poeder met poed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arantie tegen schade is er nie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ommige fabrikanten geven mengen aa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21EFBD-E558-4C2E-8CBC-0DC2B6C67D5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PH en de halfwaardetijd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dvies is pH 5,4 = zelfde pH als bla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e laag (zuur) belemmert de opnam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e hoog afbraak versneld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H 5 is de werkzaamheid na 50 dagen gehalveer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H 7 is dit 14,5 u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H 9 is dit 10 minut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01F188-BC37-4415-84D7-6983059A42B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Toevoegin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nerale olie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tere opname herbici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lantaardige olie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ide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nerale olie tegen virus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minder opname en verspreiding virus in aardapp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on- ionische uitvloeiers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tere bladbedekking bij herbiciden, fungiciden en groeihormon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uperuitvloeiers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tere bladbedekking en snelle droging (Zipper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DB8711-83C6-43F8-86C5-17D0EEE46DA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Toevoegin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Kationische (zeep) en biologische uitvloeiers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tere bladbedekking en indring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echters met uitvloeier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tere hechting vooral met re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lakmiddel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voorkomt zaaduitval en lege peul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terconditioners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pH beïnvloe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D5745-C283-4FE7-BD0C-36100341890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engvolgorde van 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58640"/>
            <a:ext cx="7273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½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of 2/3 wat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iddel verpakt in water oplosbaar folie (WOF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puitpoeder (WP) en/of spuitkorrels (WG) eventueel voorgemengd in warm wat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uspensie conc. (SC of Flowabl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mulgeerbaar concentraat (EC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loeistof in water (SL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ulpstof (hechter, uitvloeier en vloeibare meststof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puitoli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fvulle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n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AE5E99-C45F-4294-9EE0-8FDFDACB508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907560"/>
            <a:ext cx="7067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 Zijn hulpstoffen volgens de wet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wasbeschermingsmiddel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Nee alleen als ze een N-nummer bezit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is de functie van een minerale ol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Zorgen voor betere opnam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elke voeg je het eerste toe olie of poeder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Poeder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 Wat is de functie van waterconditioners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pH beïnvloeden (verlagen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9F9B9-639E-4441-839F-3AE303860DD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orsen is dat echt zo er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ideo van 10 min. Vooral eerste en laatste 2 mi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ordt een gewasbeschermingsmiddel verwijderd uit rioolwater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ttps://youtu.be/hSBbS7SOODg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akkelijk doseren zonder morsen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ttps://youtu.be/sW5yL81u9eU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C571CE-9C56-4358-8017-B1AE903F092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Informatie bronn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28680" y="1460520"/>
            <a:ext cx="63468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Handleidingen gewasbescherming DLV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Gewasbeschermingsgids of PD gids = rode gid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ok via internet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CTGB http://www.ctgb.nl/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oelat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strijdingsmiddelen databank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.G. (wettelijk gebruiksvoorschrift)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.A. (gebruiksaanwijzing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Fytostat http://www.fytostat.nl/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roducenten – </a:t>
            </a:r>
            <a:r>
              <a:rPr b="1" lang="nl-NL" sz="2200" spc="-1" strike="noStrike">
                <a:solidFill>
                  <a:srgbClr val="404040"/>
                </a:solidFill>
                <a:latin typeface="Trebuchet MS"/>
              </a:rPr>
              <a:t>etiket en veiligheidsbla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B48417-B930-4575-8AC8-C082D91906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1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1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1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10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10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10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Wat is de taak van het CTGB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iddelen toetsen voor toelati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elke info is er op Fytostat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Etiketten en veiligheidsbla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BFF1C-4355-466D-AE5C-14B027492A1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GNO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wasbeschermingmiddelen van natuurlijke oorspro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Laag risico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einig milieubelast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1A399-F342-4471-A3D0-4B225D7FF63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4" dur="1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rkzame stof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50560" y="1530360"/>
            <a:ext cx="720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f actieve stof = stof die de werking geeft. Bij Vertimec Gold 18 g/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Formulering = de vorm vlb., poeder of vloeistof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oevoegingen of hulpstoffen om bij droogweer de opname te verbeteren, want de waslaag is </a:t>
            </a: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dunner/dikker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ulpstof Squall https://youtu.be/l4AdahKG2f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ulpstoffen Elasto, Hasten zie ook https://www.surfaplus-tr.com/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E308C-0CA4-4C65-8FDE-8B480B46768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GNO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2205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acteriën; Bacillus thurgiensis (Xentari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chimmels; Mycotal, Botanigar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ycorrhiza’s; in symbiose levende bodemschimmel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Feromon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xtrac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lantversterkers om weerstand te verhoge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1C6547-2D20-4F6C-A6A4-86FBFC4B78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1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1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55280" y="1557000"/>
            <a:ext cx="64803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t zijn GNO’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Gewasbeschermingsmiddelen van natuurlijke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oorspro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Leg uit wat symbiose beteken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Schimmel krijgt suikers van de plant en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zorgen voor betere opname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element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at zijn feromonen en wat is hun funct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Lokstoffen om voortplanting te remm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 Wat is de belangrijkste functie van plantversterkers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Weerstand verho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CDD35-A9A8-46D8-A915-3AF35FCC7D0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UB lijst </a:t>
            </a:r>
            <a:r>
              <a:rPr b="0" lang="nl-NL" sz="3600" spc="-1" strike="noStrike">
                <a:solidFill>
                  <a:srgbClr val="ff0000"/>
                </a:solidFill>
                <a:latin typeface="Trebuchet MS"/>
              </a:rPr>
              <a:t>afgeschaf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09120" y="1930320"/>
            <a:ext cx="634860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Regeling Uitzondering Bestrijdingmiddel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en N numm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b. bier tegen slakken en zeep tegen lui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ntsmettingsmiddel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ddelen tegen al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roeiregulator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ttp://wetten.overheid.nl/BWBR0003172/geldigheidsdatum_16-10-2007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4640A-4D86-4A07-AF23-7955DF248DF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1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7" dur="1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1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1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1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19200" y="54900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Indeling en werk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erbiciden          onkrui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Insecticiden        insec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Fungiciden         schimmel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ematiciden       aaltje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Rodenticiciden   knaagdier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actericiden       bacterië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ollusciciden     weekdieren (slak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cariciden          mij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5015D-82E9-499C-8CDE-190C7AF5A8C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nodeType="clickEffect" fill="hold">
                      <p:stCondLst>
                        <p:cond delay="indefinite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5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1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nodeType="clickEffect" fill="hold">
                      <p:stCondLst>
                        <p:cond delay="indefinite"/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10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10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7" dur="10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ystemisch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pname door de plan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tekend en zuigende insec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Niet systemisch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ranslaminair (door de waslaag)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mineerlarv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ontact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radicatieve (stoppen zichtbare infecties)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fungicide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7879C1-D469-4AA4-AD5A-7F13F07CA93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0" dur="indefinite" restart="never" nodeType="tmRoot">
          <p:childTnLst>
            <p:seq>
              <p:cTn id="1501" dur="indefinite" nodeType="mainSeq">
                <p:childTnLst>
                  <p:par>
                    <p:cTn id="1502" nodeType="clickEffect" fill="hold">
                      <p:stCondLst>
                        <p:cond delay="indefinite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1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nodeType="clickEffect" fill="hold">
                      <p:stCondLst>
                        <p:cond delay="indefinite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1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1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1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7" dur="1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16080" y="1296720"/>
            <a:ext cx="69926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. Wat is het grootste verschil tussen systemisch en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iet systemisch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Systemisch gaat door vaatbundel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is een eradicatieve fungici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iddel dat zichtbare schimmelinfectie stop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aarom kun je wortelonkruiden het beste met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ystemische middelen bestrijden?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ie gaan door de gehele plant en dan wordt alles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afgedoo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 Welk type middelen kun je alleen inzetten ter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oorkoming van een infect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Niet systemische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EB71A8-16C9-4FD9-A889-B4211C5DC3B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0" dur="indefinite" restart="never" nodeType="tmRoot">
          <p:childTnLst>
            <p:seq>
              <p:cTn id="1541" dur="indefinite" nodeType="mainSeq">
                <p:childTnLst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6" dur="1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3" dur="10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0" dur="10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7" dur="1000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odemherbicid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755280" y="196056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oor de plant opgenom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Film in de grond – enkel centimeter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Kale gron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iet tegen wortelonkrui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roge grond werkt slech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inding Klei-Humus-Complex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erken enkele weken tot maan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oeilijk afbreekbaar = persisten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6FE318-8096-41A5-9F37-D4EFE6968A7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nodeType="clickEffect" fill="hold">
                      <p:stCondLst>
                        <p:cond delay="indefinite"/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1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nodeType="clickEffect" fill="hold">
                      <p:stCondLst>
                        <p:cond delay="indefinite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1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nodeType="clickEffect" fill="hold">
                      <p:stCondLst>
                        <p:cond delay="indefinite"/>
                      </p:stCondLst>
                      <p:childTnLst>
                        <p:par>
                          <p:cTn id="1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7" dur="1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4" dur="1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nodeType="clickEffect" fill="hold">
                      <p:stCondLst>
                        <p:cond delay="indefinite"/>
                      </p:stCondLst>
                      <p:childTnLst>
                        <p:par>
                          <p:cTn id="1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nodeType="clickEffect" fill="hold">
                      <p:stCondLst>
                        <p:cond delay="indefinite"/>
                      </p:stCondLst>
                      <p:childTnLst>
                        <p:par>
                          <p:cTn id="1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8" dur="10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nodeType="clickEffect" fill="hold">
                      <p:stCondLst>
                        <p:cond delay="indefinite"/>
                      </p:stCondLst>
                      <p:childTnLst>
                        <p:par>
                          <p:cTn id="1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10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ladherbicid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406160"/>
            <a:ext cx="8229600" cy="60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ia bla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ystemisch vb. Roundup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roeistoffen; plant groeit kapo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cpa,mecoprop, fluroxypy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Arial"/>
              </a:rPr>
              <a:t>éé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zaadlobige gewassen tegen dicoty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Contac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rekken alleen in blad en worden niet verder vervoer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ok bij lagere temperatuu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egen zaadonkruid in jong sta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lesdoder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3ADA19-14D2-4F50-9D33-B98BCFF7D31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8" dur="indefinite" restart="never" nodeType="tmRoot">
          <p:childTnLst>
            <p:seq>
              <p:cTn id="1629" dur="indefinite" nodeType="mainSeq">
                <p:childTnLst>
                  <p:par>
                    <p:cTn id="1630" nodeType="clickEffect" fill="hold">
                      <p:stCondLst>
                        <p:cond delay="indefinite"/>
                      </p:stCondLst>
                      <p:childTnLst>
                        <p:par>
                          <p:cTn id="1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1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10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3" dur="10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10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nodeType="clickEffect" fill="hold">
                      <p:stCondLst>
                        <p:cond delay="indefinite"/>
                      </p:stCondLst>
                      <p:childTnLst>
                        <p:par>
                          <p:cTn id="1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5" dur="10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nodeType="clickEffect" fill="hold">
                      <p:stCondLst>
                        <p:cond delay="indefinite"/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2" dur="10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7" dur="10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2" dur="10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7" dur="1000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4920" y="2060640"/>
            <a:ext cx="6985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 Waarom werken bodemherbiciden niet tegen grote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nkruid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Hun wortels zitten al dieper onder de filmlaa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elk type middel zet je in tegen wortelonkruid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Systemische bladherbici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548971-168F-4044-9271-A5107A1EEE4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0" dur="indefinite" restart="never" nodeType="tmRoot">
          <p:childTnLst>
            <p:seq>
              <p:cTn id="1691" dur="indefinite" nodeType="mainSeq">
                <p:childTnLst>
                  <p:par>
                    <p:cTn id="1692" nodeType="clickEffect" fill="hold">
                      <p:stCondLst>
                        <p:cond delay="indefinite"/>
                      </p:stCondLst>
                      <p:childTnLst>
                        <p:par>
                          <p:cTn id="1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6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nodeType="clickEffect" fill="hold">
                      <p:stCondLst>
                        <p:cond delay="indefinite"/>
                      </p:stCondLst>
                      <p:childTnLst>
                        <p:par>
                          <p:cTn id="1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1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38280" y="1844640"/>
            <a:ext cx="6346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3.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arom bestrijden contactmiddelen geen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ortelonkruid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Ze worden niet getransporteerd in de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vaatbundels en dus gaat het onkruid allen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bovengronds doo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Welk type herbicide heeft een lange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awerking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Bodemherbicide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060AF1-BC5F-4A70-9E09-B8839424D96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2" dur="indefinite" restart="never" nodeType="tmRoot">
          <p:childTnLst>
            <p:seq>
              <p:cTn id="1703" dur="indefinite" nodeType="mainSeq">
                <p:childTnLst>
                  <p:par>
                    <p:cTn id="1704" nodeType="clickEffect" fill="hold">
                      <p:stCondLst>
                        <p:cond delay="indefinite"/>
                      </p:stCondLst>
                      <p:childTnLst>
                        <p:par>
                          <p:cTn id="1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08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3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Toevoegingen en hulpstoff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1000080"/>
            <a:ext cx="8102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ulpstoff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aagstof    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Giftigheid verla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ulstof         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etere verdel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losmiddel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eter oplossen werkzame sto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ispergeermiddel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uspensie (mengsel van water en poeder) blijft beter zweven en zakt niet naar de bode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mulgato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lie in water = emuls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a mengen ook i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       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ter goed verdeel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C1CF4-E759-4AD8-9476-D45E277F9BA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1041480" y="5137200"/>
            <a:ext cx="33145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Insecticid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96520" y="1773000"/>
            <a:ext cx="6348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Zenuwstelsel aangetas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cetylcholine (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tast het zenuwstelsel aan door 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verstoren prikkeloverdracht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96012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holine-esterase remmende werk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34388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verprikkeling zenuwen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doo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34388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eer giftig voor mens en dier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beel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96012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rganische fosforverbind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96012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arbamaten (o.a. spierverslapper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96012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yrethroiden (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natuurlijke insekticides, snelle werking en 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snelle afbraak door licht en UV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96012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eer giftig voor andere d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34388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0D4CB-B349-49F5-A929-A52DB9BBBEA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4" dur="indefinite" restart="never" nodeType="tmRoot">
          <p:childTnLst>
            <p:seq>
              <p:cTn id="1715" dur="indefinite" nodeType="mainSeq">
                <p:childTnLst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0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7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nodeType="clickEffect" fill="hold">
                      <p:stCondLst>
                        <p:cond delay="indefinite"/>
                      </p:stCondLst>
                      <p:childTnLst>
                        <p:par>
                          <p:cTn id="1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4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9" dur="1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4" dur="1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nodeType="clickEffect" fill="hold">
                      <p:stCondLst>
                        <p:cond delay="indefinite"/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1" dur="1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6" dur="10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1" dur="10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6" dur="10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1" dur="1000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2" dur="10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Groeiproces verstor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971640" y="193032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orming chitine 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(bouwstof voor schimmels en skelet 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geleedpotigen zoals insecten, kreeftachtigen en spinnen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velling verstoord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rupsen mineermo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daante verwisseling verst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pnam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u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demha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a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A7775C-E1DA-46FF-AA89-516C72A01C3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4" dur="indefinite" restart="never" nodeType="tmRoot">
          <p:childTnLst>
            <p:seq>
              <p:cTn id="1775" dur="indefinite" nodeType="mainSeq">
                <p:childTnLst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0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nodeType="clickEffect" fill="hold">
                      <p:stCondLst>
                        <p:cond delay="indefinite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7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nodeType="clickEffect" fill="hold">
                      <p:stCondLst>
                        <p:cond delay="indefinite"/>
                      </p:stCondLst>
                      <p:childTnLst>
                        <p:par>
                          <p:cTn id="1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9" dur="1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1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1" dur="1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10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7" dur="1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Insecticid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23640" y="1279080"/>
            <a:ext cx="6994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ystemisch tegen zuigende insect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uppel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Niet-systemisch tegen vretende insecten (rups, kev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a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puittechniek belangrij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uitvloei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ranslaminair (ademhalingsgif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Pirimo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ldoende temp. nodi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412C0-18F5-4873-AE4A-6B1A756A926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nodeType="clickEffect" fill="hold">
                      <p:stCondLst>
                        <p:cond delay="indefinite"/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5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nodeType="clickEffect" fill="hold">
                      <p:stCondLst>
                        <p:cond delay="indefinite"/>
                      </p:stCondLst>
                      <p:childTnLst>
                        <p:par>
                          <p:cTn id="1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2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3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9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0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nodeType="clickEffect" fill="hold">
                      <p:stCondLst>
                        <p:cond delay="indefinite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6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7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1" dur="1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1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7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nodeType="clickEffect" fill="hold">
                      <p:stCondLst>
                        <p:cond delay="indefinite"/>
                      </p:stCondLst>
                      <p:childTnLst>
                        <p:par>
                          <p:cTn id="1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10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nodeType="clickEffect" fill="hold">
                      <p:stCondLst>
                        <p:cond delay="indefinite"/>
                      </p:stCondLst>
                      <p:childTnLst>
                        <p:par>
                          <p:cTn id="1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0" dur="1000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1000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Travelling ti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ontactmiddel druppelen bij laatste druppelbeurt einde da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ystemisch middel begin van de dag druppelen zodat het door verdamping goed wordt opgenom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oeveel druppelbeurten zijn nodig denk j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Zeker 6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4718CA-AC12-484A-92D0-79EC7FA311A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nodeType="clickEffect" fill="hold">
                      <p:stCondLst>
                        <p:cond delay="indefinite"/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4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2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8" dur="1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9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nodeType="clickEffect" fill="hold">
                      <p:stCondLst>
                        <p:cond delay="indefinite"/>
                      </p:stCondLst>
                      <p:childTnLst>
                        <p:par>
                          <p:cTn id="1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5" dur="1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39280" y="1268280"/>
            <a:ext cx="648036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 Welk proces bij insecten wordt verstoord door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holine-esteraseremmers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Prikkeloverdracht in zenuwstels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arom werken systemische middelen minder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egen vretende insect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Zij krijgen niet voldoende middel binn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Hoe kunnen middelen door insecten worden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pgenom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oor huid, ademhaling en maa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BF898-64DD-488A-90CE-26EBD4BAB2F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nodeType="clickEffect" fill="hold">
                      <p:stCondLst>
                        <p:cond delay="indefinite"/>
                      </p:stCondLst>
                      <p:childTnLst>
                        <p:par>
                          <p:cTn id="1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nodeType="clickEffect" fill="hold">
                      <p:stCondLst>
                        <p:cond delay="indefinite"/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nodeType="clickEffect" fill="hold">
                      <p:stCondLst>
                        <p:cond delay="indefinite"/>
                      </p:stCondLst>
                      <p:childTnLst>
                        <p:par>
                          <p:cTn id="1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ungicid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Conventione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reedwerke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rijwel nooit resistent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Fytotoxisch = giftig/schadelij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iet systemisc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Preventie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aneb, thiram, capta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991A6B-008C-416F-9BD5-C9A339DD818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2" dur="indefinite" restart="never" nodeType="tmRoot">
          <p:childTnLst>
            <p:seq>
              <p:cTn id="1923" dur="indefinite" nodeType="mainSeq">
                <p:childTnLst>
                  <p:par>
                    <p:cTn id="1924" nodeType="clickEffect" fill="hold">
                      <p:stCondLst>
                        <p:cond delay="indefinite"/>
                      </p:stCondLst>
                      <p:childTnLst>
                        <p:par>
                          <p:cTn id="1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8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nodeType="clickEffect" fill="hold">
                      <p:stCondLst>
                        <p:cond delay="indefinite"/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5" dur="1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6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nodeType="clickEffect" fill="hold">
                      <p:stCondLst>
                        <p:cond delay="indefinite"/>
                      </p:stCondLst>
                      <p:childTnLst>
                        <p:par>
                          <p:cTn id="1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2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3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nodeType="clickEffect" fill="hold">
                      <p:stCondLst>
                        <p:cond delay="indefinite"/>
                      </p:stCondLst>
                      <p:childTnLst>
                        <p:par>
                          <p:cTn id="1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1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0" dur="10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10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6" dur="10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7" dur="10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10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nodeType="clickEffect" fill="hold">
                      <p:stCondLst>
                        <p:cond delay="indefinite"/>
                      </p:stCondLst>
                      <p:childTnLst>
                        <p:par>
                          <p:cTn id="1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0" dur="10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10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ungicid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39640" y="1700280"/>
            <a:ext cx="6346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oder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ystemisc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Curatie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en plaats ingrijpe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erder resistent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beeld O.a. strobilurin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oms combinatie van meerdere werkzame stoffen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minder kans op resistenti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0D0BA-9EA6-4265-AE64-877C9581153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3" dur="indefinite" restart="never" nodeType="tmRoot">
          <p:childTnLst>
            <p:seq>
              <p:cTn id="1974" dur="indefinite" nodeType="mainSeq">
                <p:childTnLst>
                  <p:par>
                    <p:cTn id="1975" nodeType="clickEffect" fill="hold">
                      <p:stCondLst>
                        <p:cond delay="indefinite"/>
                      </p:stCondLst>
                      <p:childTnLst>
                        <p:par>
                          <p:cTn id="1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9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0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nodeType="clickEffect" fill="hold">
                      <p:stCondLst>
                        <p:cond delay="indefinite"/>
                      </p:stCondLst>
                      <p:childTnLst>
                        <p:par>
                          <p:cTn id="1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7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1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6" dur="1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7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1" dur="1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6" dur="1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nodeType="clickEffect" fill="hold">
                      <p:stCondLst>
                        <p:cond delay="indefinite"/>
                      </p:stCondLst>
                      <p:childTnLst>
                        <p:par>
                          <p:cTn id="2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3" dur="1000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4" dur="10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ignum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557360"/>
            <a:ext cx="6500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trobuline is stofje uit een schimmel dat de stofwisseling verstoord en zeer lage giftigheid voor mens en insecten.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korte veiligheidstermij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ignum = schimmelbestrijder met 2 werkzame stoffen Pyraclostrobuline en Boscalid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minder resistentie. Ook groener en vitaler gewas (minder uitval) dat meer bestand is tegen ethyleen. Meer productie (10% in graan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3149C0-E885-4AAE-BF16-7CFF9B7CFA1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6" dur="indefinite" restart="never" nodeType="tmRoot">
          <p:childTnLst>
            <p:seq>
              <p:cTn id="2017" dur="indefinite" nodeType="mainSeq">
                <p:childTnLst>
                  <p:par>
                    <p:cTn id="2018" nodeType="clickEffect" fill="hold">
                      <p:stCondLst>
                        <p:cond delay="indefinite"/>
                      </p:stCondLst>
                      <p:childTnLst>
                        <p:par>
                          <p:cTn id="2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2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3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nodeType="clickEffect" fill="hold">
                      <p:stCondLst>
                        <p:cond delay="indefinite"/>
                      </p:stCondLst>
                      <p:childTnLst>
                        <p:par>
                          <p:cTn id="2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9" dur="1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0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Nematicid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09120" y="1568520"/>
            <a:ext cx="6348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Vloeibar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In de grond – gasvormi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ood alle aaltjessoor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odemtemperatuur niet te laa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Uitspoeling (2016 verbod?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Korrelvormig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ranula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Lossen op in het bodemvoch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electief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ok systemisch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evenwerking insecten doden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4D29A-C4FE-4DBF-9DE6-A9B513440F9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2" dur="indefinite" restart="never" nodeType="tmRoot">
          <p:childTnLst>
            <p:seq>
              <p:cTn id="2033" dur="indefinite" nodeType="mainSeq">
                <p:childTnLst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8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nodeType="clickEffect" fill="hold">
                      <p:stCondLst>
                        <p:cond delay="indefinite"/>
                      </p:stCondLst>
                      <p:childTnLst>
                        <p:par>
                          <p:cTn id="2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5" dur="1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0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1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5" dur="10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0" dur="1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nodeType="clickEffect" fill="hold">
                      <p:stCondLst>
                        <p:cond delay="indefinite"/>
                      </p:stCondLst>
                      <p:childTnLst>
                        <p:par>
                          <p:cTn id="2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7" dur="10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8" dur="1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nodeType="clickEffect" fill="hold">
                      <p:stCondLst>
                        <p:cond delay="indefinite"/>
                      </p:stCondLst>
                      <p:childTnLst>
                        <p:par>
                          <p:cTn id="2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4" dur="10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5" dur="10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10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9" dur="1000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1000" fill="hold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4" dur="10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5" dur="1000" fill="hold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1000" fill="hold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9" dur="1000"/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0" dur="1000" fill="hold"/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1000" fill="hold"/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4" dur="1000"/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5" dur="1000" fill="hold"/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1000" fill="hold"/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er en gewasbescherm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ikte waslaag bij groeizaam weer dunn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odemherbicide vochtige bodem nodi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ontactfungiciden hechten beter op droog warm gewa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iet systemische insecticiden werken het beste bij niet te lage temp, want insecten zijn dan actief. Zon breekt ze eerder af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eer, neerslag en wind!!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Wat is het beste moment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BB1A07-9322-49B8-8A76-A3D470CEEFE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7" dur="indefinite" restart="never" nodeType="tmRoot">
          <p:childTnLst>
            <p:seq>
              <p:cTn id="2098" dur="indefinite" nodeType="mainSeq">
                <p:childTnLst>
                  <p:par>
                    <p:cTn id="2099" nodeType="clickEffect" fill="hold">
                      <p:stCondLst>
                        <p:cond delay="indefinite"/>
                      </p:stCondLst>
                      <p:childTnLst>
                        <p:par>
                          <p:cTn id="2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3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4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nodeType="clickEffect" fill="hold">
                      <p:stCondLst>
                        <p:cond delay="indefinite"/>
                      </p:stCondLst>
                      <p:childTnLst>
                        <p:par>
                          <p:cTn id="2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0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1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nodeType="clickEffect" fill="hold">
                      <p:stCondLst>
                        <p:cond delay="indefinite"/>
                      </p:stCondLst>
                      <p:childTnLst>
                        <p:par>
                          <p:cTn id="2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7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8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nodeType="clickEffect" fill="hold">
                      <p:stCondLst>
                        <p:cond delay="indefinite"/>
                      </p:stCondLst>
                      <p:childTnLst>
                        <p:par>
                          <p:cTn id="2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4" dur="1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1" dur="1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2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nodeType="clickEffect" fill="hold">
                      <p:stCondLst>
                        <p:cond delay="indefinite"/>
                      </p:stCondLst>
                      <p:childTnLst>
                        <p:par>
                          <p:cTn id="2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8" dur="1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Toevoegingen en hulpstoff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7226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Uitvloeie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etere en grotere bladbedekk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echte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Werkzame stof beter aan het blad hech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nti-schuimmiddel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minder schuimvorm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leur en geurstof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gevaa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D6E80-0052-4609-BD2F-B3B3C7B5BE1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2556000" y="3746520"/>
            <a:ext cx="208584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er en gewasbescherm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09120" y="2781000"/>
            <a:ext cx="6348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ddelen op basis van poeder en waterige middelen worden moeilijker opgenomen dan oliën en hebben een langere aandroogtijd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7BB7A7-88D5-4912-B976-27718849612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1" dur="indefinite" restart="never" nodeType="tmRoot">
          <p:childTnLst>
            <p:seq>
              <p:cTn id="2142" dur="indefinite" nodeType="mainSeq">
                <p:childTnLst>
                  <p:par>
                    <p:cTn id="2143" nodeType="clickEffect" fill="hold">
                      <p:stCondLst>
                        <p:cond delay="indefinite"/>
                      </p:stCondLst>
                      <p:childTnLst>
                        <p:par>
                          <p:cTn id="2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7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8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70028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nder welke omstandigheden is de waslaag du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Trebuchet MS"/>
              </a:rPr>
              <a:t>Groeizaam weer met hoge rv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nneer worden systemische middelen het beste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pgenom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Overdag bij hoge temperatur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F6FF86-EC44-46FD-8DC6-2B41A28A1FA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nodeType="clickEffect" fill="hold">
                      <p:stCondLst>
                        <p:cond delay="indefinite"/>
                      </p:stCondLst>
                      <p:childTnLst>
                        <p:par>
                          <p:cTn id="2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6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1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3.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t zijn optimale omstandigheden voor inzet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an contactfungicid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roog gewas met zon en beetje wind bij niet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te lage temperatur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 Welke 2 factoren bepalen het risico van een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slaagde schimmel-infect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Infectiedruk en het weer (rv en temp. hoog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BB1030-C15D-4661-B6C0-BF558F7080D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2" dur="indefinite" restart="never" nodeType="tmRoot">
          <p:childTnLst>
            <p:seq>
              <p:cTn id="2163" dur="indefinite" nodeType="mainSeq">
                <p:childTnLst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8" dur="1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nodeType="clickEffect" fill="hold">
                      <p:stCondLst>
                        <p:cond delay="indefinite"/>
                      </p:stCondLst>
                      <p:childTnLst>
                        <p:par>
                          <p:cTn id="2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5" dur="1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ilieu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miss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damp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rondwat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terorganis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rif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2 %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Zie berekening in het boe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F304A-C948-4850-AF54-26DCFFFCAB2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8" dur="indefinite" restart="never" nodeType="tmRoot">
          <p:childTnLst>
            <p:seq>
              <p:cTn id="2179" dur="indefinite" nodeType="mainSeq">
                <p:childTnLst>
                  <p:par>
                    <p:cTn id="2180" nodeType="clickEffect" fill="hold">
                      <p:stCondLst>
                        <p:cond delay="indefinite"/>
                      </p:stCondLst>
                      <p:childTnLst>
                        <p:par>
                          <p:cTn id="2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4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nodeType="clickEffect" fill="hold">
                      <p:stCondLst>
                        <p:cond delay="indefinite"/>
                      </p:stCondLst>
                      <p:childTnLst>
                        <p:par>
                          <p:cTn id="2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2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6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7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1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2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nodeType="clickEffect" fill="hold">
                      <p:stCondLst>
                        <p:cond delay="indefinite"/>
                      </p:stCondLst>
                      <p:childTnLst>
                        <p:par>
                          <p:cTn id="2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8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9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nodeType="clickEffect" fill="hold">
                      <p:stCondLst>
                        <p:cond delay="indefinite"/>
                      </p:stCondLst>
                      <p:childTnLst>
                        <p:par>
                          <p:cTn id="2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5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0" dur="10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1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90c226"/>
                </a:solidFill>
                <a:latin typeface="Sassoon-Primary"/>
              </a:rPr>
              <a:t>Emissie</a:t>
            </a:r>
            <a:br>
              <a:rPr sz="4000"/>
            </a:b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Sassoon-Primary"/>
              </a:rPr>
              <a:t>Te kleine druppel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Sassoon-Primary"/>
              </a:rPr>
              <a:t>(</a:t>
            </a: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kleiner dan 30 µm) zijn gevoelig voor emissie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Ze verdampen snel en kunnen gaan zweven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Sassoon-Primary"/>
              </a:rPr>
              <a:t>Ze komen uiteindelijk op de bovenzijde van het blad terecht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Sassoon-Primary"/>
              </a:rPr>
              <a:t>Ook kunnen ze te weinig actieve stof bevatten voor een goede werking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AF51E8-92D8-4496-AC63-75AD791CEB4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3" dur="indefinite" restart="never" nodeType="tmRoot">
          <p:childTnLst>
            <p:seq>
              <p:cTn id="2224" dur="indefinite" nodeType="mainSeq">
                <p:childTnLst>
                  <p:par>
                    <p:cTn id="2225" nodeType="clickEffect" fill="hold">
                      <p:stCondLst>
                        <p:cond delay="indefinite"/>
                      </p:stCondLst>
                      <p:childTnLst>
                        <p:par>
                          <p:cTn id="2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9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0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nodeType="clickEffect" fill="hold">
                      <p:stCondLst>
                        <p:cond delay="indefinite"/>
                      </p:stCondLst>
                      <p:childTnLst>
                        <p:par>
                          <p:cTn id="2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6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7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1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2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nodeType="clickEffect" fill="hold">
                      <p:stCondLst>
                        <p:cond delay="indefinite"/>
                      </p:stCondLst>
                      <p:childTnLst>
                        <p:par>
                          <p:cTn id="2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8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9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3" dur="1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4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5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90c226"/>
                </a:solidFill>
                <a:latin typeface="Sassoon-Primary"/>
              </a:rPr>
              <a:t>Emissieroutes 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Sassoon-Primary"/>
              </a:rPr>
              <a:t>naar oppervlaktewater en grondwat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via de bodem (drainwater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middelen die vanuit de lucht in het oppervlaktewater terechtko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via recirculatiewate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 first flus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via condenswat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Sassoon-Primary"/>
              </a:rPr>
              <a:t>Welke emissieroute het meest voorkomt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 </a:t>
            </a: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hangt af van de gebruikte technie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EF613F-2365-4123-AA0A-89F56EC7C30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6" dur="indefinite" restart="never" nodeType="tmRoot">
          <p:childTnLst>
            <p:seq>
              <p:cTn id="2257" dur="indefinite" nodeType="mainSeq">
                <p:childTnLst>
                  <p:par>
                    <p:cTn id="2258" nodeType="clickEffect" fill="hold">
                      <p:stCondLst>
                        <p:cond delay="indefinite"/>
                      </p:stCondLst>
                      <p:childTnLst>
                        <p:par>
                          <p:cTn id="2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2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3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nodeType="clickEffect" fill="hold">
                      <p:stCondLst>
                        <p:cond delay="indefinite"/>
                      </p:stCondLst>
                      <p:childTnLst>
                        <p:par>
                          <p:cTn id="2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9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0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4" dur="1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5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9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0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4" dur="1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5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6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1" dur="10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2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nodeType="clickEffect" fill="hold">
                      <p:stCondLst>
                        <p:cond delay="indefinite"/>
                      </p:stCondLst>
                      <p:childTnLst>
                        <p:par>
                          <p:cTn id="2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8" dur="10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9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Sassoon-Primary"/>
              </a:rPr>
              <a:t>Emissieroute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79280" y="1623960"/>
            <a:ext cx="6840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Sassoon-Primary"/>
              </a:rPr>
              <a:t>Bij emissie komt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Sassoon-Primary"/>
              </a:rPr>
              <a:t>het toegepaste gewasbeschermingsmiddel niet terecht op de plaats waar het moet komen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Sassoon-Primary"/>
              </a:rPr>
              <a:t>Het middel gaat verloren en kan mens en milieu bedreigen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Sassoon-Primary"/>
              </a:rPr>
              <a:t>Emissie van gewasbeschermingsmiddelen naar het milieu kan via verschillende routes plaatsvind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Sassoon-Primary"/>
              </a:rPr>
              <a:t>naar lucht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Sassoon-Primary"/>
              </a:rPr>
              <a:t>kleine druppels die naar buiten waai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Sassoon-Primary"/>
              </a:rPr>
              <a:t>verdamping van het middel van het gewas of kasdek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Sassoon-Primary"/>
              </a:rPr>
              <a:t>gasvormige middel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Sassoon-Primary"/>
              </a:rPr>
              <a:t>naar bodem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Sassoon-Primary"/>
              </a:rPr>
              <a:t>middelen die van de plant afdruip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Sassoon-Primary"/>
              </a:rPr>
              <a:t>middelen die naast het gewas op de grond terechtkom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Sassoon-Primary"/>
              </a:rPr>
              <a:t>middelen die aan de bodem worden toegediend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0C16D5-E327-4132-BFDC-D66F7539FA2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1" dur="indefinite" restart="never" nodeType="tmRoot">
          <p:childTnLst>
            <p:seq>
              <p:cTn id="2302" dur="indefinite" nodeType="mainSeq">
                <p:childTnLst>
                  <p:par>
                    <p:cTn id="2303" nodeType="clickEffect" fill="hold">
                      <p:stCondLst>
                        <p:cond delay="indefinite"/>
                      </p:stCondLst>
                      <p:childTnLst>
                        <p:par>
                          <p:cTn id="2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7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8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nodeType="clickEffect" fill="hold">
                      <p:stCondLst>
                        <p:cond delay="indefinite"/>
                      </p:stCondLst>
                      <p:childTnLst>
                        <p:par>
                          <p:cTn id="2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4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5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9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0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nodeType="clickEffect" fill="hold">
                      <p:stCondLst>
                        <p:cond delay="indefinite"/>
                      </p:stCondLst>
                      <p:childTnLst>
                        <p:par>
                          <p:cTn id="2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6" dur="1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7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8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nodeType="clickEffect" fill="hold">
                      <p:stCondLst>
                        <p:cond delay="indefinite"/>
                      </p:stCondLst>
                      <p:childTnLst>
                        <p:par>
                          <p:cTn id="2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3" dur="1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4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8" dur="10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3" dur="10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4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8" dur="1000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9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nodeType="clickEffect" fill="hold">
                      <p:stCondLst>
                        <p:cond delay="indefinite"/>
                      </p:stCondLst>
                      <p:childTnLst>
                        <p:par>
                          <p:cTn id="2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5" dur="1000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6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0" dur="1000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5" dur="1000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0" dur="1000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1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tgev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09120" y="189540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ctiviteiten beslui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enteel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eeltvrije zon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uitvrije zon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nti-driftdopp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antdopp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oogte spuitboo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oegestane windk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oel 90% minder drif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FA0E91-3E33-4228-AE07-A3F97299F7E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3" dur="indefinite" restart="never" nodeType="tmRoot">
          <p:childTnLst>
            <p:seq>
              <p:cTn id="2374" dur="indefinite" nodeType="mainSeq">
                <p:childTnLst>
                  <p:par>
                    <p:cTn id="2375" nodeType="clickEffect" fill="hold">
                      <p:stCondLst>
                        <p:cond delay="indefinite"/>
                      </p:stCondLst>
                      <p:childTnLst>
                        <p:par>
                          <p:cTn id="2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9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0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nodeType="clickEffect" fill="hold">
                      <p:stCondLst>
                        <p:cond delay="indefinite"/>
                      </p:stCondLst>
                      <p:childTnLst>
                        <p:par>
                          <p:cTn id="2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6" dur="1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7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nodeType="clickEffect" fill="hold">
                      <p:stCondLst>
                        <p:cond delay="indefinite"/>
                      </p:stCondLst>
                      <p:childTnLst>
                        <p:par>
                          <p:cTn id="2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3" dur="1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4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5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8" dur="1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9" dur="1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1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3" dur="1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4" dur="1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1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8" dur="1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9" dur="1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1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3" dur="10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4" dur="10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10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8" dur="1000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9" dur="10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10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nodeType="clickEffect" fill="hold">
                      <p:stCondLst>
                        <p:cond delay="indefinite"/>
                      </p:stCondLst>
                      <p:childTnLst>
                        <p:par>
                          <p:cTn id="2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5" dur="1000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lke afbraakprocess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88136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fbraak DT-5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egradation time = halfwaarde tij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er dan 60 dag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rsistent of moeilijk afbreekbaar middel zoals bodemherbici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dapt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micro-organis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D3ECBB-E3DE-416C-83CD-25E26AB1826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8" dur="indefinite" restart="never" nodeType="tmRoot">
          <p:childTnLst>
            <p:seq>
              <p:cTn id="2429" dur="indefinite" nodeType="mainSeq">
                <p:childTnLst>
                  <p:par>
                    <p:cTn id="2430" nodeType="clickEffect" fill="hold">
                      <p:stCondLst>
                        <p:cond delay="indefinite"/>
                      </p:stCondLst>
                      <p:childTnLst>
                        <p:par>
                          <p:cTn id="2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4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5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nodeType="clickEffect" fill="hold">
                      <p:stCondLst>
                        <p:cond delay="indefinite"/>
                      </p:stCondLst>
                      <p:childTnLst>
                        <p:par>
                          <p:cTn id="2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1" dur="1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2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nodeType="clickEffect" fill="hold">
                      <p:stCondLst>
                        <p:cond delay="indefinite"/>
                      </p:stCondLst>
                      <p:childTnLst>
                        <p:par>
                          <p:cTn id="2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8" dur="10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9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0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3" dur="10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4" dur="10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10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nodeType="clickEffect" fill="hold">
                      <p:stCondLst>
                        <p:cond delay="indefinite"/>
                      </p:stCondLst>
                      <p:childTnLst>
                        <p:par>
                          <p:cTn id="2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0" dur="10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1" dur="10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10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nodeType="clickEffect" fill="hold">
                      <p:stCondLst>
                        <p:cond delay="indefinite"/>
                      </p:stCondLst>
                      <p:childTnLst>
                        <p:par>
                          <p:cTn id="2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7" dur="10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8" dur="10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10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lke afbraakprocess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85360" y="1628280"/>
            <a:ext cx="6348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ccumulat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hoping persistente middel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keten raakt verstoor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Uitspoel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angzaam afgebro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en binding Klei-Humus-Complex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C-Drinkwaternorm 0,1 microgram/L /middel. Max 0,5 van alle middelen teza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fspoeling van middelen naar riool of oppervlaktewat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91A516-5D51-4B54-9439-09CB8F2F6E7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0" dur="indefinite" restart="never" nodeType="tmRoot">
          <p:childTnLst>
            <p:seq>
              <p:cTn id="2471" dur="indefinite" nodeType="mainSeq">
                <p:childTnLst>
                  <p:par>
                    <p:cTn id="2472" nodeType="clickEffect" fill="hold">
                      <p:stCondLst>
                        <p:cond delay="indefinite"/>
                      </p:stCondLst>
                      <p:childTnLst>
                        <p:par>
                          <p:cTn id="2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6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7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nodeType="clickEffect" fill="hold">
                      <p:stCondLst>
                        <p:cond delay="indefinite"/>
                      </p:stCondLst>
                      <p:childTnLst>
                        <p:par>
                          <p:cTn id="2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3" dur="1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4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8" dur="1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9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nodeType="clickEffect" fill="hold">
                      <p:stCondLst>
                        <p:cond delay="indefinite"/>
                      </p:stCondLst>
                      <p:childTnLst>
                        <p:par>
                          <p:cTn id="2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5" dur="10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6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nodeType="clickEffect" fill="hold">
                      <p:stCondLst>
                        <p:cond delay="indefinite"/>
                      </p:stCondLst>
                      <p:childTnLst>
                        <p:par>
                          <p:cTn id="2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2" dur="10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3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7" dur="10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8" dur="10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10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2" dur="10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3" dur="10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0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nodeType="clickEffect" fill="hold">
                      <p:stCondLst>
                        <p:cond delay="indefinite"/>
                      </p:stCondLst>
                      <p:childTnLst>
                        <p:par>
                          <p:cTn id="2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9" dur="1000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0" dur="1000" fill="hold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1000" fill="hold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Uitvloeier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000" y="1773000"/>
            <a:ext cx="677844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lad heeft een waslaag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schermd tegen uitdrog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druppels blijven groo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oor uitvloeier loopt druppel uit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etere bedekking en minder actieve stof nodi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oog wee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waslaag dikk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roeizaam weer met hoge temp en RV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waslaag dunn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WIS weegt weerbericht mee in dosi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92d050"/>
                </a:solidFill>
                <a:latin typeface="Trebuchet MS"/>
              </a:rPr>
              <a:t>http://www.opticrop.nl/default.asp?id=17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7E57C-DF84-4EE7-AA46-36F3E1A0125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lke afbraakprocess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539640" y="1700280"/>
            <a:ext cx="70567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erdamping van mid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oge neerslag, sterk verdund met regenwat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 de gro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 oppervlaktewat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nder gla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Condensatie per m</a:t>
            </a:r>
            <a:r>
              <a:rPr b="0" lang="nl-NL" sz="20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glas =0,5 liter per dag opvangen als first flus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rift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door wind verwaaien afh. van druk en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in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71C6BA-2B4B-41DC-93E1-CBDB2FB0F4E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2" dur="indefinite" restart="never" nodeType="tmRoot">
          <p:childTnLst>
            <p:seq>
              <p:cTn id="2523" dur="indefinite" nodeType="mainSeq">
                <p:childTnLst>
                  <p:par>
                    <p:cTn id="2524" nodeType="clickEffect" fill="hold">
                      <p:stCondLst>
                        <p:cond delay="indefinite"/>
                      </p:stCondLst>
                      <p:childTnLst>
                        <p:par>
                          <p:cTn id="2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8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9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1" nodeType="clickEffect" fill="hold">
                      <p:stCondLst>
                        <p:cond delay="indefinite"/>
                      </p:stCondLst>
                      <p:childTnLst>
                        <p:par>
                          <p:cTn id="2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5" dur="1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6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0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1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2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5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nodeType="clickEffect" fill="hold">
                      <p:stCondLst>
                        <p:cond delay="indefinite"/>
                      </p:stCondLst>
                      <p:childTnLst>
                        <p:par>
                          <p:cTn id="2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2" dur="10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3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nodeType="clickEffect" fill="hold">
                      <p:stCondLst>
                        <p:cond delay="indefinite"/>
                      </p:stCondLst>
                      <p:childTnLst>
                        <p:par>
                          <p:cTn id="2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9" dur="10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0" dur="1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1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nodeType="clickEffect" fill="hold">
                      <p:stCondLst>
                        <p:cond delay="indefinite"/>
                      </p:stCondLst>
                      <p:childTnLst>
                        <p:par>
                          <p:cTn id="2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6" dur="10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7" dur="10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10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33160" y="1521000"/>
            <a:ext cx="6500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. Hoe kunnen gewasbeschermingsmiddelen in het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lieu terecht kom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Verdamping, uitspoeling, afspoeling en drif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geeft de DT waarde aa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e halfwaarde tijd in da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at betekent accumulatie van een middel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Ophoping middel in voedselke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 Wat is first flush?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Eerste water wat op kasdek val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0D55EC-DA08-4CE9-A3DC-7C07F5ABD97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9" dur="indefinite" restart="never" nodeType="tmRoot">
          <p:childTnLst>
            <p:seq>
              <p:cTn id="2570" dur="indefinite" nodeType="mainSeq">
                <p:childTnLst>
                  <p:par>
                    <p:cTn id="2571" nodeType="clickEffect" fill="hold">
                      <p:stCondLst>
                        <p:cond delay="indefinite"/>
                      </p:stCondLst>
                      <p:childTnLst>
                        <p:par>
                          <p:cTn id="2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5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nodeType="clickEffect" fill="hold">
                      <p:stCondLst>
                        <p:cond delay="indefinite"/>
                      </p:stCondLst>
                      <p:childTnLst>
                        <p:par>
                          <p:cTn id="2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0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1" nodeType="clickEffect" fill="hold">
                      <p:stCondLst>
                        <p:cond delay="indefinite"/>
                      </p:stCondLst>
                      <p:childTnLst>
                        <p:par>
                          <p:cTn id="2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5" dur="5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nodeType="clickEffect" fill="hold">
                      <p:stCondLst>
                        <p:cond delay="indefinite"/>
                      </p:stCondLst>
                      <p:childTnLst>
                        <p:par>
                          <p:cTn id="2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0" dur="500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Toelating 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0" y="151920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CTGB gewasbeschermingsmiddelen en biocid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olksgezondheidsaspec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09728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Trebuchet MS"/>
              </a:rPr>
              <a:t>giftigheid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lieu-aspec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09728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Trebuchet MS"/>
              </a:rPr>
              <a:t>Mobiliteit (uitspoeling, verdamping, absorptie)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09728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Trebuchet MS"/>
              </a:rPr>
              <a:t>Persistentie (afbraak) DT of halfwaardetijd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09728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Trebuchet MS"/>
              </a:rPr>
              <a:t>Giftigheid waterorganismen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153612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LD 50 waarde = letale dosi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3" marL="153612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LC-50 – lethale concentratie &lt; minder dan1% LC 50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3" marL="153612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EC-50 waarde =effectconcentratie door 50% – binnen 14 dagen reactie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4466D-A0D9-473F-9103-F0BCD32C677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1" dur="indefinite" restart="never" nodeType="tmRoot">
          <p:childTnLst>
            <p:seq>
              <p:cTn id="2592" dur="indefinite" nodeType="mainSeq">
                <p:childTnLst>
                  <p:par>
                    <p:cTn id="2593" nodeType="clickEffect" fill="hold">
                      <p:stCondLst>
                        <p:cond delay="indefinite"/>
                      </p:stCondLst>
                      <p:childTnLst>
                        <p:par>
                          <p:cTn id="2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7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8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0" nodeType="clickEffect" fill="hold">
                      <p:stCondLst>
                        <p:cond delay="indefinite"/>
                      </p:stCondLst>
                      <p:childTnLst>
                        <p:par>
                          <p:cTn id="2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4" dur="10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5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9" dur="10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0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2" nodeType="clickEffect" fill="hold">
                      <p:stCondLst>
                        <p:cond delay="indefinite"/>
                      </p:stCondLst>
                      <p:childTnLst>
                        <p:par>
                          <p:cTn id="2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6" dur="10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7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8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1" dur="10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6" dur="10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7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8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1" dur="100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2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4" nodeType="clickEffect" fill="hold">
                      <p:stCondLst>
                        <p:cond delay="indefinite"/>
                      </p:stCondLst>
                      <p:childTnLst>
                        <p:par>
                          <p:cTn id="2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8" dur="1000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9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0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3" dur="1000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4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5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8" dur="1000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9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0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EU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95280" y="155736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oelating voor 10 jr. in EU land op annex A lijst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andere landen mogen het middel ook toelat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ossi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eikundige informatie (ws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atuurkundige informatie (vlampunt etc.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iftigheid voor de mens (acuut, chronisch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cotoxicologische gegevens milieu (bije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620F72-4935-495F-B9D8-83998562B69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1" dur="indefinite" restart="never" nodeType="tmRoot">
          <p:childTnLst>
            <p:seq>
              <p:cTn id="2652" dur="indefinite" nodeType="mainSeq">
                <p:childTnLst>
                  <p:par>
                    <p:cTn id="2653" nodeType="clickEffect" fill="hold">
                      <p:stCondLst>
                        <p:cond delay="indefinite"/>
                      </p:stCondLst>
                      <p:childTnLst>
                        <p:par>
                          <p:cTn id="2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7" dur="1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8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0" nodeType="clickEffect" fill="hold">
                      <p:stCondLst>
                        <p:cond delay="indefinite"/>
                      </p:stCondLst>
                      <p:childTnLst>
                        <p:par>
                          <p:cTn id="2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4" dur="1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5" dur="1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6" dur="1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nodeType="clickEffect" fill="hold">
                      <p:stCondLst>
                        <p:cond delay="indefinite"/>
                      </p:stCondLst>
                      <p:childTnLst>
                        <p:par>
                          <p:cTn id="2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1" dur="1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2" dur="1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1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6" dur="10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7" dur="10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8" dur="10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1" dur="10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2" dur="10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3" dur="10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6" dur="10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7" dur="10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8" dur="10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1" dur="10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2" dur="1000" fill="hold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1000" fill="hold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Ecotoxicologische gegevens </a:t>
            </a:r>
            <a:r>
              <a:rPr b="0" lang="nl-NL" sz="3000" spc="-1" strike="noStrike">
                <a:solidFill>
                  <a:srgbClr val="90c226"/>
                </a:solidFill>
                <a:latin typeface="Trebuchet MS"/>
              </a:rPr>
              <a:t>(giftigheid van het milieu)</a:t>
            </a:r>
            <a:endParaRPr b="0" lang="en-US" sz="3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30360" y="2045880"/>
            <a:ext cx="63482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MR stoffe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Carcinoge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kankerverwekke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utage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DNA verandere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eproductietoxisch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voortplant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https://zoek.officielebekendmakingen.nl/stcrt-2014-6.html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 en P zinn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azzard = gevaa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Precaution = voorzor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DCFDA4-4FB2-469B-8E55-14E04F73D0B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4" dur="indefinite" restart="never" nodeType="tmRoot">
          <p:childTnLst>
            <p:seq>
              <p:cTn id="2695" dur="indefinite" nodeType="mainSeq">
                <p:childTnLst>
                  <p:par>
                    <p:cTn id="2696" nodeType="clickEffect" fill="hold">
                      <p:stCondLst>
                        <p:cond delay="indefinite"/>
                      </p:stCondLst>
                      <p:childTnLst>
                        <p:par>
                          <p:cTn id="2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0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1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2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nodeType="clickEffect" fill="hold">
                      <p:stCondLst>
                        <p:cond delay="indefinite"/>
                      </p:stCondLst>
                      <p:childTnLst>
                        <p:par>
                          <p:cTn id="2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7" dur="10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8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2" dur="10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3" dur="1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1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7" dur="10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8" dur="1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9" dur="1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2" dur="10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3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nodeType="clickEffect" fill="hold">
                      <p:stCondLst>
                        <p:cond delay="indefinite"/>
                      </p:stCondLst>
                      <p:childTnLst>
                        <p:par>
                          <p:cTn id="2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9" dur="10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0" dur="10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1" dur="10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2" nodeType="clickEffect" fill="hold">
                      <p:stCondLst>
                        <p:cond delay="indefinite"/>
                      </p:stCondLst>
                      <p:childTnLst>
                        <p:par>
                          <p:cTn id="2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6" dur="1000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7" dur="10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8" dur="10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1" dur="1000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2" dur="10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3" dur="10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ilieu meetl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53520" y="1844640"/>
            <a:ext cx="717084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CLM 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(Centrum Landbouw en Milieu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orm maximaal 100 mbp 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(milieu belastingspunten)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 per toepass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Uitspoe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rsis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orm maximaal 10 mbp  per toepass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erorganis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en teel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sloten teel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92d050"/>
                </a:solidFill>
                <a:latin typeface="Trebuchet MS"/>
              </a:rPr>
              <a:t>https://www.milieumeetlat.nl/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690D4F-AE96-4464-A9CC-6E8D7690D0B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4" dur="indefinite" restart="never" nodeType="tmRoot">
          <p:childTnLst>
            <p:seq>
              <p:cTn id="2745" dur="indefinite" nodeType="mainSeq">
                <p:childTnLst>
                  <p:par>
                    <p:cTn id="2746" nodeType="clickEffect" fill="hold">
                      <p:stCondLst>
                        <p:cond delay="indefinite"/>
                      </p:stCondLst>
                      <p:childTnLst>
                        <p:par>
                          <p:cTn id="2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0" dur="1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1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3" nodeType="clickEffect" fill="hold">
                      <p:stCondLst>
                        <p:cond delay="indefinite"/>
                      </p:stCondLst>
                      <p:childTnLst>
                        <p:par>
                          <p:cTn id="2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7" dur="10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8" dur="1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1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nodeType="clickEffect" fill="hold">
                      <p:stCondLst>
                        <p:cond delay="indefinite"/>
                      </p:stCondLst>
                      <p:childTnLst>
                        <p:par>
                          <p:cTn id="2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4" dur="10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5" dur="10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6" dur="10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9" dur="10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0" dur="10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10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nodeType="clickEffect" fill="hold">
                      <p:stCondLst>
                        <p:cond delay="indefinite"/>
                      </p:stCondLst>
                      <p:childTnLst>
                        <p:par>
                          <p:cTn id="2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6" dur="10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7" dur="10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8" dur="10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9" nodeType="clickEffect" fill="hold">
                      <p:stCondLst>
                        <p:cond delay="indefinite"/>
                      </p:stCondLst>
                      <p:childTnLst>
                        <p:par>
                          <p:cTn id="2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3" dur="1000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4" dur="10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5" dur="10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6" nodeType="clickEffect" fill="hold">
                      <p:stCondLst>
                        <p:cond delay="indefinite"/>
                      </p:stCondLst>
                      <p:childTnLst>
                        <p:par>
                          <p:cTn id="2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0" dur="100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1" dur="10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2" dur="10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5" dur="1000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6" dur="1000" fill="hold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7" dur="1000" fill="hold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0" dur="1000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1" dur="1000" fill="hold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2" dur="1000" fill="hold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rdentoelating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53880" y="1488960"/>
            <a:ext cx="634680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oor kleine gewassen kan een toelating worden georganiseer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U zones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nnex-A lijs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DB1B68-0F9E-42BD-92C0-E44C48C24B7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614680" y="2344680"/>
            <a:ext cx="434340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3" dur="indefinite" restart="never" nodeType="tmRoot">
          <p:childTnLst>
            <p:seq>
              <p:cTn id="2804" dur="indefinite" nodeType="mainSeq">
                <p:childTnLst>
                  <p:par>
                    <p:cTn id="2805" nodeType="clickEffect" fill="hold">
                      <p:stCondLst>
                        <p:cond delay="indefinite"/>
                      </p:stCondLst>
                      <p:childTnLst>
                        <p:par>
                          <p:cTn id="2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9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0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1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nodeType="clickEffect" fill="hold">
                      <p:stCondLst>
                        <p:cond delay="indefinite"/>
                      </p:stCondLst>
                      <p:childTnLst>
                        <p:par>
                          <p:cTn id="2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6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7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1" dur="10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2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3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nodeType="clickEffect" fill="hold">
                      <p:stCondLst>
                        <p:cond delay="indefinite"/>
                      </p:stCondLst>
                      <p:childTnLst>
                        <p:par>
                          <p:cTn id="2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Neonicotinoiden; </a:t>
            </a:r>
            <a:r>
              <a:rPr b="0" lang="nl-NL" sz="2400" spc="-1" strike="noStrike">
                <a:solidFill>
                  <a:srgbClr val="90c226"/>
                </a:solidFill>
                <a:latin typeface="Trebuchet MS"/>
              </a:rPr>
              <a:t>imidacloprid, thiamethoxam, clothianidine</a:t>
            </a: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09120" y="252576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hemische stof afgeleid van nicotin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ieden tabaksplant bescherm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aucho als zaadbehandel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dmire als systemisch insecticid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oden insecten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aantal vogelsoorten daal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ijensterfte of toch de varroamijt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44AC2-5EB9-4EE3-AD1A-A92FE76E512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1" dur="indefinite" restart="never" nodeType="tmRoot">
          <p:childTnLst>
            <p:seq>
              <p:cTn id="2832" dur="indefinite" nodeType="mainSeq">
                <p:childTnLst>
                  <p:par>
                    <p:cTn id="2833" nodeType="clickEffect" fill="hold">
                      <p:stCondLst>
                        <p:cond delay="indefinite"/>
                      </p:stCondLst>
                      <p:childTnLst>
                        <p:par>
                          <p:cTn id="2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7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8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9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2" dur="1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3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7" dur="1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8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9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2" dur="1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3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4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5" nodeType="clickEffect" fill="hold">
                      <p:stCondLst>
                        <p:cond delay="indefinite"/>
                      </p:stCondLst>
                      <p:childTnLst>
                        <p:par>
                          <p:cTn id="2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9" dur="1000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0" dur="10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10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4" dur="1000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5" dur="10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6" dur="10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9640" y="1397160"/>
            <a:ext cx="822960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t betekent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utage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NA verander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Reproductietoxisch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Gevaar voor voortplant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arcinoge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kankerverwekken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ersistenti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afbraaksnelhei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D780A-A5C7-4CC5-8EAA-9ACF106FAAD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7" dur="indefinite" restart="never" nodeType="tmRoot">
          <p:childTnLst>
            <p:seq>
              <p:cTn id="2868" dur="indefinite" nodeType="mainSeq">
                <p:childTnLst>
                  <p:par>
                    <p:cTn id="2869" nodeType="clickEffect" fill="hold">
                      <p:stCondLst>
                        <p:cond delay="indefinite"/>
                      </p:stCondLst>
                      <p:childTnLst>
                        <p:par>
                          <p:cTn id="2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nodeType="clickEffect" fill="hold">
                      <p:stCondLst>
                        <p:cond delay="indefinite"/>
                      </p:stCondLst>
                      <p:childTnLst>
                        <p:par>
                          <p:cTn id="2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nodeType="clickEffect" fill="hold">
                      <p:stCondLst>
                        <p:cond delay="indefinite"/>
                      </p:stCondLst>
                      <p:childTnLst>
                        <p:par>
                          <p:cTn id="2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nodeType="clickEffect" fill="hold">
                      <p:stCondLst>
                        <p:cond delay="indefinite"/>
                      </p:stCondLst>
                      <p:childTnLst>
                        <p:par>
                          <p:cTn id="2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95280" y="162864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.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t is een derdentoelating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Toelating voor middelen met al een toelating in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groot gewas dat ook in kleine gewassen wordt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toegela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Gelden voor toelating middelen in Nederland en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panje dezelfde regels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Nee, elk land heeft zijn eigen toelatingseisen. Bij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beoordeling wordt gelet op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klimaatomstandighed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882A8-896D-4CEB-A333-96A5EABA90F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5" dur="indefinite" restart="never" nodeType="tmRoot">
          <p:childTnLst>
            <p:seq>
              <p:cTn id="2886" dur="indefinite" nodeType="mainSeq">
                <p:childTnLst>
                  <p:par>
                    <p:cTn id="2887" nodeType="clickEffect" fill="hold">
                      <p:stCondLst>
                        <p:cond delay="indefinite"/>
                      </p:stCondLst>
                      <p:childTnLst>
                        <p:par>
                          <p:cTn id="2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1" nodeType="clickEffect" fill="hold">
                      <p:stCondLst>
                        <p:cond delay="indefinite"/>
                      </p:stCondLst>
                      <p:childTnLst>
                        <p:par>
                          <p:cTn id="2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162864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Wat is de functie van een uitvloeier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ruppel laten uitvloeien voor een betere bladbedekk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wordt bedoeld met de formulering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e vorm van het midd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Onder welke weersomstandigheden hebben planten een dunnere waslaag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Groeizaam weer met hoge Rv en hoge temp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A07011-626C-48F8-9FAE-3275833D68C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ilieu meetl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ergelijkt effecten verschillende mid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Uitspoeling grondwater afh. Org stof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iftigheid bodemleven (wormen, etc) DT waarde en LC waard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iftigheid waterleven (standaard 1% drift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92d050"/>
                </a:solidFill>
                <a:latin typeface="Trebuchet MS"/>
              </a:rPr>
              <a:t>https://www.milieumeetlat.nl</a:t>
            </a:r>
            <a:r>
              <a:rPr b="1" lang="nl-NL" sz="2000" spc="-1" strike="noStrike">
                <a:solidFill>
                  <a:srgbClr val="92d050"/>
                </a:solidFill>
                <a:latin typeface="Trebuchet MS"/>
              </a:rPr>
              <a:t>/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2D852-FC74-4EB5-B986-E93F01C2D56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5" dur="indefinite" restart="never" nodeType="tmRoot">
          <p:childTnLst>
            <p:seq>
              <p:cTn id="2896" dur="indefinite" nodeType="mainSeq">
                <p:childTnLst>
                  <p:par>
                    <p:cTn id="2897" nodeType="clickEffect" fill="hold">
                      <p:stCondLst>
                        <p:cond delay="indefinite"/>
                      </p:stCondLst>
                      <p:childTnLst>
                        <p:par>
                          <p:cTn id="2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1" dur="1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2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3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4" nodeType="clickEffect" fill="hold">
                      <p:stCondLst>
                        <p:cond delay="indefinite"/>
                      </p:stCondLst>
                      <p:childTnLst>
                        <p:par>
                          <p:cTn id="2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8" dur="10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9" dur="10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10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3" dur="1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4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5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8" dur="10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9" dur="10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0" dur="10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3" dur="1000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4" dur="10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5" dur="10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ergelijk 3 bladluis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66560" y="1844280"/>
            <a:ext cx="8210880" cy="40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92d050"/>
                </a:solidFill>
                <a:latin typeface="Trebuchet MS"/>
              </a:rPr>
              <a:t>https://www.milieumeetlat.nl/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        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aterleven Bodeml grondwater  risico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cis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510 pt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  C  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Calypso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30 pt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  C  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epekki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  0 pt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  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us Decis gaat 5x over wettelijke nor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234537-6CCF-4869-8A09-DE75D31B3E2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6" dur="indefinite" restart="never" nodeType="tmRoot">
          <p:childTnLst>
            <p:seq>
              <p:cTn id="2927" dur="indefinite" nodeType="mainSeq">
                <p:childTnLst>
                  <p:par>
                    <p:cTn id="2928" nodeType="clickEffect" fill="hold">
                      <p:stCondLst>
                        <p:cond delay="indefinite"/>
                      </p:stCondLst>
                      <p:childTnLst>
                        <p:par>
                          <p:cTn id="2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32" dur="2000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ilieumeetlat kas-teel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84360" y="1930320"/>
            <a:ext cx="6346800" cy="45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osering L of Kg / h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oepassingswijz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antal toepassingen/ seizo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missie bij ruimtebehandeling door afluchten tot 40 %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aximaal toelaatbaar Risico ½ dag na toepassing vaststell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oeveelheid waarbij 95 % toetsorganismen geen reactie geef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F5C16-9824-4D44-8E87-B2FA90DF909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3" dur="indefinite" restart="never" nodeType="tmRoot">
          <p:childTnLst>
            <p:seq>
              <p:cTn id="2934" dur="indefinite" nodeType="mainSeq">
                <p:childTnLst>
                  <p:par>
                    <p:cTn id="2935" nodeType="clickEffect" fill="hold">
                      <p:stCondLst>
                        <p:cond delay="indefinite"/>
                      </p:stCondLst>
                      <p:childTnLst>
                        <p:par>
                          <p:cTn id="2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9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0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1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2" nodeType="clickEffect" fill="hold">
                      <p:stCondLst>
                        <p:cond delay="indefinite"/>
                      </p:stCondLst>
                      <p:childTnLst>
                        <p:par>
                          <p:cTn id="2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6" dur="1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7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8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1" dur="1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2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3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4" nodeType="clickEffect" fill="hold">
                      <p:stCondLst>
                        <p:cond delay="indefinite"/>
                      </p:stCondLst>
                      <p:childTnLst>
                        <p:par>
                          <p:cTn id="2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8" dur="10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9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0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nodeType="clickEffect" fill="hold">
                      <p:stCondLst>
                        <p:cond delay="indefinite"/>
                      </p:stCondLst>
                      <p:childTnLst>
                        <p:par>
                          <p:cTn id="2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5" dur="10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6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7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8" nodeType="clickEffect" fill="hold">
                      <p:stCondLst>
                        <p:cond delay="indefinite"/>
                      </p:stCondLst>
                      <p:childTnLst>
                        <p:par>
                          <p:cTn id="2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2" dur="10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3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4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68000" y="1483920"/>
            <a:ext cx="6994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ar zijn de milieu belastingspunten in de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lieumeetlat van afgeleid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Van de mate van uitspoeling naar grondwater en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giftigheid bodem en waterlev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geeft de MTR van een middel aa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Hoeveel middel waarbij 95% van organismen na 12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uur geen reactie laat zi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anneer is emissie naar de lucht het grootst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Ruimtebehandeling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390E1-B231-4576-B8DD-3DF7E2D20B8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5" dur="indefinite" restart="never" nodeType="tmRoot">
          <p:childTnLst>
            <p:seq>
              <p:cTn id="2976" dur="indefinite" nodeType="mainSeq">
                <p:childTnLst>
                  <p:par>
                    <p:cTn id="2977" nodeType="clickEffect" fill="hold">
                      <p:stCondLst>
                        <p:cond delay="indefinite"/>
                      </p:stCondLst>
                      <p:childTnLst>
                        <p:par>
                          <p:cTn id="2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nodeType="clickEffect" fill="hold">
                      <p:stCondLst>
                        <p:cond delay="indefinite"/>
                      </p:stCondLst>
                      <p:childTnLst>
                        <p:par>
                          <p:cTn id="2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5" nodeType="clickEffect" fill="hold">
                      <p:stCondLst>
                        <p:cond delay="indefinite"/>
                      </p:stCondLst>
                      <p:childTnLst>
                        <p:par>
                          <p:cTn id="2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Gewasbeschermingsmiddelen en resisten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09120" y="1929960"/>
            <a:ext cx="63486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e ontstaat resistentie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Genetische verander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Werking midd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onogene / polygene resistenti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Aantal toepassingen, doseringen en persistenti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iddelen hebben een werking dichtbij de natuurlijke werk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aardoor soms minder gevoelige individu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netische eigenschap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Kunnen onkruiden ook resistent worden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Ja, denk aan brandnetel bij glyfosa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9" dur="indefinite" restart="never" nodeType="tmRoot">
          <p:childTnLst>
            <p:seq>
              <p:cTn id="2990" dur="indefinite" nodeType="mainSeq">
                <p:childTnLst>
                  <p:par>
                    <p:cTn id="2991" nodeType="clickEffect" fill="hold">
                      <p:stCondLst>
                        <p:cond delay="indefinite"/>
                      </p:stCondLst>
                      <p:childTnLst>
                        <p:par>
                          <p:cTn id="2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5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8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1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4" dur="5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5" nodeType="clickEffect" fill="hold">
                      <p:stCondLst>
                        <p:cond delay="indefinite"/>
                      </p:stCondLst>
                      <p:childTnLst>
                        <p:par>
                          <p:cTn id="3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9" dur="100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0" dur="10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1" dur="10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2" nodeType="clickEffect" fill="hold">
                      <p:stCondLst>
                        <p:cond delay="indefinite"/>
                      </p:stCondLst>
                      <p:childTnLst>
                        <p:par>
                          <p:cTn id="3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6" dur="100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7" dur="10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8" dur="10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1" dur="100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2" dur="10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3" dur="10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4" nodeType="clickEffect" fill="hold">
                      <p:stCondLst>
                        <p:cond delay="indefinite"/>
                      </p:stCondLst>
                      <p:childTnLst>
                        <p:par>
                          <p:cTn id="3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8" dur="1000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9" dur="1000" fill="hold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0" dur="1000" fill="hold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nodeType="clickEffect" fill="hold">
                      <p:stCondLst>
                        <p:cond delay="indefinite"/>
                      </p:stCondLst>
                      <p:childTnLst>
                        <p:par>
                          <p:cTn id="3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5" dur="1000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6" dur="1000" fill="hold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7" dur="1000" fill="hold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esistentie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79280" y="1557360"/>
            <a:ext cx="7056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Resistenti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Insecten  - binnen een jaa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chimmel – binnen enkele maan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nkruiden- binnen enkele jar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erking van het midd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reedwerkend vb tegen energieoverdracht en aanmaak eiwitten. Dus grijpen in op verschillende levensprocessen in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inder gevoelig voor resistent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ystemische grijpen vaak in één proces i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8" dur="indefinite" restart="never" nodeType="tmRoot">
          <p:childTnLst>
            <p:seq>
              <p:cTn id="3039" dur="indefinite" nodeType="mainSeq">
                <p:childTnLst>
                  <p:par>
                    <p:cTn id="3040" nodeType="clickEffect" fill="hold">
                      <p:stCondLst>
                        <p:cond delay="indefinite"/>
                      </p:stCondLst>
                      <p:childTnLst>
                        <p:par>
                          <p:cTn id="3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4" dur="1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5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nodeType="clickEffect" fill="hold">
                      <p:stCondLst>
                        <p:cond delay="indefinite"/>
                      </p:stCondLst>
                      <p:childTnLst>
                        <p:par>
                          <p:cTn id="3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1" dur="10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2" dur="10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3" dur="10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6" dur="10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7" dur="10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8" dur="10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1" dur="10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2" dur="10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3" dur="10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4" nodeType="clickEffect" fill="hold">
                      <p:stCondLst>
                        <p:cond delay="indefinite"/>
                      </p:stCondLst>
                      <p:childTnLst>
                        <p:par>
                          <p:cTn id="3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8" dur="10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9" dur="10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0" dur="10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1" nodeType="clickEffect" fill="hold">
                      <p:stCondLst>
                        <p:cond delay="indefinite"/>
                      </p:stCondLst>
                      <p:childTnLst>
                        <p:par>
                          <p:cTn id="3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5" dur="1000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6" dur="10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7" dur="10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0" dur="1000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1" dur="10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2" dur="10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5" dur="1000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6" dur="1000" fill="hold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7" dur="1000" fill="hold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90c226"/>
                </a:solidFill>
                <a:latin typeface="Trebuchet MS"/>
              </a:rPr>
              <a:t>Komkommerbontvirus (CGMMV)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533160" y="2349360"/>
            <a:ext cx="6500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l 10 resistente rass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mmuun; geen aantasting door de ziekt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ge resistentie = beide ouderlijnen zijn resistent. Bij hoge ziektedruk soms enige sympto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termediaire resistentie= 1 ouderlijn is resistent. Meer schade en symptomen bij ziektedruk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8" dur="indefinite" restart="never" nodeType="tmRoot">
          <p:childTnLst>
            <p:seq>
              <p:cTn id="3089" dur="indefinite" nodeType="mainSeq">
                <p:childTnLst>
                  <p:par>
                    <p:cTn id="3090" nodeType="clickEffect" fill="hold">
                      <p:stCondLst>
                        <p:cond delay="indefinite"/>
                      </p:stCondLst>
                      <p:childTnLst>
                        <p:par>
                          <p:cTn id="3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4" dur="10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5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6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7" nodeType="clickEffect" fill="hold">
                      <p:stCondLst>
                        <p:cond delay="indefinite"/>
                      </p:stCondLst>
                      <p:childTnLst>
                        <p:par>
                          <p:cTn id="3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1" dur="10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2" dur="10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3" dur="10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6" dur="10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7" dur="1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8" dur="1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1" dur="10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2" dur="1000" fill="hold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3" dur="1000" fill="hold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esisten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68360" y="1628640"/>
            <a:ext cx="8507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onogene resistent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esistentie berustend op 1 gen of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1 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igenschap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olygene resistent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eer dan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éé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 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beeld, volledige resistentie bij 3 gen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uurt lang voordat alle nakomelingen dit hebb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4" dur="indefinite" restart="never" nodeType="tmRoot">
          <p:childTnLst>
            <p:seq>
              <p:cTn id="3115" dur="indefinite" nodeType="mainSeq">
                <p:childTnLst>
                  <p:par>
                    <p:cTn id="3116" nodeType="clickEffect" fill="hold">
                      <p:stCondLst>
                        <p:cond delay="indefinite"/>
                      </p:stCondLst>
                      <p:childTnLst>
                        <p:par>
                          <p:cTn id="3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0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1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2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3" nodeType="clickEffect" fill="hold">
                      <p:stCondLst>
                        <p:cond delay="indefinite"/>
                      </p:stCondLst>
                      <p:childTnLst>
                        <p:par>
                          <p:cTn id="3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7" dur="10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8" dur="10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9" dur="10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0" nodeType="clickEffect" fill="hold">
                      <p:stCondLst>
                        <p:cond delay="indefinite"/>
                      </p:stCondLst>
                      <p:childTnLst>
                        <p:par>
                          <p:cTn id="3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4" dur="10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5" dur="10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6" dur="10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7" nodeType="clickEffect" fill="hold">
                      <p:stCondLst>
                        <p:cond delay="indefinite"/>
                      </p:stCondLst>
                      <p:childTnLst>
                        <p:par>
                          <p:cTn id="3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1" dur="10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2" dur="10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3" dur="10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6" dur="100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7" dur="1000" fill="hold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8" dur="1000" fill="hold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1" dur="100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2" dur="1000" fill="hold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3" dur="1000" fill="hold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esisten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08000" y="1773360"/>
            <a:ext cx="7128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tal toepassingen, doseringen en persistentie van het midd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lke toepassing selecteer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ge dosering versnel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al bij monogene resis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 polygene resistentie stapsgewijze opbouw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Persistente middelen (bodemherbiciden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ng aanwezig, dus doden lang de gevoelige en niet de ongevoelig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4" dur="indefinite" restart="never" nodeType="tmRoot">
          <p:childTnLst>
            <p:seq>
              <p:cTn id="3155" dur="indefinite" nodeType="mainSeq">
                <p:childTnLst>
                  <p:par>
                    <p:cTn id="3156" nodeType="clickEffect" fill="hold">
                      <p:stCondLst>
                        <p:cond delay="indefinite"/>
                      </p:stCondLst>
                      <p:childTnLst>
                        <p:par>
                          <p:cTn id="3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0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1" dur="1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2" dur="1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3" nodeType="clickEffect" fill="hold">
                      <p:stCondLst>
                        <p:cond delay="indefinite"/>
                      </p:stCondLst>
                      <p:childTnLst>
                        <p:par>
                          <p:cTn id="3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7" dur="10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8" dur="10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9" dur="10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2" dur="10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3" dur="10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4" dur="10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5" nodeType="clickEffect" fill="hold">
                      <p:stCondLst>
                        <p:cond delay="indefinite"/>
                      </p:stCondLst>
                      <p:childTnLst>
                        <p:par>
                          <p:cTn id="3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9" dur="10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0" dur="1000" fill="hold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1" dur="1000" fill="hold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4" dur="1000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5" dur="10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6" dur="10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7" nodeType="clickEffect" fill="hold">
                      <p:stCondLst>
                        <p:cond delay="indefinite"/>
                      </p:stCondLst>
                      <p:childTnLst>
                        <p:par>
                          <p:cTn id="3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1" dur="1000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2" dur="10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3" dur="10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4" nodeType="clickEffect" fill="hold">
                      <p:stCondLst>
                        <p:cond delay="indefinite"/>
                      </p:stCondLst>
                      <p:childTnLst>
                        <p:par>
                          <p:cTn id="3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8" dur="1000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9" dur="1000" fill="hold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0" dur="1000" fill="hold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electiedru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09120" y="1773000"/>
            <a:ext cx="6348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Soort middel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Hoogte dosering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Aantal toepassing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Hoge selectiedruk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elvuldig moeilijk afbreekbaar in hoge doser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Lage selectiedruk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nel afbreekbaar, incidentele toepassing, lage doser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1" dur="indefinite" restart="never" nodeType="tmRoot">
          <p:childTnLst>
            <p:seq>
              <p:cTn id="3202" dur="indefinite" nodeType="mainSeq">
                <p:childTnLst>
                  <p:par>
                    <p:cTn id="3203" nodeType="clickEffect" fill="hold">
                      <p:stCondLst>
                        <p:cond delay="indefinite"/>
                      </p:stCondLst>
                      <p:childTnLst>
                        <p:par>
                          <p:cTn id="3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7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8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0" nodeType="clickEffect" fill="hold">
                      <p:stCondLst>
                        <p:cond delay="indefinite"/>
                      </p:stCondLst>
                      <p:childTnLst>
                        <p:par>
                          <p:cTn id="3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4" dur="10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5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6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7" nodeType="clickEffect" fill="hold">
                      <p:stCondLst>
                        <p:cond delay="indefinite"/>
                      </p:stCondLst>
                      <p:childTnLst>
                        <p:par>
                          <p:cTn id="3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1" dur="10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2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4" nodeType="clickEffect" fill="hold">
                      <p:stCondLst>
                        <p:cond delay="indefinite"/>
                      </p:stCondLst>
                      <p:childTnLst>
                        <p:par>
                          <p:cTn id="3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8" dur="10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9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3" dur="10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4" dur="10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5" dur="10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6" nodeType="clickEffect" fill="hold">
                      <p:stCondLst>
                        <p:cond delay="indefinite"/>
                      </p:stCondLst>
                      <p:childTnLst>
                        <p:par>
                          <p:cTn id="3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0" dur="10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1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2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5" dur="10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6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7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ormuler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6840" y="1488600"/>
            <a:ext cx="75708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Zoals door de fabrikant samengestel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Poeder en korrel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puitpoeder (werkzame stof met kalk als vulstof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uspensie – residu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an stuiven bij het klaarma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teroplosbare verpakkingen mogelij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uimt bij klaarma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iddelen met hoge concentratie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tuifpoed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perkt – lage concentratie werkzame sto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el residu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5392E-5EF2-4083-B62D-2248B3B0404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ystemische 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oderne middelen vaak systemisch. Werken maar op 1 proc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ransport in plant dus vooral curatief toepass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iet-systemische middelen preventief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09232A-C041-473F-B49A-C757D3F9D55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8" dur="indefinite" restart="never" nodeType="tmRoot">
          <p:childTnLst>
            <p:seq>
              <p:cTn id="3249" dur="indefinite" nodeType="mainSeq">
                <p:childTnLst>
                  <p:par>
                    <p:cTn id="3250" nodeType="clickEffect" fill="hold">
                      <p:stCondLst>
                        <p:cond delay="indefinite"/>
                      </p:stCondLst>
                      <p:childTnLst>
                        <p:par>
                          <p:cTn id="3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4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5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6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7" nodeType="clickEffect" fill="hold">
                      <p:stCondLst>
                        <p:cond delay="indefinite"/>
                      </p:stCondLst>
                      <p:childTnLst>
                        <p:par>
                          <p:cTn id="3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1" dur="10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2" dur="1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3" dur="1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4" nodeType="clickEffect" fill="hold">
                      <p:stCondLst>
                        <p:cond delay="indefinite"/>
                      </p:stCondLst>
                      <p:childTnLst>
                        <p:par>
                          <p:cTn id="3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8" dur="10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9" dur="1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0" dur="1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150920"/>
            <a:ext cx="65628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t is verschil tussen monogene en polygene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resistent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onogeen berust op 1 gen of eigenschap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elke resistentie kan zich het snelst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ntwikkelen?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onoge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elke factoren bepalen de selectiedruk van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en middel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Het middel, dosering, persistentie en aantal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toepassing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ED8939-38B9-4007-8209-B5818A75AE1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1" dur="indefinite" restart="never" nodeType="tmRoot">
          <p:childTnLst>
            <p:seq>
              <p:cTn id="3272" dur="indefinite" nodeType="mainSeq">
                <p:childTnLst>
                  <p:par>
                    <p:cTn id="3273" nodeType="clickEffect" fill="hold">
                      <p:stCondLst>
                        <p:cond delay="indefinite"/>
                      </p:stCondLst>
                      <p:childTnLst>
                        <p:par>
                          <p:cTn id="3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7" nodeType="clickEffect" fill="hold">
                      <p:stCondLst>
                        <p:cond delay="indefinite"/>
                      </p:stCondLst>
                      <p:childTnLst>
                        <p:par>
                          <p:cTn id="3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1" nodeType="clickEffect" fill="hold">
                      <p:stCondLst>
                        <p:cond delay="indefinite"/>
                      </p:stCondLst>
                      <p:childTnLst>
                        <p:par>
                          <p:cTn id="3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Kruisresisten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560" y="1197000"/>
            <a:ext cx="793116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iddelen uit dezelfde chemisch groe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ijken op elkaa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erken meestal volgens het zelfde princip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elde en nachtschad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trazin, Sencor, Goltix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Insecticiden  - choline-esterase remme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nsect maakt meer choline-esterase waardoor andere choline estraseremmers ook niet meer help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Zelfde werking ook in andere chemische groe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etabolische resistentie: 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(grijpt in dezelfde 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stofwisselingsproces, maar komen uit verschillende 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chemische groepen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5" dur="indefinite" restart="never" nodeType="tmRoot">
          <p:childTnLst>
            <p:seq>
              <p:cTn id="3286" dur="indefinite" nodeType="mainSeq">
                <p:childTnLst>
                  <p:par>
                    <p:cTn id="3287" nodeType="clickEffect" fill="hold">
                      <p:stCondLst>
                        <p:cond delay="indefinite"/>
                      </p:stCondLst>
                      <p:childTnLst>
                        <p:par>
                          <p:cTn id="3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1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2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3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4" nodeType="clickEffect" fill="hold">
                      <p:stCondLst>
                        <p:cond delay="indefinite"/>
                      </p:stCondLst>
                      <p:childTnLst>
                        <p:par>
                          <p:cTn id="3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8" dur="10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9" dur="10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0" dur="10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3" dur="1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4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5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6" nodeType="clickEffect" fill="hold">
                      <p:stCondLst>
                        <p:cond delay="indefinite"/>
                      </p:stCondLst>
                      <p:childTnLst>
                        <p:par>
                          <p:cTn id="3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0" dur="1000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1" dur="10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2" dur="10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5" dur="10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6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7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nodeType="clickEffect" fill="hold">
                      <p:stCondLst>
                        <p:cond delay="indefinite"/>
                      </p:stCondLst>
                      <p:childTnLst>
                        <p:par>
                          <p:cTn id="3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2" dur="1000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3" dur="1000" fill="hold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4" dur="1000" fill="hold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5" nodeType="clickEffect" fill="hold">
                      <p:stCondLst>
                        <p:cond delay="indefinite"/>
                      </p:stCondLst>
                      <p:childTnLst>
                        <p:par>
                          <p:cTn id="3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9" dur="1000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0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1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2" nodeType="clickEffect" fill="hold">
                      <p:stCondLst>
                        <p:cond delay="indefinite"/>
                      </p:stCondLst>
                      <p:childTnLst>
                        <p:par>
                          <p:cTn id="3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6" dur="1000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7" dur="1000" fill="hold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8" dur="1000" fill="hold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1" dur="1000"/>
                                        <p:tgtEl>
                                          <p:spTgt spid="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2" dur="1000" fill="hold"/>
                                        <p:tgtEl>
                                          <p:spTgt spid="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3" dur="1000" fill="hold"/>
                                        <p:tgtEl>
                                          <p:spTgt spid="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 Wat is kruisresistent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Alle middelen uit een groep werken niet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eer omdat ze werken via zelfde princip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is metabolische resistent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Insecticiden die uit verschillende groepen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komen maar volgens zelfde principe werken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slaan niet meer aa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350949-AB4E-4956-B018-AADFAB4A4C3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4" dur="indefinite" restart="never" nodeType="tmRoot">
          <p:childTnLst>
            <p:seq>
              <p:cTn id="3345" dur="indefinite" nodeType="mainSeq">
                <p:childTnLst>
                  <p:par>
                    <p:cTn id="3346" nodeType="clickEffect" fill="hold">
                      <p:stCondLst>
                        <p:cond delay="indefinite"/>
                      </p:stCondLst>
                      <p:childTnLst>
                        <p:par>
                          <p:cTn id="3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0" dur="10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1" dur="10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2" dur="10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3" nodeType="clickEffect" fill="hold">
                      <p:stCondLst>
                        <p:cond delay="indefinite"/>
                      </p:stCondLst>
                      <p:childTnLst>
                        <p:par>
                          <p:cTn id="3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7" dur="10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8" dur="10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9" dur="10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lgemene maatreg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at kun je doen tegen resistentie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Zo min mogelijk chemische middel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ïntegreer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sistentie rassen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trijdingsdrem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sl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ologisc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chanisch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0" dur="indefinite" restart="never" nodeType="tmRoot">
          <p:childTnLst>
            <p:seq>
              <p:cTn id="3361" dur="indefinite" nodeType="mainSeq">
                <p:childTnLst>
                  <p:par>
                    <p:cTn id="3362" nodeType="clickEffect" fill="hold">
                      <p:stCondLst>
                        <p:cond delay="indefinite"/>
                      </p:stCondLst>
                      <p:childTnLst>
                        <p:par>
                          <p:cTn id="3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6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7" nodeType="clickEffect" fill="hold">
                      <p:stCondLst>
                        <p:cond delay="indefinite"/>
                      </p:stCondLst>
                      <p:childTnLst>
                        <p:par>
                          <p:cTn id="3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1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nodeType="clickEffect" fill="hold">
                      <p:stCondLst>
                        <p:cond delay="indefinite"/>
                      </p:stCondLst>
                      <p:childTnLst>
                        <p:par>
                          <p:cTn id="3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6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7" nodeType="clickEffect" fill="hold">
                      <p:stCondLst>
                        <p:cond delay="indefinite"/>
                      </p:stCondLst>
                      <p:childTnLst>
                        <p:par>
                          <p:cTn id="3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1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4" dur="500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5" nodeType="clickEffect" fill="hold">
                      <p:stCondLst>
                        <p:cond delay="indefinite"/>
                      </p:stCondLst>
                      <p:childTnLst>
                        <p:par>
                          <p:cTn id="3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9" dur="500"/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0" nodeType="clickEffect" fill="hold">
                      <p:stCondLst>
                        <p:cond delay="indefinite"/>
                      </p:stCondLst>
                      <p:childTnLst>
                        <p:par>
                          <p:cTn id="3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4" dur="500"/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lgemene maatreg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68360" y="206064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eng middelen met ander werkings-mechanisme vb. selectief systemisch met breedwerkend preventief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issel middelen uit andere chemische groepen af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Zo mogelijk vruchtwissel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5" dur="indefinite" restart="never" nodeType="tmRoot">
          <p:childTnLst>
            <p:seq>
              <p:cTn id="3396" dur="indefinite" nodeType="mainSeq">
                <p:childTnLst>
                  <p:par>
                    <p:cTn id="3397" nodeType="clickEffect" fill="hold">
                      <p:stCondLst>
                        <p:cond delay="indefinite"/>
                      </p:stCondLst>
                      <p:childTnLst>
                        <p:par>
                          <p:cTn id="3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1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2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3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4" nodeType="clickEffect" fill="hold">
                      <p:stCondLst>
                        <p:cond delay="indefinite"/>
                      </p:stCondLst>
                      <p:childTnLst>
                        <p:par>
                          <p:cTn id="3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8" dur="10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9" dur="1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0" dur="1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1" nodeType="clickEffect" fill="hold">
                      <p:stCondLst>
                        <p:cond delay="indefinite"/>
                      </p:stCondLst>
                      <p:childTnLst>
                        <p:par>
                          <p:cTn id="3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5" dur="10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6" dur="1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7" dur="1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nti-resistentie strategieë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38280" y="1903320"/>
            <a:ext cx="634824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onitor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Fabrika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erk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vullende adviezen bij resis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och bruikbaa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minderde fitness; resistente stam minder gevoelig dan oorspronkelijke stam.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middel beperkt inzetten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resistente stam wordt weggeconcurreerd door oorspronkelijke sta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8" dur="indefinite" restart="never" nodeType="tmRoot">
          <p:childTnLst>
            <p:seq>
              <p:cTn id="3419" dur="indefinite" nodeType="mainSeq">
                <p:childTnLst>
                  <p:par>
                    <p:cTn id="3420" nodeType="clickEffect" fill="hold">
                      <p:stCondLst>
                        <p:cond delay="indefinite"/>
                      </p:stCondLst>
                      <p:childTnLst>
                        <p:par>
                          <p:cTn id="3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4" dur="10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5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6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7" nodeType="clickEffect" fill="hold">
                      <p:stCondLst>
                        <p:cond delay="indefinite"/>
                      </p:stCondLst>
                      <p:childTnLst>
                        <p:par>
                          <p:cTn id="3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1" dur="10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2" dur="1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3" dur="1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nodeType="clickEffect" fill="hold">
                      <p:stCondLst>
                        <p:cond delay="indefinite"/>
                      </p:stCondLst>
                      <p:childTnLst>
                        <p:par>
                          <p:cTn id="3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8" dur="10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9" dur="10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0" dur="10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3" dur="10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4" dur="10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5" dur="10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8" dur="10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9" dur="10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0" dur="10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1" nodeType="clickEffect" fill="hold">
                      <p:stCondLst>
                        <p:cond delay="indefinite"/>
                      </p:stCondLst>
                      <p:childTnLst>
                        <p:par>
                          <p:cTn id="3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5" dur="1000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6" dur="10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7" dur="10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esistentie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0" y="1600200"/>
            <a:ext cx="73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ttp://www.irac-online.org/modes-of-action/ insect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ttp://www.frac.info/ schimmel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ttp://www.hracglobal.com/pages/classificationofherbicidesiteofaction.aspx onkrui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F826A-1E92-4360-9FC6-FFE65ED8260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Onkruidresistentie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900000" y="2160360"/>
            <a:ext cx="6346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ijv. Duis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Fotosynthese 1 en 2 remm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CC remm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LS remm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tsynthese remm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C81B01-A46F-447F-AE7B-5824794E722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8" dur="indefinite" restart="never" nodeType="tmRoot">
          <p:childTnLst>
            <p:seq>
              <p:cTn id="3459" dur="indefinite" nodeType="mainSeq">
                <p:childTnLst>
                  <p:par>
                    <p:cTn id="3460" nodeType="clickEffect" fill="hold">
                      <p:stCondLst>
                        <p:cond delay="indefinite"/>
                      </p:stCondLst>
                      <p:childTnLst>
                        <p:par>
                          <p:cTn id="3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4" dur="10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5" dur="1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6" dur="1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9" dur="100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0" dur="10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10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4" dur="1000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5" dur="10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6" dur="10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9" dur="1000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0" dur="10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1" dur="10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chimmel resistentie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755280" y="212544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chimmels in graan en aardappel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trobilurinen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henilamiden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uccinate dehydrogenas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39868-97CC-4495-AE34-F75A0324ED5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2" dur="indefinite" restart="never" nodeType="tmRoot">
          <p:childTnLst>
            <p:seq>
              <p:cTn id="3483" dur="indefinite" nodeType="mainSeq">
                <p:childTnLst>
                  <p:par>
                    <p:cTn id="3484" nodeType="clickEffect" fill="hold">
                      <p:stCondLst>
                        <p:cond delay="indefinite"/>
                      </p:stCondLst>
                      <p:childTnLst>
                        <p:par>
                          <p:cTn id="3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8" dur="10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9" dur="10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0" dur="10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3" dur="1000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4" dur="10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5" dur="10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8" dur="1000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9" dur="10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0" dur="10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ormuler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104840"/>
            <a:ext cx="6562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euze werkzame stof, formulering en eventueel hulpstoffen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aarna toedien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pui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uppel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trooi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evel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ok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tuiven Gassen (LVM Fog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Quick dip of phyto drip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ttps://youtu.be/ISDN8SiNoMY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D0F246-EDF3-44B8-94A7-7147453B451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3683160" y="1916280"/>
            <a:ext cx="299556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Toch Resistentie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09120" y="17002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Is het wel resistentie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rkeerd midd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rkeerde dosis of toevoeg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spoten op het verkeerde momen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rkeerde spuittechniek of apparatu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Controle registrati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Contact met leverancier middel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Proefbespuiting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Alarm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1" dur="indefinite" restart="never" nodeType="tmRoot">
          <p:childTnLst>
            <p:seq>
              <p:cTn id="3502" dur="indefinite" nodeType="mainSeq">
                <p:childTnLst>
                  <p:par>
                    <p:cTn id="3503" nodeType="clickEffect" fill="hold">
                      <p:stCondLst>
                        <p:cond delay="indefinite"/>
                      </p:stCondLst>
                      <p:childTnLst>
                        <p:par>
                          <p:cTn id="3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7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8" dur="1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9" dur="1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0" nodeType="clickEffect" fill="hold">
                      <p:stCondLst>
                        <p:cond delay="indefinite"/>
                      </p:stCondLst>
                      <p:childTnLst>
                        <p:par>
                          <p:cTn id="3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4" dur="10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5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6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9" dur="10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0" dur="10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1" dur="10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4" dur="10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5" dur="10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6" dur="10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9" dur="10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0" dur="10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10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2" nodeType="clickEffect" fill="hold">
                      <p:stCondLst>
                        <p:cond delay="indefinite"/>
                      </p:stCondLst>
                      <p:childTnLst>
                        <p:par>
                          <p:cTn id="3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6" dur="10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7" dur="10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8" dur="10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9" nodeType="clickEffect" fill="hold">
                      <p:stCondLst>
                        <p:cond delay="indefinite"/>
                      </p:stCondLst>
                      <p:childTnLst>
                        <p:par>
                          <p:cTn id="3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3" dur="1000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4" dur="10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5" dur="10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6" nodeType="clickEffect" fill="hold">
                      <p:stCondLst>
                        <p:cond delay="indefinite"/>
                      </p:stCondLst>
                      <p:childTnLst>
                        <p:par>
                          <p:cTn id="3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0" dur="1000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1" dur="1000" fill="hold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1000" fill="hold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3" nodeType="clickEffect" fill="hold">
                      <p:stCondLst>
                        <p:cond delay="indefinite"/>
                      </p:stCondLst>
                      <p:childTnLst>
                        <p:par>
                          <p:cTn id="3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7" dur="1000"/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8" dur="1000" fill="hold"/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9" dur="1000" fill="hold"/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esistentie mechanism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632880" y="1341360"/>
            <a:ext cx="63486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Ontgiftiging vindt sneller en doeltreffender plaat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Er is iets veranderd op de plaats van werking(het aangrijpingspun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neemt minder middel op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rlaagde penetrati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past zijn gedrag aa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Scheidt het middel uit of slaat het op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Het middel wordt geïnactiveer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0" dur="indefinite" restart="never" nodeType="tmRoot">
          <p:childTnLst>
            <p:seq>
              <p:cTn id="3561" dur="indefinite" nodeType="mainSeq">
                <p:childTnLst>
                  <p:par>
                    <p:cTn id="3562" nodeType="clickEffect" fill="hold">
                      <p:stCondLst>
                        <p:cond delay="indefinite"/>
                      </p:stCondLst>
                      <p:childTnLst>
                        <p:par>
                          <p:cTn id="3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6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7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8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9" nodeType="clickEffect" fill="hold">
                      <p:stCondLst>
                        <p:cond delay="indefinite"/>
                      </p:stCondLst>
                      <p:childTnLst>
                        <p:par>
                          <p:cTn id="3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3" dur="10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4" dur="10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5" dur="10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6" nodeType="clickEffect" fill="hold">
                      <p:stCondLst>
                        <p:cond delay="indefinite"/>
                      </p:stCondLst>
                      <p:childTnLst>
                        <p:par>
                          <p:cTn id="3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0" dur="10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1" dur="10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2" dur="10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5" dur="10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6" dur="10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10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8" nodeType="clickEffect" fill="hold">
                      <p:stCondLst>
                        <p:cond delay="indefinite"/>
                      </p:stCondLst>
                      <p:childTnLst>
                        <p:par>
                          <p:cTn id="3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2" dur="10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3" dur="10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4" dur="10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5" nodeType="clickEffect" fill="hold">
                      <p:stCondLst>
                        <p:cond delay="indefinite"/>
                      </p:stCondLst>
                      <p:childTnLst>
                        <p:par>
                          <p:cTn id="3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9" dur="1000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0" dur="10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1" dur="10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2" nodeType="clickEffect" fill="hold">
                      <p:stCondLst>
                        <p:cond delay="indefinite"/>
                      </p:stCondLst>
                      <p:childTnLst>
                        <p:par>
                          <p:cTn id="3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6" dur="1000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7" dur="10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8" dur="10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Ontstaan resisten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09480" y="1700280"/>
            <a:ext cx="68421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iologisch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rfelijke eigenschap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Populatiedynamie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venscycl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nier van voortplan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tal nakomel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verleving in ongunstige omstandigh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nier en snelheid van versprei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9" dur="indefinite" restart="never" nodeType="tmRoot">
          <p:childTnLst>
            <p:seq>
              <p:cTn id="3610" dur="indefinite" nodeType="mainSeq">
                <p:childTnLst>
                  <p:par>
                    <p:cTn id="3611" nodeType="clickEffect" fill="hold">
                      <p:stCondLst>
                        <p:cond delay="indefinite"/>
                      </p:stCondLst>
                      <p:childTnLst>
                        <p:par>
                          <p:cTn id="3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5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6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7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nodeType="clickEffect" fill="hold">
                      <p:stCondLst>
                        <p:cond delay="indefinite"/>
                      </p:stCondLst>
                      <p:childTnLst>
                        <p:par>
                          <p:cTn id="3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2" dur="10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3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4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7" dur="10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8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9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0" nodeType="clickEffect" fill="hold">
                      <p:stCondLst>
                        <p:cond delay="indefinite"/>
                      </p:stCondLst>
                      <p:childTnLst>
                        <p:par>
                          <p:cTn id="3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4" dur="10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5" dur="1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6" dur="1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9" dur="10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0" dur="1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1" dur="1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4" dur="10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5" dur="1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6" dur="1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9" dur="1000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0" dur="1000" fill="hold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1" dur="1000" fill="hold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4" dur="1000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5" dur="1000" fill="hold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6" dur="1000" fill="hold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2T12:18:29Z</dcterms:created>
  <dc:creator>A. Bok</dc:creator>
  <dc:description/>
  <dc:language>en-US</dc:language>
  <cp:lastModifiedBy>Douwe Jan de Jong</cp:lastModifiedBy>
  <dcterms:modified xsi:type="dcterms:W3CDTF">2018-10-10T07:27:16Z</dcterms:modified>
  <cp:revision>111</cp:revision>
  <dc:subject/>
  <dc:title>Hoofdstuk 3</dc:title>
</cp:coreProperties>
</file>