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410-F6CF-4015-A4EE-5C156105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77C-047F-492F-82CA-2B446F05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053-5AA3-4C4B-9828-D1F2F7A8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B13-8CFD-4CB8-8ED6-C5811AA0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B38E-5031-4E2B-AE93-415623A3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F9AD-0660-4D2B-8DB0-7B1DD2CC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99C8-CA42-4E0F-BE50-AFDA4FE8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6405-BC8C-4115-9B09-E38B7661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A601-829E-4047-BCC8-3E259E91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9182-6C75-42BE-A7AB-85D3E70A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A55C-081F-4F31-BEE6-759A9EF8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82C-85A6-4366-BBE1-95209604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B065-E3B8-41E7-8063-72D4EF50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5587-3C9C-43C0-B004-541CF7D0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29D1-2ADA-4909-8A4A-00C7215F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4719-6DF4-4F67-BFAC-52E3AAED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0884-374D-4008-B4F2-93D145B1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1B5AD-6980-4A3F-9B6E-7C1130C6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E5971-2973-4BA0-A435-57B3816E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BBEDD-75D8-41BB-AD94-C5E76260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0166F-139E-4C1D-B5EB-380E7802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B3496-FD00-41AD-8E2B-5DAECF30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06E6-2829-41BA-AE24-AFE8DFCF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D3625-B274-4DC3-92E8-78B27E6E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D6213-7234-4A99-BA5A-5E540323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7E96A-F2F7-4E65-BEB8-312A9D7A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90C32-9CA5-4907-9C13-18C62149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0EC1D-990E-4DAB-8F90-540A9E35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BFB2F-9D1E-4F04-A8B7-8E4E54C1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1B7DC-9E9C-4AEE-AC81-B30CECA7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F7EA3-79D3-445E-98B3-429FF683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625C6-7947-42CB-B8CB-F00E9B1F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EA03B-0218-45EA-9B6D-54C4A993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B244-57DA-4024-8DF0-50C2BAC6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99622-8408-4AC2-AFFA-4812DD94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DA34D-8810-4AB1-8122-57069ECA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120F3-E19A-43E4-A9FE-93005160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88DDA-8266-412C-AEF9-F6F78CD2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D2448-C05C-4A20-8005-1CF20B74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36900-34D3-4923-B209-57FD3608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5BB4D-E7AD-4CC9-A6B4-2A7E48EF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29E98-18E2-4732-A124-58E140ED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93354-59E9-499A-81B7-ED9FA2DD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A7F8-4178-47EA-87EE-B9D19656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EF5E-BDD6-46D7-B983-240DC3DF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D2D-7B9C-4230-9A0C-5AF22287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013-DDCE-43CC-8B12-0F59C173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4F7F-5BF8-42CF-8920-D9C64452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C756B6-3577-4CAD-AB19-C1A4309833AB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A1543-AACF-4A63-8A7A-A8C10ED3514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E3D23-7A81-4E86-858E-C1CB8A86525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D2141-AE53-4480-9B8C-7247C04B4F47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Hoofdstuk 3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f7f7f"/>
                </a:solidFill>
                <a:latin typeface="Trebuchet MS"/>
              </a:rPr>
              <a:t>Chemische gewasbescherm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DC9D6-D773-453F-975B-363C1EFD0B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4345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scod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268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E; aerosol, middel in spuitbu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C; emulsieconcentraat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R; granulaat, strooikorr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C; suspensie concentra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L; water oplosbaar concentra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P; water oplosbaar poed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G; waterdispergeerbaar granula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P; stuifpoed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W; emulsie in water formule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15007-F095-4602-B67E-9F77716A9A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000" y="12240"/>
            <a:ext cx="7224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4920" y="103356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oed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zame stof met kal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ichtbaar residu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tuift bij afwe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OF (water oplosbaar folie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uifpoeder DP nog maar weinig gebruik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puitkorrel W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oeders in korrelvor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tuift mind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akkelijk af te we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ang te bewa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ost iets moeilijker op. Vb.Pirimo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EF646-0950-49D5-975B-8AF5110C3B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3840120" y="271440"/>
            <a:ext cx="3087720" cy="2131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5580000" y="3357720"/>
            <a:ext cx="17305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Poeders in korrelvorm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1CE16-009E-432C-A29C-7A52F3117D87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291960" y="242244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2"/>
          <a:stretch/>
        </p:blipFill>
        <p:spPr>
          <a:xfrm>
            <a:off x="2055960" y="363708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3"/>
          <a:stretch/>
        </p:blipFill>
        <p:spPr>
          <a:xfrm>
            <a:off x="3807000" y="242244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"/>
          <p:cNvPicPr/>
          <p:nvPr/>
        </p:nvPicPr>
        <p:blipFill>
          <a:blip r:embed="rId4"/>
          <a:stretch/>
        </p:blipFill>
        <p:spPr>
          <a:xfrm>
            <a:off x="5651640" y="3637080"/>
            <a:ext cx="142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3760" y="1112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ranulaat G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orrel vb. bodemherbiciden, nematiciden en systemische insectici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akkelijk toedien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rooi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orrel met lok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lak en muizen 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oeibare 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Flowabl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ulgeerbaar concentraa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uls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41A21-536E-478E-88CC-9814590A18A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32097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58920" y="16524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loeibare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10062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lowables of suspensie concentraat SC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(poeder zweeft in water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ispergeermiddel tegen uitzak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udden voor gebrui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rstvrij bewa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eft residu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Toevoeging flow of SC. Vb. Decis Flow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name door het blad minder – water en waslaa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F7FBB-0FDE-4354-B365-A9DC6C48AE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5373720" y="1670040"/>
            <a:ext cx="1890720" cy="1944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2"/>
          <a:stretch/>
        </p:blipFill>
        <p:spPr>
          <a:xfrm>
            <a:off x="2556000" y="465948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"/>
          <p:cNvPicPr/>
          <p:nvPr/>
        </p:nvPicPr>
        <p:blipFill>
          <a:blip r:embed="rId3"/>
          <a:stretch/>
        </p:blipFill>
        <p:spPr>
          <a:xfrm>
            <a:off x="668160" y="4651200"/>
            <a:ext cx="1428840" cy="2000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"/>
          <p:cNvPicPr/>
          <p:nvPr/>
        </p:nvPicPr>
        <p:blipFill>
          <a:blip r:embed="rId4"/>
          <a:stretch/>
        </p:blipFill>
        <p:spPr>
          <a:xfrm>
            <a:off x="4500720" y="4659480"/>
            <a:ext cx="142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3444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loeibare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13647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mulgeerbare concentraten EC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engbare oliën, organisc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vat emulgato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e meng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aak een melkwitte vloei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inder residu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genvaster dan poed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rp voor gewas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eerder verbran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4C1CB-6DB2-401C-9B3C-1DC28B0DA7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5176800" y="939960"/>
            <a:ext cx="1866960" cy="24890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"/>
          <p:cNvPicPr/>
          <p:nvPr/>
        </p:nvPicPr>
        <p:blipFill>
          <a:blip r:embed="rId2"/>
          <a:stretch/>
        </p:blipFill>
        <p:spPr>
          <a:xfrm>
            <a:off x="630360" y="465300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"/>
          <p:cNvPicPr/>
          <p:nvPr/>
        </p:nvPicPr>
        <p:blipFill>
          <a:blip r:embed="rId3"/>
          <a:stretch/>
        </p:blipFill>
        <p:spPr>
          <a:xfrm>
            <a:off x="2516040" y="465300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"/>
          <p:cNvPicPr/>
          <p:nvPr/>
        </p:nvPicPr>
        <p:blipFill>
          <a:blip r:embed="rId4"/>
          <a:stretch/>
        </p:blipFill>
        <p:spPr>
          <a:xfrm>
            <a:off x="4430880" y="4653000"/>
            <a:ext cx="142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loeibare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480" y="16776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ulsie in water opgelost EW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lie achtige stof opgelost i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er, waarin actieve stof z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eldere oploss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Pulsfo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LV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118B7-F4DE-4167-AFF9-9E79C5855F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4788000" y="263520"/>
            <a:ext cx="2033640" cy="4238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2"/>
          <a:stretch/>
        </p:blipFill>
        <p:spPr>
          <a:xfrm>
            <a:off x="596880" y="4602240"/>
            <a:ext cx="1428840" cy="2000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3"/>
          <a:stretch/>
        </p:blipFill>
        <p:spPr>
          <a:xfrm>
            <a:off x="2722680" y="4602240"/>
            <a:ext cx="1428480" cy="2000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4"/>
          <a:stretch/>
        </p:blipFill>
        <p:spPr>
          <a:xfrm>
            <a:off x="4788000" y="4602240"/>
            <a:ext cx="1428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ndere formulerin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41200" y="1480680"/>
            <a:ext cx="63468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ookmiddel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randbare stof met remm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smeul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verdampen werkzame 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wavel, Pirimo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korte werking en weinig verbranding, geen residu, alleen bovenzij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erosolen A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5-10% Werkzame stof in oplo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iddel in spuitbus. Som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wasschade. Alleen bovenzij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8398AF-E688-4D7F-BA25-0F20FD39BB2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5167440" y="3355920"/>
            <a:ext cx="17906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ndere formulerin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26520" y="17730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umiganti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loeibaar middel dat in de grond wordt gebracht en damp vormt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odemtemp 7 – 16 </a:t>
            </a:r>
            <a:r>
              <a:rPr b="0" lang="nl-NL" sz="2200" spc="-1" strike="noStrike" baseline="30000">
                <a:solidFill>
                  <a:srgbClr val="404040"/>
                </a:solidFill>
                <a:latin typeface="Trebuchet MS"/>
              </a:rPr>
              <a:t>o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asta voor wonden bij bom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meer middelen tegen vlie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plostablet voor wortelopnam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trooizwa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92d050"/>
                </a:solidFill>
                <a:latin typeface="Trebuchet MS"/>
              </a:rPr>
              <a:t>http://agro.bayer.nl/#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B5DAD-8BAF-428D-8956-9F459B6B4E1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88880" y="1298520"/>
            <a:ext cx="649944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Wat is de formulering van een middel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e vorm waarin het wordt gelever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is het residu van een middel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Resten wel of niet zichtbaa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arom wordt een dipergeermiddel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gevoegd aan een SC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Om poeder zwevend in oplossing te hou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at is de functie van een emulgator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gevoegd aan een EC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enging olie in wat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ABA98-3508-400E-89E2-B98B741BEE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275760"/>
            <a:ext cx="8498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at zijn de nadelen van chemie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8920" y="2771640"/>
            <a:ext cx="6348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sistenti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roeiremm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jwerking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ilieubelastend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adelijk voor niet doel organis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vaarlijk voor mens en leefomgev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30D2A-EF72-4BFB-AE17-3E1AD923DC4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2897280" y="1569960"/>
            <a:ext cx="3844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en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68360" y="162864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  <a:ea typeface="Arial"/>
              </a:rPr>
              <a:t>é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 werkgang (tijdwinst) soms wel 12 s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isico’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ïnvloeding werking( bij 3 middelen stijgt pH met 0,5-1,0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tmeng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wasschade / groeiremm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ocktail vlb.met vlb.en poeder met poed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arantie tegen schade is er nie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ommige fabrikanten geven mengen aa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05C9F-0EC6-4510-BB71-8279421320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PH en de halfwaardetijd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dvies is pH 5,4 = zelfde pH als bla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e laag (zuur) belemmert de opnam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e hoog afbraak versneld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H 5 is de werkzaamheid na 50 dagen gehalveer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H 7 is dit 14,5 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H 9 is dit 10 minut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29839-A31D-4614-A1B7-FF129C7A09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voegin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nerale olie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opname herbic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lantaardige olie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ide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nerale olie tegen viru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minder opname en verspreiding virus in aardapp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on- ionische uitvloeier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bladbedekking bij herbiciden, fungiciden en groeihormo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uperuitvloeier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bladbedekking en snelle droging (Zipper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39C52-F612-4D1A-8C0A-D1BE8F85C0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voegin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Kationische (zeep) en biologische uitvloeier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bladbedekking en indring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echters met uitvloeier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tere hechting vooral met re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lakmiddel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voorkomt zaaduitval en lege peul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erconditioner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pH beïnvloe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32CC1-6887-47FD-AA98-46791DB9237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engvolgorde van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58640"/>
            <a:ext cx="7273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½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of 2/3 wa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iddel verpakt in water oplosbaar folie (WOF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puitpoeder (WP) en/of spuitkorrels (WG) eventueel voorgemengd in warm wa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spensie conc. (SC of Flowabl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ulgeerbaar concentraat (EC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oeistof in water (SL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lpstof (hechter, uitvloeier en vloeibare meststof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puitoli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fvulle</a:t>
            </a: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n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7D508-24B3-4A09-AD66-BACFF62882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07560"/>
            <a:ext cx="706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Zijn hulpstoffen volgens de we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wasbeschermingsmiddel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Nee alleen als ze een N-nummer bezit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is de functie van een minerale ol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Zorgen voor betere opnam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elke voeg je het eerste toe olie of poeder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Poede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at is de functie van waterconditioner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pH beïnvloeden (verlagen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76F45-D26B-4603-9CDA-B406175D46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rsen is dat echt zo er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ideo van 10 min. Vooral eerste en laatste 2 mi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ordt een gewasbeschermingsmiddel verwijderd uit rioolwater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ttps://youtu.be/hSBbS7SOODg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akkelijk doseren zonder morsen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ttps://youtu.be/sW5yL81u9eU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2E311-5569-47B7-A3E1-28495C4C32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formatie bronn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28680" y="1460520"/>
            <a:ext cx="63468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andleidingen gewasbescherming DLV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Gewasbeschermingsgids of PD gids = rode gid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ok via internet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CTGB http://www.ctgb.nl/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lat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strijdingsmiddelen databank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.G. (wettelijk gebruiksvoorschrift)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.A. (gebruiksaanwijzing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Fytostat http://www.fytostat.nl/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roducenten – </a:t>
            </a:r>
            <a:r>
              <a:rPr b="1" lang="nl-NL" sz="2200" spc="-1" strike="noStrike">
                <a:solidFill>
                  <a:srgbClr val="404040"/>
                </a:solidFill>
                <a:latin typeface="Trebuchet MS"/>
              </a:rPr>
              <a:t>etiket en veiligheidsbla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085FC-9AFF-4CCB-B39B-7FC575B56AD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1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1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10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10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Wat is de taak van het CTGB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iddelen toetsen voor toelat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elke info is er op Fytosta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Etiketten en veiligheidsbla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4CB20-E912-452B-B971-B094EB4080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NO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wasbeschermingmiddelen van natuurlijke oorspro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Laag risico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einig milieubelast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7807F-F6A2-42C4-A2A7-60EF291B832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rkzame stof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0560" y="1530360"/>
            <a:ext cx="720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f actieve stof = stof die de werking geeft. Bij Vertimec Gold 18 g/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Formulering = de vorm vlb., poeder of vloeisto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oevoegingen of hulpstoffen om bij droogweer de opname te verbeteren, want de waslaag is </a:t>
            </a: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dunner/dikker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lpstof Squall https://youtu.be/l4AdahKG2f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ulpstoffen Elasto, Hasten zie ook https://www.surfaplus-tr.com/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51605-251A-4601-B8FB-49F996468F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NO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2205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acteriën; Bacillus thurgiensis (Xentari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chimmels; Mycotal, Botanigar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ycorrhiza’s; in symbiose levende bodemschimmel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eromo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xtra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lantversterkers om weerstand te verhog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4D993-CC21-431D-B018-62FFEEB57D7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55280" y="1557000"/>
            <a:ext cx="64803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zijn GNO’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ewasbeschermingsmiddelen van natuurlijke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oorspro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Leg uit wat symbiose beteken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Schimmel krijgt suikers van de plant 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zorgen voor betere opname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element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t zijn feromonen en wat is hun func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Lokstoffen om voortplanting te remm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at is de belangrijkste functie van plantversterker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Weerstand verho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807F0-D3EF-49C0-8C52-0472A2DFEC8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UB lijst </a:t>
            </a:r>
            <a:r>
              <a:rPr b="0" lang="nl-NL" sz="3600" spc="-1" strike="noStrike">
                <a:solidFill>
                  <a:srgbClr val="ff0000"/>
                </a:solidFill>
                <a:latin typeface="Trebuchet MS"/>
              </a:rPr>
              <a:t>afgeschaf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09120" y="1930320"/>
            <a:ext cx="6348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egeling Uitzondering Bestrijdingmiddel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en N numm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b. bier tegen slakken en zeep tegen lui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tsmettingsmiddel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ddelen tegen al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roeiregulato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ttp://wetten.overheid.nl/BWBR0003172/geldigheidsdatum_16-10-2007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89A50-8D2F-44A7-AD2A-EEE613A1474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1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19200" y="54900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deling en werk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erbiciden          onkru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Insecticiden        inse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ungiciden         schimmel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ematiciden       aaltj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odenticiciden   knaagdie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actericiden       bacterië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ollusciciden     weekdieren (slak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cariciden          mij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F4A21-F737-4EA4-95A6-6E258B8AA9C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5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10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10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10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ystemisch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pname door de plan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tekend en zuigende inse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Niet system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ranslaminair (door de waslaag)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mineerlarv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ontact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radicatieve (stoppen zichtbare infecties)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ungicid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F5C87-43DB-4288-A576-53FD520EBF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16080" y="1296720"/>
            <a:ext cx="69926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. Wat is het grootste verschil tussen systemisch 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iet systemisch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Systemisch gaat door vaatbundel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is een eradicatieve fungic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iddel dat zichtbare schimmelinfectie stop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arom kun je wortelonkruiden het beste me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ystemische middelen bestrijden?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ie gaan door de gehele plant en dan wordt alles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afgedoo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elk type middelen kun je alleen inzetten ter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oorkoming van een infec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Niet systemische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1C11C-F417-4C87-BA9A-D56039A51F4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6" dur="1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10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0" dur="10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10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odemherbicid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55280" y="196056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or de plant opgenom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Film in de grond – enkel centimeter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Kale gron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iet tegen wortelonkru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roge grond werkt slech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inding Klei-Humus-Complex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erken enkele weken tot maan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oeilijk afbreekbaar = persisten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3187A7-B7E2-488B-B565-CB9AB19A31C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1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nodeType="clickEffect" fill="hold">
                      <p:stCondLst>
                        <p:cond delay="indefinite"/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1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1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nodeType="clickEffect" fill="hold">
                      <p:stCondLst>
                        <p:cond delay="indefinite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nodeType="clickEffect" fill="hold">
                      <p:stCondLst>
                        <p:cond delay="indefinite"/>
                      </p:stCondLst>
                      <p:childTnLst>
                        <p:par>
                          <p:cTn id="1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nodeType="clickEffect" fill="hold">
                      <p:stCondLst>
                        <p:cond delay="indefinite"/>
                      </p:stCondLst>
                      <p:childTnLst>
                        <p:par>
                          <p:cTn id="1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10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ladherbicid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406160"/>
            <a:ext cx="822960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ia bla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ystemisch vb. Roundup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roeistoffen; plant groeit kapo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cpa,mecoprop, fluroxypy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Arial"/>
              </a:rPr>
              <a:t>éé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zaadlobige gewassen tegen dicoty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ontac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rekken alleen in blad en worden niet verder vervo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ok bij lagere temperat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egen zaadonkruid in jong sta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sdoder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54C25-B42C-4D31-853E-F9B3B9A38D1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nodeType="clickEffect" fill="hold">
                      <p:stCondLst>
                        <p:cond delay="indefinite"/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1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1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1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10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10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nodeType="clickEffect" fill="hold">
                      <p:stCondLst>
                        <p:cond delay="indefinite"/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10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10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2" dur="10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7" dur="1000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2060640"/>
            <a:ext cx="6985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Waarom werken bodemherbiciden niet tegen grot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kruid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Hun wortels zitten al dieper onder de filmlaa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elk type middel zet je in tegen wortelonkruid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Systemische bladherbici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D8B25-C396-45BA-8969-FA72362B56E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0" dur="indefinite" restart="never" nodeType="tmRoot">
          <p:childTnLst>
            <p:seq>
              <p:cTn id="1691" dur="indefinite" nodeType="mainSeq">
                <p:childTnLst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6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1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38280" y="184464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3.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arom bestrijden contactmiddelen ge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ortelonkruid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Ze worden niet getransporteerd in de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vaatbundels en dus gaat het onkruid all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bovengronds doo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Welk type herbicide heeft een lang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awerking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Bodemherbicid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F811C-70BA-43BA-8116-387F9B7A95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2" dur="indefinite" restart="never" nodeType="tmRoot">
          <p:childTnLst>
            <p:seq>
              <p:cTn id="1703" dur="indefinite" nodeType="mainSeq">
                <p:childTnLst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8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3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voegingen en hulpstoff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1000080"/>
            <a:ext cx="8102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ulpstoff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aagstof    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Giftigheid verla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ulstof         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e verdel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losmiddel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 oplossen werkzame 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ispergeermiddel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uspensie (mengsel van water en poeder) blijft beter zweven en zakt niet naar de bode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ulgato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lie in water = emuls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 mengen ook i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       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ter goed verdeel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D78DA-AAB8-4D3D-9711-AAC56E3E7D5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041480" y="5137200"/>
            <a:ext cx="33145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secticid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96520" y="17730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Zenuwstelsel aangetas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cetylcholine (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tast het zenuwstelsel aan door 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verstoren prikkeloverdracht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holine-esterase remmende werk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4388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verprikkeling zenuwen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doo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4388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er giftig voor mens en dier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23880" indent="-2397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beel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rganische fosforverbind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arbamaten (o.a. spierverslapper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yrethroiden (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natuurlijke insekticides, snelle werking en 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snelle afbraak door licht en UV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96012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er giftig voor andere d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343880" indent="-191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88000" indent="-2880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0AE4F-132D-4387-8ECC-8F2D58ED3D2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4" dur="indefinite" restart="never" nodeType="tmRoot">
          <p:childTnLst>
            <p:seq>
              <p:cTn id="1715" dur="indefinite" nodeType="mainSeq">
                <p:childTnLst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7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4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4" dur="1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nodeType="clickEffect" fill="hold">
                      <p:stCondLst>
                        <p:cond delay="indefinite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1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10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6" dur="10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1" dur="10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2" dur="10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roeiproces versto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971640" y="193032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rming chitine 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(bouwstof voor schimmels en skelet 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geleedpotigen zoals insecten, kreeftachtigen en spinnen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velling verstoord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rupsen mineermo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daante verwisseling vers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pna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u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demha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FE104C-85EA-4244-9E91-AC0EFCC189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0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9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1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secticid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23640" y="1279080"/>
            <a:ext cx="6994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ystemisch tegen zuigende insect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uppe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Niet-systemisch tegen vretende insecten (rups, kev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a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puittechniek belangrij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 uitvloei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ranslaminair (ademhalingsgif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irimo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ldoende temp. nodi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DD7F6-F93F-471A-83D6-3D0AF43B1D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nodeType="clickEffect" fill="hold">
                      <p:stCondLst>
                        <p:cond delay="indefinite"/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nodeType="clickEffect" fill="hold">
                      <p:stCondLst>
                        <p:cond delay="indefinite"/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9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6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1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nodeType="clickEffect" fill="hold">
                      <p:stCondLst>
                        <p:cond delay="indefinite"/>
                      </p:stCondLst>
                      <p:childTnLst>
                        <p:par>
                          <p:cTn id="1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10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ravelling ti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ontactmiddel druppelen bij laatste druppelbeurt einde da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ystemisch middel begin van de dag druppelen zodat het door verdamping goed wordt opgenom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oeveel druppelbeurten zijn nodig denk j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Zeker 6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624B6-75CB-4D75-B4BF-4F8FFD7AF2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4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8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5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9280" y="1268280"/>
            <a:ext cx="648036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Welk proces bij insecten wordt verstoord door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holine-esteraseremmer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Prikkeloverdracht in zenuwstels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arom werken systemische middelen minder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egen vretende insect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Zij krijgen niet voldoende middel bin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Hoe kunnen middelen door insecten word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pgenom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oor huid, ademhaling en maa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FB0D8-9990-4B9D-95BF-050B47EA0B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nodeType="clickEffect" fill="hold">
                      <p:stCondLst>
                        <p:cond delay="indefinite"/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ungici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onventione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reedwerke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rijwel nooit resisten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Fytotoxisch = giftig/schadelij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iet systemisc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reventie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aneb, thiram, capta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38D51-51A3-4E48-B948-206A871789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nodeType="clickEffect" fill="hold">
                      <p:stCondLst>
                        <p:cond delay="indefinite"/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5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6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nodeType="clickEffect" fill="hold">
                      <p:stCondLst>
                        <p:cond delay="indefinite"/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2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nodeType="clickEffect" fill="hold">
                      <p:stCondLst>
                        <p:cond delay="indefinite"/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1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nodeType="clickEffect" fill="hold">
                      <p:stCondLst>
                        <p:cond delay="indefinite"/>
                      </p:stCondLst>
                      <p:childTnLst>
                        <p:par>
                          <p:cTn id="1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0" dur="10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ungici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9640" y="170028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der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ystemisc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uratie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en plaats ingrijpe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erder resisten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beeld O.a. strobilurin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oms combinatie van meerdere werkzame stoffen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minder kans op resisten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5B662F-939A-4234-B34D-4285D282A7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3" dur="indefinite" restart="never" nodeType="tmRoot">
          <p:childTnLst>
            <p:seq>
              <p:cTn id="1974" dur="indefinite" nodeType="mainSeq">
                <p:childTnLst>
                  <p:par>
                    <p:cTn id="1975" nodeType="clickEffect" fill="hold">
                      <p:stCondLst>
                        <p:cond delay="indefinite"/>
                      </p:stCondLst>
                      <p:childTnLst>
                        <p:par>
                          <p:cTn id="1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9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6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1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nodeType="clickEffect" fill="hold">
                      <p:stCondLst>
                        <p:cond delay="indefinite"/>
                      </p:stCondLst>
                      <p:childTnLst>
                        <p:par>
                          <p:cTn id="2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3" dur="1000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ignum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557360"/>
            <a:ext cx="6500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trobuline is stofje uit een schimmel dat de stofwisseling verstoord en zeer lage giftigheid voor mens en insecten.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korte veiligheidstermij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ignum = schimmelbestrijder met 2 werkzame stoffen Pyraclostrobuline en Boscalid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minder resistentie. Ook groener en vitaler gewas (minder uitval) dat meer bestand is tegen ethyleen. Meer productie (10% in graan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E2122-1952-4ABD-A754-05B7D10004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6" dur="indefinite" restart="never" nodeType="tmRoot">
          <p:childTnLst>
            <p:seq>
              <p:cTn id="2017" dur="indefinite" nodeType="mainSeq">
                <p:childTnLst>
                  <p:par>
                    <p:cTn id="2018" nodeType="clickEffect" fill="hold">
                      <p:stCondLst>
                        <p:cond delay="indefinite"/>
                      </p:stCondLst>
                      <p:childTnLst>
                        <p:par>
                          <p:cTn id="2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nodeType="clickEffect" fill="hold">
                      <p:stCondLst>
                        <p:cond delay="indefinite"/>
                      </p:stCondLst>
                      <p:childTnLst>
                        <p:par>
                          <p:cTn id="2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9" dur="1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0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Nematici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09120" y="1568520"/>
            <a:ext cx="6348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Vloeiba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In de grond – gasvormi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od alle aaltjessoor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odemtemperatuur niet te laa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Uitspoeling (2016 verbod?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Korrelvormig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ranula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Lossen op in het bodemvoch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electief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ok systemisch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evenwerking insecten doden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A46DB-B519-4B56-9A41-FDD52198B8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8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nodeType="clickEffect" fill="hold">
                      <p:stCondLst>
                        <p:cond delay="indefinite"/>
                      </p:stCondLst>
                      <p:childTnLst>
                        <p:par>
                          <p:cTn id="2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5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1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0" dur="1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nodeType="clickEffect" fill="hold">
                      <p:stCondLst>
                        <p:cond delay="indefinite"/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7" dur="1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nodeType="clickEffect" fill="hold">
                      <p:stCondLst>
                        <p:cond delay="indefinite"/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4" dur="1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10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9" dur="10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1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9" dur="1000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0" dur="1000" fill="hold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4" dur="1000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er en gewasbescherm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ikte waslaag bij groeizaam weer dunn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odemherbicide vochtige bodem nodi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ontactfungiciden hechten beter op droog warm gewa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iet systemische insecticiden werken het beste bij niet te lage temp, want insecten zijn dan actief. Zon breekt ze eerder af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eer, neerslag en wind!!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Wat is het beste momen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83F706-13C3-4DD4-9B1E-D35DC915F34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7" dur="indefinite" restart="never" nodeType="tmRoot">
          <p:childTnLst>
            <p:seq>
              <p:cTn id="2098" dur="indefinite" nodeType="mainSeq">
                <p:childTnLst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3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4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nodeType="clickEffect" fill="hold">
                      <p:stCondLst>
                        <p:cond delay="indefinite"/>
                      </p:stCondLst>
                      <p:childTnLst>
                        <p:par>
                          <p:cTn id="2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1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nodeType="clickEffect" fill="hold">
                      <p:stCondLst>
                        <p:cond delay="indefinite"/>
                      </p:stCondLst>
                      <p:childTnLst>
                        <p:par>
                          <p:cTn id="2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7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4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1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2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nodeType="clickEffect" fill="hold">
                      <p:stCondLst>
                        <p:cond delay="indefinite"/>
                      </p:stCondLst>
                      <p:childTnLst>
                        <p:par>
                          <p:cTn id="2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voegingen en hulpstoff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7226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Uitvloei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e en grotere bladbedekk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echt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Werkzame stof beter aan het blad hech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nti-schuimmiddel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minder schuimvorm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leur en geurstof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gevaa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4B5EA-B669-4635-9163-58F446899E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2556000" y="3746520"/>
            <a:ext cx="208584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er en gewasbescherm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09120" y="27810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ddelen op basis van poeder en waterige middelen worden moeilijker opgenomen dan oliën en hebben een langere aandroogtijd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CDF40-1A8B-4184-829D-2DF128E5BB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1" dur="indefinite" restart="never" nodeType="tmRoot">
          <p:childTnLst>
            <p:seq>
              <p:cTn id="2142" dur="indefinite" nodeType="mainSeq">
                <p:childTnLst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70028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der welke omstandigheden is de waslaag du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Trebuchet MS"/>
              </a:rPr>
              <a:t>Groeizaam weer met hoge rv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nneer worden systemische middelen het best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pgenom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Overdag bij hoge temperatu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3A1BE-CF63-480C-B57F-AF501070904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nodeType="clickEffect" fill="hold">
                      <p:stCondLst>
                        <p:cond delay="indefinite"/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6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3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zijn optimale omstandigheden voor inze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an contactfungicid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roog gewas met zon en beetje wind bij niet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te lage temperatur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elke 2 factoren bepalen het risico van e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slaagde schimmel-infec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Infectiedruk en het weer (rv en temp. hoog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B138B-30B3-4297-985D-95D31B05E6D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2" dur="indefinite" restart="never" nodeType="tmRoot">
          <p:childTnLst>
            <p:seq>
              <p:cTn id="2163" dur="indefinite" nodeType="mainSeq">
                <p:childTnLst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nodeType="clickEffect" fill="hold">
                      <p:stCondLst>
                        <p:cond delay="indefinite"/>
                      </p:stCondLst>
                      <p:childTnLst>
                        <p:par>
                          <p:cTn id="2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5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ilieu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iss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damp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rond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terorganis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rif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2 %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ie berekening in het bo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B38D0-470F-4BB0-902B-B867685F6B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8" dur="indefinite" restart="never" nodeType="tmRoot">
          <p:childTnLst>
            <p:seq>
              <p:cTn id="2179" dur="indefinite" nodeType="mainSeq">
                <p:childTnLst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4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nodeType="clickEffect" fill="hold">
                      <p:stCondLst>
                        <p:cond delay="indefinite"/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6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1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2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nodeType="clickEffect" fill="hold">
                      <p:stCondLst>
                        <p:cond delay="indefinite"/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8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nodeType="clickEffect" fill="hold">
                      <p:stCondLst>
                        <p:cond delay="indefinite"/>
                      </p:stCondLst>
                      <p:childTnLst>
                        <p:par>
                          <p:cTn id="2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5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0" dur="10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1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Sassoon-Primary"/>
              </a:rPr>
              <a:t>Emissie</a:t>
            </a:r>
            <a:br>
              <a:rPr sz="40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Sassoon-Primary"/>
              </a:rPr>
              <a:t>Te kleine druppel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Sassoon-Primary"/>
              </a:rPr>
              <a:t>(</a:t>
            </a: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kleiner dan 30 µm) zijn gevoelig voor emissie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Ze verdampen snel en kunnen gaan zweven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Sassoon-Primary"/>
              </a:rPr>
              <a:t>Ze komen uiteindelijk op de bovenzijde van het blad terecht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Sassoon-Primary"/>
              </a:rPr>
              <a:t>Ook kunnen ze te weinig actieve stof bevatten voor een goede werking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B8EEA-51E7-4DCA-8836-54CDC037BE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3" dur="indefinite" restart="never" nodeType="tmRoot">
          <p:childTnLst>
            <p:seq>
              <p:cTn id="2224" dur="indefinite" nodeType="mainSeq">
                <p:childTnLst>
                  <p:par>
                    <p:cTn id="2225" nodeType="clickEffect" fill="hold">
                      <p:stCondLst>
                        <p:cond delay="indefinite"/>
                      </p:stCondLst>
                      <p:childTnLst>
                        <p:par>
                          <p:cTn id="2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9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0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6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7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nodeType="clickEffect" fill="hold">
                      <p:stCondLst>
                        <p:cond delay="indefinite"/>
                      </p:stCondLst>
                      <p:childTnLst>
                        <p:par>
                          <p:cTn id="2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8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9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3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4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Sassoon-Primary"/>
              </a:rPr>
              <a:t>Emissieroutes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Sassoon-Primary"/>
              </a:rPr>
              <a:t>naar oppervlaktewater en grondwa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via de bodem (drainwater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middelen die vanuit de lucht in het oppervlaktewater terechtko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via recirculatiewat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 first flus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via condens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Sassoon-Primary"/>
              </a:rPr>
              <a:t>Welke emissieroute het meest voorkomt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 </a:t>
            </a:r>
            <a:r>
              <a:rPr b="0" lang="nl-NL" sz="2000" spc="-1" strike="noStrike">
                <a:solidFill>
                  <a:srgbClr val="404040"/>
                </a:solidFill>
                <a:latin typeface="Sassoon-Primary"/>
              </a:rPr>
              <a:t>hangt af van de gebruikte techni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F831A-3072-447F-959C-23A73D2259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6" dur="indefinite" restart="never" nodeType="tmRoot">
          <p:childTnLst>
            <p:seq>
              <p:cTn id="2257" dur="indefinite" nodeType="mainSeq">
                <p:childTnLst>
                  <p:par>
                    <p:cTn id="2258" nodeType="clickEffect" fill="hold">
                      <p:stCondLst>
                        <p:cond delay="indefinite"/>
                      </p:stCondLst>
                      <p:childTnLst>
                        <p:par>
                          <p:cTn id="2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2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3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nodeType="clickEffect" fill="hold">
                      <p:stCondLst>
                        <p:cond delay="indefinite"/>
                      </p:stCondLst>
                      <p:childTnLst>
                        <p:par>
                          <p:cTn id="2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9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4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9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5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1" dur="1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2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nodeType="clickEffect" fill="hold">
                      <p:stCondLst>
                        <p:cond delay="indefinite"/>
                      </p:stCondLst>
                      <p:childTnLst>
                        <p:par>
                          <p:cTn id="2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8" dur="1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9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Sassoon-Primary"/>
              </a:rPr>
              <a:t>Emissieroute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79280" y="1623960"/>
            <a:ext cx="684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Sassoon-Primary"/>
              </a:rPr>
              <a:t>Bij emissie komt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Sassoon-Primary"/>
              </a:rPr>
              <a:t>het toegepaste gewasbeschermingsmiddel niet terecht op de plaats waar het moet komen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Sassoon-Primary"/>
              </a:rPr>
              <a:t>Het middel gaat verloren en kan mens en milieu bedreigen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Sassoon-Primary"/>
              </a:rPr>
              <a:t>Emissie van gewasbeschermingsmiddelen naar het milieu kan via verschillende routes plaatsvind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Sassoon-Primary"/>
              </a:rPr>
              <a:t>naar lucht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kleine druppels die naar buiten waai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verdamping van het middel van het gewas of kasdek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gasvormige middel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Sassoon-Primary"/>
              </a:rPr>
              <a:t>naar bodem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middelen die van de plant afdruip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middelen die naast het gewas op de grond terechtkom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31480" indent="-226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Sassoon-Primary"/>
              </a:rPr>
              <a:t>middelen die aan de bodem worden toegediend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CCB2D-FB72-4922-8FDE-B413470756E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1" dur="indefinite" restart="never" nodeType="tmRoot">
          <p:childTnLst>
            <p:seq>
              <p:cTn id="2302" dur="indefinite" nodeType="mainSeq">
                <p:childTnLst>
                  <p:par>
                    <p:cTn id="2303" nodeType="clickEffect" fill="hold">
                      <p:stCondLst>
                        <p:cond delay="indefinite"/>
                      </p:stCondLst>
                      <p:childTnLst>
                        <p:par>
                          <p:cTn id="2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7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nodeType="clickEffect" fill="hold">
                      <p:stCondLst>
                        <p:cond delay="indefinite"/>
                      </p:stCondLst>
                      <p:childTnLst>
                        <p:par>
                          <p:cTn id="2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4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5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9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0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nodeType="clickEffect" fill="hold">
                      <p:stCondLst>
                        <p:cond delay="indefinite"/>
                      </p:stCondLst>
                      <p:childTnLst>
                        <p:par>
                          <p:cTn id="2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6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7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nodeType="clickEffect" fill="hold">
                      <p:stCondLst>
                        <p:cond delay="indefinite"/>
                      </p:stCondLst>
                      <p:childTnLst>
                        <p:par>
                          <p:cTn id="2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3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4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8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3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8" dur="10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9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nodeType="clickEffect" fill="hold">
                      <p:stCondLst>
                        <p:cond delay="indefinite"/>
                      </p:stCondLst>
                      <p:childTnLst>
                        <p:par>
                          <p:cTn id="2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5" dur="1000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0" dur="1000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5" dur="1000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0" dur="1000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tgev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09120" y="189540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ctiviteiten beslui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enteel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eeltvrije zon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vrije zon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nti-driftdopp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antdopp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ogte spuitboo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oegestane windk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oel 90% minder drif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6C20B-74DF-450E-A299-292C27F8CA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3" dur="indefinite" restart="never" nodeType="tmRoot">
          <p:childTnLst>
            <p:seq>
              <p:cTn id="2374" dur="indefinite" nodeType="mainSeq">
                <p:childTnLst>
                  <p:par>
                    <p:cTn id="2375" nodeType="clickEffect" fill="hold">
                      <p:stCondLst>
                        <p:cond delay="indefinite"/>
                      </p:stCondLst>
                      <p:childTnLst>
                        <p:par>
                          <p:cTn id="2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9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0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nodeType="clickEffect" fill="hold">
                      <p:stCondLst>
                        <p:cond delay="indefinite"/>
                      </p:stCondLst>
                      <p:childTnLst>
                        <p:par>
                          <p:cTn id="2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6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7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nodeType="clickEffect" fill="hold">
                      <p:stCondLst>
                        <p:cond delay="indefinite"/>
                      </p:stCondLst>
                      <p:childTnLst>
                        <p:par>
                          <p:cTn id="2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3" dur="1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8" dur="1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9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3" dur="1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8" dur="1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9" dur="1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1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3" dur="10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4" dur="10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8" dur="10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nodeType="clickEffect" fill="hold">
                      <p:stCondLst>
                        <p:cond delay="indefinite"/>
                      </p:stCondLst>
                      <p:childTnLst>
                        <p:par>
                          <p:cTn id="2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5" dur="1000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lke afbraakprocess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88136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fbraak DT-5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egradation time = halfwaarde tij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r dan 60 dag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rsistent of moeilijk afbreekbaar middel zoals bodemherbici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dap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micro-organis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DA68B7-81B4-4ACD-B15E-966E94ED1CD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8" dur="indefinite" restart="never" nodeType="tmRoot">
          <p:childTnLst>
            <p:seq>
              <p:cTn id="2429" dur="indefinite" nodeType="mainSeq">
                <p:childTnLst>
                  <p:par>
                    <p:cTn id="2430" nodeType="clickEffect" fill="hold">
                      <p:stCondLst>
                        <p:cond delay="indefinite"/>
                      </p:stCondLst>
                      <p:childTnLst>
                        <p:par>
                          <p:cTn id="2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4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5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nodeType="clickEffect" fill="hold">
                      <p:stCondLst>
                        <p:cond delay="indefinite"/>
                      </p:stCondLst>
                      <p:childTnLst>
                        <p:par>
                          <p:cTn id="2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1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2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nodeType="clickEffect" fill="hold">
                      <p:stCondLst>
                        <p:cond delay="indefinite"/>
                      </p:stCondLst>
                      <p:childTnLst>
                        <p:par>
                          <p:cTn id="2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8" dur="1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9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3" dur="10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4" dur="1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1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nodeType="clickEffect" fill="hold">
                      <p:stCondLst>
                        <p:cond delay="indefinite"/>
                      </p:stCondLst>
                      <p:childTnLst>
                        <p:par>
                          <p:cTn id="2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0" dur="10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1" dur="10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10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nodeType="clickEffect" fill="hold">
                      <p:stCondLst>
                        <p:cond delay="indefinite"/>
                      </p:stCondLst>
                      <p:childTnLst>
                        <p:par>
                          <p:cTn id="2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7" dur="10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8" dur="10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lke afbraakprocess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85360" y="1628280"/>
            <a:ext cx="6348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ccumula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hoping persistente midde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keten raakt verstoo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Uitspoel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angzaam afgebro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en binding Klei-Humus-Complex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C-Drinkwaternorm 0,1 microgram/L /middel. Max 0,5 van alle middelen teza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fspoeling van middelen naar riool of oppervlaktewat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7CC18-19C3-4CBB-A704-8A7BAFE4D44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0" dur="indefinite" restart="never" nodeType="tmRoot">
          <p:childTnLst>
            <p:seq>
              <p:cTn id="2471" dur="indefinite" nodeType="mainSeq">
                <p:childTnLst>
                  <p:par>
                    <p:cTn id="2472" nodeType="clickEffect" fill="hold">
                      <p:stCondLst>
                        <p:cond delay="indefinite"/>
                      </p:stCondLst>
                      <p:childTnLst>
                        <p:par>
                          <p:cTn id="2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6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7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nodeType="clickEffect" fill="hold">
                      <p:stCondLst>
                        <p:cond delay="indefinite"/>
                      </p:stCondLst>
                      <p:childTnLst>
                        <p:par>
                          <p:cTn id="2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3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4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8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9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5" dur="1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6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nodeType="clickEffect" fill="hold">
                      <p:stCondLst>
                        <p:cond delay="indefinite"/>
                      </p:stCondLst>
                      <p:childTnLst>
                        <p:par>
                          <p:cTn id="2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2" dur="10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3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10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8" dur="1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1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2" dur="10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3" dur="10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nodeType="clickEffect" fill="hold">
                      <p:stCondLst>
                        <p:cond delay="indefinite"/>
                      </p:stCondLst>
                      <p:childTnLst>
                        <p:par>
                          <p:cTn id="2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100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0" dur="1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1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Uitvloeier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000" y="1773000"/>
            <a:ext cx="67784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lad heeft een waslaag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schermd tegen uitdrog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druppels blijven groo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oor uitvloeier loopt druppel uit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betere bedekking en minder actieve stof nodi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oog weer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waslaag dikk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roeizaam weer met hoge temp en RV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waslaag dunn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WIS weegt weerbericht mee in dosi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92d050"/>
                </a:solidFill>
                <a:latin typeface="Trebuchet MS"/>
              </a:rPr>
              <a:t>http://www.opticrop.nl/default.asp?id=17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F4A20-A603-4C0E-927A-25CC63D397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lke afbraakprocess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539640" y="1700280"/>
            <a:ext cx="70567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rdamping van 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oge neerslag, sterk verdund met regen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 de gro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 oppervlaktewat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der gla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ondensatie per m</a:t>
            </a:r>
            <a:r>
              <a:rPr b="0" lang="nl-NL" sz="20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glas =0,5 liter per dag opvangen als first flush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rift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door wind verwaaien afh. van druk en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in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7E2B8-F88B-4E81-AF02-F77CB494D5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nodeType="clickEffect" fill="hold">
                      <p:stCondLst>
                        <p:cond delay="indefinite"/>
                      </p:stCondLst>
                      <p:childTnLst>
                        <p:par>
                          <p:cTn id="2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8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nodeType="clickEffect" fill="hold">
                      <p:stCondLst>
                        <p:cond delay="indefinite"/>
                      </p:stCondLst>
                      <p:childTnLst>
                        <p:par>
                          <p:cTn id="2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0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1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2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5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nodeType="clickEffect" fill="hold">
                      <p:stCondLst>
                        <p:cond delay="indefinite"/>
                      </p:stCondLst>
                      <p:childTnLst>
                        <p:par>
                          <p:cTn id="2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2" dur="1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3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nodeType="clickEffect" fill="hold">
                      <p:stCondLst>
                        <p:cond delay="indefinite"/>
                      </p:stCondLst>
                      <p:childTnLst>
                        <p:par>
                          <p:cTn id="2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6" dur="10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7" dur="10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10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33160" y="1521000"/>
            <a:ext cx="6500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. Hoe kunnen gewasbeschermingsmiddelen in he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lieu terecht kome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Verdamping, uitspoeling, afspoeling en drif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geeft de DT waarde aa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e halfwaarde tijd in dag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t betekent accumulatie van een middel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Ophoping middel in voedselke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4. Wat is first flush?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Eerste water wat op kasdek val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1CBCF-D4F8-4497-B58D-48CEE952451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9" dur="indefinite" restart="never" nodeType="tmRoot">
          <p:childTnLst>
            <p:seq>
              <p:cTn id="2570" dur="indefinite" nodeType="mainSeq">
                <p:childTnLst>
                  <p:par>
                    <p:cTn id="2571" nodeType="clickEffect" fill="hold">
                      <p:stCondLst>
                        <p:cond delay="indefinite"/>
                      </p:stCondLst>
                      <p:childTnLst>
                        <p:par>
                          <p:cTn id="2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5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0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1" nodeType="clickEffect" fill="hold">
                      <p:stCondLst>
                        <p:cond delay="indefinite"/>
                      </p:stCondLst>
                      <p:childTnLst>
                        <p:par>
                          <p:cTn id="2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5" dur="5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nodeType="clickEffect" fill="hold">
                      <p:stCondLst>
                        <p:cond delay="indefinite"/>
                      </p:stCondLst>
                      <p:childTnLst>
                        <p:par>
                          <p:cTn id="2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0" dur="500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Toelating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0" y="151920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CTGB gewasbeschermingsmiddelen en biocid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olksgezondheidsaspe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09728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giftigheid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1" marL="713160" indent="-2743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lieu-aspec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09728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Mobiliteit (uitspoeling, verdamping, absorptie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09728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Persistentie (afbraak) DT of halfwaardetijd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2" marL="109728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900" spc="-1" strike="noStrike">
                <a:solidFill>
                  <a:srgbClr val="404040"/>
                </a:solidFill>
                <a:latin typeface="Trebuchet MS"/>
              </a:rPr>
              <a:t>Giftigheid waterorganisme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lvl="3" marL="153612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LD 50 waarde = letale dosi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3" marL="153612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LC-50 – lethale concentratie &lt; minder dan1% LC 50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3" marL="1536120" indent="-2192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EC-50 waarde =effectconcentratie door 50% – binnen 14 dagen reacti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B0956-25C0-45E2-BF5F-CCDB8003E2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1" dur="indefinite" restart="never" nodeType="tmRoot">
          <p:childTnLst>
            <p:seq>
              <p:cTn id="2592" dur="indefinite" nodeType="mainSeq">
                <p:childTnLst>
                  <p:par>
                    <p:cTn id="2593" nodeType="clickEffect" fill="hold">
                      <p:stCondLst>
                        <p:cond delay="indefinite"/>
                      </p:stCondLst>
                      <p:childTnLst>
                        <p:par>
                          <p:cTn id="2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7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8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nodeType="clickEffect" fill="hold">
                      <p:stCondLst>
                        <p:cond delay="indefinite"/>
                      </p:stCondLst>
                      <p:childTnLst>
                        <p:par>
                          <p:cTn id="2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4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5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9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0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nodeType="clickEffect" fill="hold">
                      <p:stCondLst>
                        <p:cond delay="indefinite"/>
                      </p:stCondLst>
                      <p:childTnLst>
                        <p:par>
                          <p:cTn id="2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6" dur="1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7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6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1" dur="10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2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nodeType="clickEffect" fill="hold">
                      <p:stCondLst>
                        <p:cond delay="indefinite"/>
                      </p:stCondLst>
                      <p:childTnLst>
                        <p:par>
                          <p:cTn id="2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8" dur="100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9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3" dur="1000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4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8" dur="1000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9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EU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95280" y="155736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lating voor 10 jr. in EU land op annex A lijst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andere landen mogen het middel ook toelat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ssi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eikundige informatie (ws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atuurkundige informatie (vlampunt etc.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brui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iftigheid voor de mens (acuut, chronisch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cotoxicologische gegevens milieu (bije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13955-282E-4B0C-918C-6CFDDDE0D6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1" dur="indefinite" restart="never" nodeType="tmRoot">
          <p:childTnLst>
            <p:seq>
              <p:cTn id="2652" dur="indefinite" nodeType="mainSeq">
                <p:childTnLst>
                  <p:par>
                    <p:cTn id="2653" nodeType="clickEffect" fill="hold">
                      <p:stCondLst>
                        <p:cond delay="indefinite"/>
                      </p:stCondLst>
                      <p:childTnLst>
                        <p:par>
                          <p:cTn id="2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8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nodeType="clickEffect" fill="hold">
                      <p:stCondLst>
                        <p:cond delay="indefinite"/>
                      </p:stCondLst>
                      <p:childTnLst>
                        <p:par>
                          <p:cTn id="2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4" dur="1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5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nodeType="clickEffect" fill="hold">
                      <p:stCondLst>
                        <p:cond delay="indefinite"/>
                      </p:stCondLst>
                      <p:childTnLst>
                        <p:par>
                          <p:cTn id="2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1" dur="1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2" dur="1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10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6" dur="10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1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1" dur="10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2" dur="10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10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6" dur="10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7" dur="10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8" dur="10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1" dur="10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2" dur="10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Ecotoxicologische gegevens </a:t>
            </a:r>
            <a:r>
              <a:rPr b="0" lang="nl-NL" sz="3000" spc="-1" strike="noStrike">
                <a:solidFill>
                  <a:srgbClr val="90c226"/>
                </a:solidFill>
                <a:latin typeface="Trebuchet MS"/>
              </a:rPr>
              <a:t>(giftigheid van het milieu)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30360" y="2045880"/>
            <a:ext cx="63482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MR stoffen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Carcinoge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kankerverwekke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utage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DNA verandere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productietoxisch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voortplant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https://zoek.officielebekendmakingen.nl/stcrt-2014-6.html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H en P zin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azzard = gevaa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recaution = voorzor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2A389-F578-40A0-9278-787EBB0E0B4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4" dur="indefinite" restart="never" nodeType="tmRoot">
          <p:childTnLst>
            <p:seq>
              <p:cTn id="2695" dur="indefinite" nodeType="mainSeq">
                <p:childTnLst>
                  <p:par>
                    <p:cTn id="2696" nodeType="clickEffect" fill="hold">
                      <p:stCondLst>
                        <p:cond delay="indefinite"/>
                      </p:stCondLst>
                      <p:childTnLst>
                        <p:par>
                          <p:cTn id="2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0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1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nodeType="clickEffect" fill="hold">
                      <p:stCondLst>
                        <p:cond delay="indefinite"/>
                      </p:stCondLst>
                      <p:childTnLst>
                        <p:par>
                          <p:cTn id="2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7" dur="1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8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3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7" dur="1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8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9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2" dur="10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3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nodeType="clickEffect" fill="hold">
                      <p:stCondLst>
                        <p:cond delay="indefinite"/>
                      </p:stCondLst>
                      <p:childTnLst>
                        <p:par>
                          <p:cTn id="2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9" dur="1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0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1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nodeType="clickEffect" fill="hold">
                      <p:stCondLst>
                        <p:cond delay="indefinite"/>
                      </p:stCondLst>
                      <p:childTnLst>
                        <p:par>
                          <p:cTn id="2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6" dur="10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7" dur="10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10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1" dur="10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2" dur="10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3" dur="10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ilieu meetl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53520" y="1844640"/>
            <a:ext cx="717084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LM 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(Centrum Landbouw en Milieu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orm maximaal 100 mbp </a:t>
            </a: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(milieu belastingspunten)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 per toepass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Uitspo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rsis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orm maximaal 10 mbp  per toepass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erorganis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en teel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sloten teel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92d050"/>
                </a:solidFill>
                <a:latin typeface="Trebuchet MS"/>
              </a:rPr>
              <a:t>https://www.milieumeetlat.nl/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04C62-E969-4982-8190-9D3D29CBB99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4" dur="indefinite" restart="never" nodeType="tmRoot">
          <p:childTnLst>
            <p:seq>
              <p:cTn id="2745" dur="indefinite" nodeType="mainSeq">
                <p:childTnLst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0" dur="1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nodeType="clickEffect" fill="hold">
                      <p:stCondLst>
                        <p:cond delay="indefinite"/>
                      </p:stCondLst>
                      <p:childTnLst>
                        <p:par>
                          <p:cTn id="2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7" dur="10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nodeType="clickEffect" fill="hold">
                      <p:stCondLst>
                        <p:cond delay="indefinite"/>
                      </p:stCondLst>
                      <p:childTnLst>
                        <p:par>
                          <p:cTn id="2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4" dur="10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5" dur="10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6" dur="10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9" dur="10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delay="indefinite"/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6" dur="10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7" dur="10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8" dur="10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nodeType="clickEffect" fill="hold">
                      <p:stCondLst>
                        <p:cond delay="indefinite"/>
                      </p:stCondLst>
                      <p:childTnLst>
                        <p:par>
                          <p:cTn id="2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3" dur="100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4" dur="10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10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6" nodeType="clickEffect" fill="hold">
                      <p:stCondLst>
                        <p:cond delay="indefinite"/>
                      </p:stCondLst>
                      <p:childTnLst>
                        <p:par>
                          <p:cTn id="2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0" dur="10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1" dur="10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10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5" dur="1000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6" dur="10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10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0" dur="1000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1" dur="10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10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rdentoelating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53880" y="1488960"/>
            <a:ext cx="63468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oor kleine gewassen kan een toelating worden georganiseer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U zones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nnex-A lijs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1DCB00-0358-4B4D-AF12-6A7FABEF51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614680" y="2344680"/>
            <a:ext cx="43434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3" dur="indefinite" restart="never" nodeType="tmRoot">
          <p:childTnLst>
            <p:seq>
              <p:cTn id="2804" dur="indefinite" nodeType="mainSeq">
                <p:childTnLst>
                  <p:par>
                    <p:cTn id="2805" nodeType="clickEffect" fill="hold">
                      <p:stCondLst>
                        <p:cond delay="indefinite"/>
                      </p:stCondLst>
                      <p:childTnLst>
                        <p:par>
                          <p:cTn id="2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9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0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1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nodeType="clickEffect" fill="hold">
                      <p:stCondLst>
                        <p:cond delay="indefinite"/>
                      </p:stCondLst>
                      <p:childTnLst>
                        <p:par>
                          <p:cTn id="2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6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7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1" dur="10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2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3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nodeType="clickEffect" fill="hold">
                      <p:stCondLst>
                        <p:cond delay="indefinite"/>
                      </p:stCondLst>
                      <p:childTnLst>
                        <p:par>
                          <p:cTn id="2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Neonicotinoiden; </a:t>
            </a:r>
            <a:r>
              <a:rPr b="0" lang="nl-NL" sz="2400" spc="-1" strike="noStrike">
                <a:solidFill>
                  <a:srgbClr val="90c226"/>
                </a:solidFill>
                <a:latin typeface="Trebuchet MS"/>
              </a:rPr>
              <a:t>imidacloprid, thiamethoxam, clothianidine</a:t>
            </a: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09120" y="252576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hemische stof afgeleid van nicotin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ieden tabaksplant bescherm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aucho als zaadbehandel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dmire als systemisch insecticid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den insecten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aantal vogelsoorten daal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ijensterfte of toch de varroamij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B5EAA-B5F8-4DA7-95AE-81259712043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1" dur="indefinite" restart="never" nodeType="tmRoot">
          <p:childTnLst>
            <p:seq>
              <p:cTn id="2832" dur="indefinite" nodeType="mainSeq">
                <p:childTnLst>
                  <p:par>
                    <p:cTn id="2833" nodeType="clickEffect" fill="hold">
                      <p:stCondLst>
                        <p:cond delay="indefinite"/>
                      </p:stCondLst>
                      <p:childTnLst>
                        <p:par>
                          <p:cTn id="2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7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8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9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2" dur="1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3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7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8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2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3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4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nodeType="clickEffect" fill="hold">
                      <p:stCondLst>
                        <p:cond delay="indefinite"/>
                      </p:stCondLst>
                      <p:childTnLst>
                        <p:par>
                          <p:cTn id="2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9" dur="10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0" dur="10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10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4" dur="10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5" dur="10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10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9640" y="1397160"/>
            <a:ext cx="822960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beteken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utage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NA verander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eproductietoxisch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evaar voor voortplant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Carcinoge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kankerverwekken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ersisten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afbraaksnelhei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9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30110-8770-4DA6-A0E3-9F019E9CFC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7" dur="indefinite" restart="never" nodeType="tmRoot">
          <p:childTnLst>
            <p:seq>
              <p:cTn id="2868" dur="indefinite" nodeType="mainSeq">
                <p:childTnLst>
                  <p:par>
                    <p:cTn id="2869" nodeType="clickEffect" fill="hold">
                      <p:stCondLst>
                        <p:cond delay="indefinite"/>
                      </p:stCondLst>
                      <p:childTnLst>
                        <p:par>
                          <p:cTn id="2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nodeType="clickEffect" fill="hold">
                      <p:stCondLst>
                        <p:cond delay="indefinite"/>
                      </p:stCondLst>
                      <p:childTnLst>
                        <p:par>
                          <p:cTn id="2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nodeType="clickEffect" fill="hold">
                      <p:stCondLst>
                        <p:cond delay="indefinite"/>
                      </p:stCondLst>
                      <p:childTnLst>
                        <p:par>
                          <p:cTn id="2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nodeType="clickEffect" fill="hold">
                      <p:stCondLst>
                        <p:cond delay="indefinite"/>
                      </p:stCondLst>
                      <p:childTnLst>
                        <p:par>
                          <p:cTn id="2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95280" y="162864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is een derdentoelating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Toelating voor middelen met al een toelating i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root gewas dat ook in kleine gewassen wordt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toegela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Gelden voor toelating middelen in Nederland e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panje dezelfde regel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Nee, elk land heeft zijn eigen toelatingseisen. Bij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beoordeling wordt gelet op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klimaatomstandighed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06E6B7-EF09-42BF-A662-7BAAF7BFB8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5" dur="indefinite" restart="never" nodeType="tmRoot">
          <p:childTnLst>
            <p:seq>
              <p:cTn id="2886" dur="indefinite" nodeType="mainSeq">
                <p:childTnLst>
                  <p:par>
                    <p:cTn id="2887" nodeType="clickEffect" fill="hold">
                      <p:stCondLst>
                        <p:cond delay="indefinite"/>
                      </p:stCondLst>
                      <p:childTnLst>
                        <p:par>
                          <p:cTn id="2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nodeType="clickEffect" fill="hold">
                      <p:stCondLst>
                        <p:cond delay="indefinite"/>
                      </p:stCondLst>
                      <p:childTnLst>
                        <p:par>
                          <p:cTn id="2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162864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Wat is de functie van een uitvloeier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ruppel laten uitvloeien voor een betere bladbedekk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wordt bedoeld met de formulering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De vorm van het midd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Onder welke weersomstandigheden hebben planten een dunnere waslaag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roeizaam weer met hoge Rv en hoge temp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6D79B-48BA-4D06-B774-6EE57694161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ilieu meetl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rgelijkt effecten verschillende midde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Uitspoeling grondwater afh. Org stof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iftigheid bodemleven (wormen, etc) DT waarde en LC waard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iftigheid waterleven (standaard 1% drift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92d050"/>
                </a:solidFill>
                <a:latin typeface="Trebuchet MS"/>
              </a:rPr>
              <a:t>https://www.milieumeetlat.nl</a:t>
            </a:r>
            <a:r>
              <a:rPr b="1" lang="nl-NL" sz="2000" spc="-1" strike="noStrike">
                <a:solidFill>
                  <a:srgbClr val="92d050"/>
                </a:solidFill>
                <a:latin typeface="Trebuchet MS"/>
              </a:rPr>
              <a:t>/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65A4B-7254-49D8-B779-424B27F1F2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5" dur="indefinite" restart="never" nodeType="tmRoot">
          <p:childTnLst>
            <p:seq>
              <p:cTn id="2896" dur="indefinite" nodeType="mainSeq">
                <p:childTnLst>
                  <p:par>
                    <p:cTn id="2897" nodeType="clickEffect" fill="hold">
                      <p:stCondLst>
                        <p:cond delay="indefinite"/>
                      </p:stCondLst>
                      <p:childTnLst>
                        <p:par>
                          <p:cTn id="2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1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2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nodeType="clickEffect" fill="hold">
                      <p:stCondLst>
                        <p:cond delay="indefinite"/>
                      </p:stCondLst>
                      <p:childTnLst>
                        <p:par>
                          <p:cTn id="2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8" dur="1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9" dur="10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10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3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4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8" dur="10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9" dur="10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0" dur="10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3" dur="10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4" dur="10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5" dur="10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ergelijk 3 bladluis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66560" y="1844280"/>
            <a:ext cx="821088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92d050"/>
                </a:solidFill>
                <a:latin typeface="Trebuchet MS"/>
              </a:rPr>
              <a:t>https://www.milieumeetlat.nl/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       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aterleven Bodeml grondwater  risico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cis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510 pt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  C  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Calypso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30 pt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  C  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epekki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 0 pt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  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us Decis gaat 5x over wettelijke nor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F0A552-311B-4FC9-97FF-EEDEB207C77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6" dur="indefinite" restart="never" nodeType="tmRoot">
          <p:childTnLst>
            <p:seq>
              <p:cTn id="2927" dur="indefinite" nodeType="mainSeq">
                <p:childTnLst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32" dur="2000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ilieumeetlat kas-teel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84360" y="1930320"/>
            <a:ext cx="634680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osering L of Kg / h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oepassingswijz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antal toepassingen/ seizo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missie bij ruimtebehandeling door afluchten tot 40 %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aximaal toelaatbaar Risico ½ dag na toepassing vaststel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eveelheid waarbij 95 % toetsorganismen geen reactie geef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A2778-ABD6-4E75-A388-98BADEBFEA7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3" dur="indefinite" restart="never" nodeType="tmRoot">
          <p:childTnLst>
            <p:seq>
              <p:cTn id="2934" dur="indefinite" nodeType="mainSeq">
                <p:childTnLst>
                  <p:par>
                    <p:cTn id="2935" nodeType="clickEffect" fill="hold">
                      <p:stCondLst>
                        <p:cond delay="indefinite"/>
                      </p:stCondLst>
                      <p:childTnLst>
                        <p:par>
                          <p:cTn id="2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9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0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nodeType="clickEffect" fill="hold">
                      <p:stCondLst>
                        <p:cond delay="indefinite"/>
                      </p:stCondLst>
                      <p:childTnLst>
                        <p:par>
                          <p:cTn id="2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6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7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8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1" dur="1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2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3" dur="10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nodeType="clickEffect" fill="hold">
                      <p:stCondLst>
                        <p:cond delay="indefinite"/>
                      </p:stCondLst>
                      <p:childTnLst>
                        <p:par>
                          <p:cTn id="2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8" dur="1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9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nodeType="clickEffect" fill="hold">
                      <p:stCondLst>
                        <p:cond delay="indefinite"/>
                      </p:stCondLst>
                      <p:childTnLst>
                        <p:par>
                          <p:cTn id="2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5" dur="1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6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nodeType="clickEffect" fill="hold">
                      <p:stCondLst>
                        <p:cond delay="indefinite"/>
                      </p:stCondLst>
                      <p:childTnLst>
                        <p:par>
                          <p:cTn id="2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2" dur="1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3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4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68000" y="1483920"/>
            <a:ext cx="6994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ar zijn de milieu belastingspunten in d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ilieumeetlat van afgeleid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Van de mate van uitspoeling naar grondwater 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iftigheid bodem en waterlev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geeft de MTR van een middel aa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Hoeveel middel waarbij 95% van organismen na 12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uur geen reactie laat zi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anneer is emissie naar de lucht het grootst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Ruimtebehandeling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7F10F-1E2B-439E-AF97-23A4F79ADE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5" dur="indefinite" restart="never" nodeType="tmRoot">
          <p:childTnLst>
            <p:seq>
              <p:cTn id="2976" dur="indefinite" nodeType="mainSeq">
                <p:childTnLst>
                  <p:par>
                    <p:cTn id="2977" nodeType="clickEffect" fill="hold">
                      <p:stCondLst>
                        <p:cond delay="indefinite"/>
                      </p:stCondLst>
                      <p:childTnLst>
                        <p:par>
                          <p:cTn id="2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nodeType="clickEffect" fill="hold">
                      <p:stCondLst>
                        <p:cond delay="indefinite"/>
                      </p:stCondLst>
                      <p:childTnLst>
                        <p:par>
                          <p:cTn id="2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nodeType="clickEffect" fill="hold">
                      <p:stCondLst>
                        <p:cond delay="indefinite"/>
                      </p:stCondLst>
                      <p:childTnLst>
                        <p:par>
                          <p:cTn id="2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ewasbeschermingsmiddelen en 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09120" y="1929960"/>
            <a:ext cx="63486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 ontstaat resistentie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Genetische verande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Werking midd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onogene / polygene resisten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Aantal toepassingen, doseringen en persisten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iddelen hebben een werking dichtbij de natuurlijke werk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aardoor soms minder gevoelige individu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Genetische eigenscha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Kunnen onkruiden ook resistent worden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Ja, denk aan brandnetel bij glyfosa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9" dur="indefinite" restart="never" nodeType="tmRoot">
          <p:childTnLst>
            <p:seq>
              <p:cTn id="2990" dur="indefinite" nodeType="mainSeq">
                <p:childTnLst>
                  <p:par>
                    <p:cTn id="2991" nodeType="clickEffect" fill="hold">
                      <p:stCondLst>
                        <p:cond delay="indefinite"/>
                      </p:stCondLst>
                      <p:childTnLst>
                        <p:par>
                          <p:cTn id="2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5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8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1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4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nodeType="clickEffect" fill="hold">
                      <p:stCondLst>
                        <p:cond delay="indefinite"/>
                      </p:stCondLst>
                      <p:childTnLst>
                        <p:par>
                          <p:cTn id="3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9" dur="10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0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2" nodeType="clickEffect" fill="hold">
                      <p:stCondLst>
                        <p:cond delay="indefinite"/>
                      </p:stCondLst>
                      <p:childTnLst>
                        <p:par>
                          <p:cTn id="3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6" dur="100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7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1" dur="100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2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3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4" nodeType="clickEffect" fill="hold">
                      <p:stCondLst>
                        <p:cond delay="indefinite"/>
                      </p:stCondLst>
                      <p:childTnLst>
                        <p:par>
                          <p:cTn id="3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8" dur="1000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9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0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nodeType="clickEffect" fill="hold">
                      <p:stCondLst>
                        <p:cond delay="indefinite"/>
                      </p:stCondLst>
                      <p:childTnLst>
                        <p:par>
                          <p:cTn id="3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5" dur="1000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6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79280" y="1557360"/>
            <a:ext cx="7056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Resistenti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Insecten  - binnen een jaa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chimmel – binnen enkele maand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kruiden- binnen enkele jar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erking van het midd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reedwerkend vb tegen energieoverdracht en aanmaak eiwitten. Dus grijpen in op verschillende levensprocessen in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inder gevoelig voor resistent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ystemische grijpen vaak in één proces i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8" dur="indefinite" restart="never" nodeType="tmRoot">
          <p:childTnLst>
            <p:seq>
              <p:cTn id="3039" dur="indefinite" nodeType="mainSeq">
                <p:childTnLst>
                  <p:par>
                    <p:cTn id="3040" nodeType="clickEffect" fill="hold">
                      <p:stCondLst>
                        <p:cond delay="indefinite"/>
                      </p:stCondLst>
                      <p:childTnLst>
                        <p:par>
                          <p:cTn id="3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4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5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nodeType="clickEffect" fill="hold">
                      <p:stCondLst>
                        <p:cond delay="indefinite"/>
                      </p:stCondLst>
                      <p:childTnLst>
                        <p:par>
                          <p:cTn id="3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1" dur="1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2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3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6" dur="1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7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8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1" dur="10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2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4" nodeType="clickEffect" fill="hold">
                      <p:stCondLst>
                        <p:cond delay="indefinite"/>
                      </p:stCondLst>
                      <p:childTnLst>
                        <p:par>
                          <p:cTn id="3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8" dur="10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9" dur="10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0" dur="10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1" nodeType="clickEffect" fill="hold">
                      <p:stCondLst>
                        <p:cond delay="indefinite"/>
                      </p:stCondLst>
                      <p:childTnLst>
                        <p:par>
                          <p:cTn id="3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5" dur="10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6" dur="10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7" dur="10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0" dur="1000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1" dur="10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2" dur="10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5" dur="1000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6" dur="10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7" dur="1000" fill="hold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Trebuchet MS"/>
              </a:rPr>
              <a:t>Komkommerbontvirus (CGMMV)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33160" y="2349360"/>
            <a:ext cx="6500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l 10 resistente rass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mmuun; geen aantasting door de ziekt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ge resistentie = beide ouderlijnen zijn resistent. Bij hoge ziektedruk soms enige sympto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termediaire resistentie= 1 ouderlijn is resistent. Meer schade en symptomen bij ziektedruk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8" dur="indefinite" restart="never" nodeType="tmRoot">
          <p:childTnLst>
            <p:seq>
              <p:cTn id="3089" dur="indefinite" nodeType="mainSeq">
                <p:childTnLst>
                  <p:par>
                    <p:cTn id="3090" nodeType="clickEffect" fill="hold">
                      <p:stCondLst>
                        <p:cond delay="indefinite"/>
                      </p:stCondLst>
                      <p:childTnLst>
                        <p:par>
                          <p:cTn id="3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4" dur="1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5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6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7" nodeType="clickEffect" fill="hold">
                      <p:stCondLst>
                        <p:cond delay="indefinite"/>
                      </p:stCondLst>
                      <p:childTnLst>
                        <p:par>
                          <p:cTn id="3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1" dur="10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2" dur="10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10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6" dur="10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7" dur="1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8" dur="1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1" dur="10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2" dur="10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10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68360" y="1628640"/>
            <a:ext cx="8507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nogene resisten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esistentie berustend op 1 gen of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1 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igenscha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olygene resisten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eer dan </a:t>
            </a:r>
            <a:r>
              <a:rPr b="0" lang="en-US" sz="20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éé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 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orbeeld, volledige resistentie bij 3 gen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uurt lang voordat alle nakomelingen dit hebb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4" dur="indefinite" restart="never" nodeType="tmRoot">
          <p:childTnLst>
            <p:seq>
              <p:cTn id="3115" dur="indefinite" nodeType="mainSeq">
                <p:childTnLst>
                  <p:par>
                    <p:cTn id="3116" nodeType="clickEffect" fill="hold">
                      <p:stCondLst>
                        <p:cond delay="indefinite"/>
                      </p:stCondLst>
                      <p:childTnLst>
                        <p:par>
                          <p:cTn id="3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0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1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2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nodeType="clickEffect" fill="hold">
                      <p:stCondLst>
                        <p:cond delay="indefinite"/>
                      </p:stCondLst>
                      <p:childTnLst>
                        <p:par>
                          <p:cTn id="3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7" dur="10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8" dur="10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10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nodeType="clickEffect" fill="hold">
                      <p:stCondLst>
                        <p:cond delay="indefinite"/>
                      </p:stCondLst>
                      <p:childTnLst>
                        <p:par>
                          <p:cTn id="3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4" dur="10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5" dur="10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6" dur="10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7" nodeType="clickEffect" fill="hold">
                      <p:stCondLst>
                        <p:cond delay="indefinite"/>
                      </p:stCondLst>
                      <p:childTnLst>
                        <p:par>
                          <p:cTn id="3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1" dur="10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2" dur="10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3" dur="10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6" dur="100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7" dur="1000" fill="hold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8" dur="1000" fill="hold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1" dur="100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2" dur="1000" fill="hold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1000" fill="hold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08000" y="1773360"/>
            <a:ext cx="7128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toepassingen, doseringen en persistentie van het midd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lke toepassing selecteer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ge dosering versnel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al bij monogene resis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polygene resistentie stapsgewijze opbouw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ersistente middelen (bodemherbiciden</a:t>
            </a: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 aanwezig, dus doden lang de gevoelige en niet de ongevoel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4" dur="indefinite" restart="never" nodeType="tmRoot">
          <p:childTnLst>
            <p:seq>
              <p:cTn id="3155" dur="indefinite" nodeType="mainSeq">
                <p:childTnLst>
                  <p:par>
                    <p:cTn id="3156" nodeType="clickEffect" fill="hold">
                      <p:stCondLst>
                        <p:cond delay="indefinite"/>
                      </p:stCondLst>
                      <p:childTnLst>
                        <p:par>
                          <p:cTn id="3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0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1" dur="1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1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3" nodeType="clickEffect" fill="hold">
                      <p:stCondLst>
                        <p:cond delay="indefinite"/>
                      </p:stCondLst>
                      <p:childTnLst>
                        <p:par>
                          <p:cTn id="3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7" dur="10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8" dur="1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9" dur="1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2" dur="10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3" dur="10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4" dur="10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nodeType="clickEffect" fill="hold">
                      <p:stCondLst>
                        <p:cond delay="indefinite"/>
                      </p:stCondLst>
                      <p:childTnLst>
                        <p:par>
                          <p:cTn id="3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9" dur="10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0" dur="10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1" dur="10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4" dur="100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5" dur="10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10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nodeType="clickEffect" fill="hold">
                      <p:stCondLst>
                        <p:cond delay="indefinite"/>
                      </p:stCondLst>
                      <p:childTnLst>
                        <p:par>
                          <p:cTn id="3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1" dur="10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2" dur="10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3" dur="10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nodeType="clickEffect" fill="hold">
                      <p:stCondLst>
                        <p:cond delay="indefinite"/>
                      </p:stCondLst>
                      <p:childTnLst>
                        <p:par>
                          <p:cTn id="3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8" dur="1000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9" dur="10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0" dur="10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electiedru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09120" y="1773000"/>
            <a:ext cx="6348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Soort middel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oogte dosering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Aantal toepassing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oge selectiedruk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elvuldig moeilijk afbreekbaar in hoge dose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Lage selectiedruk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nel afbreekbaar, incidentele toepassing, lage dose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1" dur="indefinite" restart="never" nodeType="tmRoot">
          <p:childTnLst>
            <p:seq>
              <p:cTn id="3202" dur="indefinite" nodeType="mainSeq">
                <p:childTnLst>
                  <p:par>
                    <p:cTn id="3203" nodeType="clickEffect" fill="hold">
                      <p:stCondLst>
                        <p:cond delay="indefinite"/>
                      </p:stCondLst>
                      <p:childTnLst>
                        <p:par>
                          <p:cTn id="3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7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8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nodeType="clickEffect" fill="hold">
                      <p:stCondLst>
                        <p:cond delay="indefinite"/>
                      </p:stCondLst>
                      <p:childTnLst>
                        <p:par>
                          <p:cTn id="3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4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5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7" nodeType="clickEffect" fill="hold">
                      <p:stCondLst>
                        <p:cond delay="indefinite"/>
                      </p:stCondLst>
                      <p:childTnLst>
                        <p:par>
                          <p:cTn id="3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1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2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nodeType="clickEffect" fill="hold">
                      <p:stCondLst>
                        <p:cond delay="indefinite"/>
                      </p:stCondLst>
                      <p:childTnLst>
                        <p:par>
                          <p:cTn id="3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8" dur="1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9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3" dur="10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4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5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nodeType="clickEffect" fill="hold">
                      <p:stCondLst>
                        <p:cond delay="indefinite"/>
                      </p:stCondLst>
                      <p:childTnLst>
                        <p:par>
                          <p:cTn id="3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0" dur="10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1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2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5" dur="1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6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6840" y="1488600"/>
            <a:ext cx="75708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Zoals door de fabrikant samengestel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Poeder en korrel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puitpoeder (werkzame stof met kalk als vulstof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uspensie – residu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an stuiven bij het klaarma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teroplosbare verpakkingen mogelij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chuimt bij klaarma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iddelen met hoge concentrati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tuifpoede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perkt – lage concentratie werkzame stof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el residu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D6AA1-E0D8-43AF-983A-DAFD04973E9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ystemische mid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oderne middelen vaak systemisch. Werken maar op 1 proc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Transport in plant dus vooral curatief toepass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Niet-systemische middelen preventief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3B7F1-E276-4D90-98CB-F6BE5807024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8" dur="indefinite" restart="never" nodeType="tmRoot">
          <p:childTnLst>
            <p:seq>
              <p:cTn id="3249" dur="indefinite" nodeType="mainSeq">
                <p:childTnLst>
                  <p:par>
                    <p:cTn id="3250" nodeType="clickEffect" fill="hold">
                      <p:stCondLst>
                        <p:cond delay="indefinite"/>
                      </p:stCondLst>
                      <p:childTnLst>
                        <p:par>
                          <p:cTn id="3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4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5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6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7" nodeType="clickEffect" fill="hold">
                      <p:stCondLst>
                        <p:cond delay="indefinite"/>
                      </p:stCondLst>
                      <p:childTnLst>
                        <p:par>
                          <p:cTn id="3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1" dur="10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2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3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4" nodeType="clickEffect" fill="hold">
                      <p:stCondLst>
                        <p:cond delay="indefinite"/>
                      </p:stCondLst>
                      <p:childTnLst>
                        <p:par>
                          <p:cTn id="3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8" dur="10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9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0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150920"/>
            <a:ext cx="65628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at is verschil tussen monogene en polygene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resisten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onogeen berust op 1 gen of eigenschap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elke resistentie kan zich het snelst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ontwikkelen?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onoge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3. Welke factoren bepalen de selectiedruk van 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een middel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Het middel, dosering, persistentie en aantal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toepassinge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AA18F-985A-4773-A655-9E334095504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1" dur="indefinite" restart="never" nodeType="tmRoot">
          <p:childTnLst>
            <p:seq>
              <p:cTn id="3272" dur="indefinite" nodeType="mainSeq">
                <p:childTnLst>
                  <p:par>
                    <p:cTn id="3273" nodeType="clickEffect" fill="hold">
                      <p:stCondLst>
                        <p:cond delay="indefinite"/>
                      </p:stCondLst>
                      <p:childTnLst>
                        <p:par>
                          <p:cTn id="3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nodeType="clickEffect" fill="hold">
                      <p:stCondLst>
                        <p:cond delay="indefinite"/>
                      </p:stCondLst>
                      <p:childTnLst>
                        <p:par>
                          <p:cTn id="3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nodeType="clickEffect" fill="hold">
                      <p:stCondLst>
                        <p:cond delay="indefinite"/>
                      </p:stCondLst>
                      <p:childTnLst>
                        <p:par>
                          <p:cTn id="3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Kruis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560" y="1197000"/>
            <a:ext cx="793116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iddelen uit dezelfde chemisch groe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ijken op elkaa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erken meestal volgens het zelfde princip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elde en nachtscha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trazin, Sencor, Goltix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Insecticiden  - choline-esterase remme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nsect maakt meer choline-esterase waardoor andere choline estraseremmers ook niet meer help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elfde werking ook in andere chemische groe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etabolische resistentie: 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(grijpt in dezelfde 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stofwisselingsproces, maar komen uit verschillende 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700" spc="-1" strike="noStrike">
                <a:solidFill>
                  <a:srgbClr val="404040"/>
                </a:solidFill>
                <a:latin typeface="Trebuchet MS"/>
              </a:rPr>
              <a:t>chemische groepen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5" dur="indefinite" restart="never" nodeType="tmRoot">
          <p:childTnLst>
            <p:seq>
              <p:cTn id="3286" dur="indefinite" nodeType="mainSeq">
                <p:childTnLst>
                  <p:par>
                    <p:cTn id="3287" nodeType="clickEffect" fill="hold">
                      <p:stCondLst>
                        <p:cond delay="indefinite"/>
                      </p:stCondLst>
                      <p:childTnLst>
                        <p:par>
                          <p:cTn id="3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1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2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3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4" nodeType="clickEffect" fill="hold">
                      <p:stCondLst>
                        <p:cond delay="indefinite"/>
                      </p:stCondLst>
                      <p:childTnLst>
                        <p:par>
                          <p:cTn id="3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8" dur="10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9" dur="10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0" dur="10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3" dur="1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4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5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6" nodeType="clickEffect" fill="hold">
                      <p:stCondLst>
                        <p:cond delay="indefinite"/>
                      </p:stCondLst>
                      <p:childTnLst>
                        <p:par>
                          <p:cTn id="3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0" dur="100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1" dur="10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2" dur="10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5" dur="10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6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7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nodeType="clickEffect" fill="hold">
                      <p:stCondLst>
                        <p:cond delay="indefinite"/>
                      </p:stCondLst>
                      <p:childTnLst>
                        <p:par>
                          <p:cTn id="3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2" dur="1000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3" dur="1000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4" dur="1000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5" nodeType="clickEffect" fill="hold">
                      <p:stCondLst>
                        <p:cond delay="indefinite"/>
                      </p:stCondLst>
                      <p:childTnLst>
                        <p:par>
                          <p:cTn id="3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9" dur="100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0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1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2" nodeType="clickEffect" fill="hold">
                      <p:stCondLst>
                        <p:cond delay="indefinite"/>
                      </p:stCondLst>
                      <p:childTnLst>
                        <p:par>
                          <p:cTn id="3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6" dur="1000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7" dur="1000" fill="hold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8" dur="1000" fill="hold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1" dur="1000"/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2" dur="1000" fill="hold"/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3" dur="1000" fill="hold"/>
                                        <p:tgtEl>
                                          <p:spTgt spid="4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Vrag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1. Wat is kruisresisten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Alle middelen uit een groep werken niet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meer omdat ze werken via zelfde princip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2. Wat is metabolische resistenti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Insecticiden die uit verschillende groep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komen maar volgens zelfde principe werken 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Trebuchet MS"/>
              </a:rPr>
              <a:t>slaan niet meer aa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B81EB-6FAD-4DC1-A998-4FB9B8560E1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4" dur="indefinite" restart="never" nodeType="tmRoot">
          <p:childTnLst>
            <p:seq>
              <p:cTn id="3345" dur="indefinite" nodeType="mainSeq">
                <p:childTnLst>
                  <p:par>
                    <p:cTn id="3346" nodeType="clickEffect" fill="hold">
                      <p:stCondLst>
                        <p:cond delay="indefinite"/>
                      </p:stCondLst>
                      <p:childTnLst>
                        <p:par>
                          <p:cTn id="3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0" dur="10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1" dur="10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10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3" nodeType="clickEffect" fill="hold">
                      <p:stCondLst>
                        <p:cond delay="indefinite"/>
                      </p:stCondLst>
                      <p:childTnLst>
                        <p:par>
                          <p:cTn id="3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7" dur="10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8" dur="10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9" dur="10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lgemene maatreg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at kun je doen tegen resistentie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Zo min mogelijk chemische midde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ïntegre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sistentie rassen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strijdingsdrem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sl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ologis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chanisch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0" dur="indefinite" restart="never" nodeType="tmRoot">
          <p:childTnLst>
            <p:seq>
              <p:cTn id="3361" dur="indefinite" nodeType="mainSeq">
                <p:childTnLst>
                  <p:par>
                    <p:cTn id="3362" nodeType="clickEffect" fill="hold">
                      <p:stCondLst>
                        <p:cond delay="indefinite"/>
                      </p:stCondLst>
                      <p:childTnLst>
                        <p:par>
                          <p:cTn id="3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6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7" nodeType="clickEffect" fill="hold">
                      <p:stCondLst>
                        <p:cond delay="indefinite"/>
                      </p:stCondLst>
                      <p:childTnLst>
                        <p:par>
                          <p:cTn id="3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nodeType="clickEffect" fill="hold">
                      <p:stCondLst>
                        <p:cond delay="indefinite"/>
                      </p:stCondLst>
                      <p:childTnLst>
                        <p:par>
                          <p:cTn id="3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6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nodeType="clickEffect" fill="hold">
                      <p:stCondLst>
                        <p:cond delay="indefinite"/>
                      </p:stCondLst>
                      <p:childTnLst>
                        <p:par>
                          <p:cTn id="3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1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4" dur="5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5" nodeType="clickEffect" fill="hold">
                      <p:stCondLst>
                        <p:cond delay="indefinite"/>
                      </p:stCondLst>
                      <p:childTnLst>
                        <p:par>
                          <p:cTn id="3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9" dur="500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0" nodeType="clickEffect" fill="hold">
                      <p:stCondLst>
                        <p:cond delay="indefinite"/>
                      </p:stCondLst>
                      <p:childTnLst>
                        <p:par>
                          <p:cTn id="3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4" dur="500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lgemene maatreg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8360" y="206064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eng middelen met ander werkings-mechanisme vb. selectief systemisch met breedwerkend preventief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Wissel middelen uit andere chemische groepen af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Zo mogelijk vruchtwissel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5" dur="indefinite" restart="never" nodeType="tmRoot">
          <p:childTnLst>
            <p:seq>
              <p:cTn id="3396" dur="indefinite" nodeType="mainSeq">
                <p:childTnLst>
                  <p:par>
                    <p:cTn id="3397" nodeType="clickEffect" fill="hold">
                      <p:stCondLst>
                        <p:cond delay="indefinite"/>
                      </p:stCondLst>
                      <p:childTnLst>
                        <p:par>
                          <p:cTn id="3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1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2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nodeType="clickEffect" fill="hold">
                      <p:stCondLst>
                        <p:cond delay="indefinite"/>
                      </p:stCondLst>
                      <p:childTnLst>
                        <p:par>
                          <p:cTn id="3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8" dur="1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9" dur="1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0" dur="1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1" nodeType="clickEffect" fill="hold">
                      <p:stCondLst>
                        <p:cond delay="indefinite"/>
                      </p:stCondLst>
                      <p:childTnLst>
                        <p:par>
                          <p:cTn id="3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5" dur="1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6" dur="1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1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nti-resistentie strategieë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38280" y="1903320"/>
            <a:ext cx="634824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Monitor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Fabrik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rk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ende adviezen bij resis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och bruikb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fitness; resistente stam minder gevoelig dan oorspronkelijke stam.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middel beperkt inzetten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resistente stam wordt weggeconcurreerd door oorspronkelijke sta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8" dur="indefinite" restart="never" nodeType="tmRoot">
          <p:childTnLst>
            <p:seq>
              <p:cTn id="3419" dur="indefinite" nodeType="mainSeq">
                <p:childTnLst>
                  <p:par>
                    <p:cTn id="3420" nodeType="clickEffect" fill="hold">
                      <p:stCondLst>
                        <p:cond delay="indefinite"/>
                      </p:stCondLst>
                      <p:childTnLst>
                        <p:par>
                          <p:cTn id="3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4" dur="1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5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6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nodeType="clickEffect" fill="hold">
                      <p:stCondLst>
                        <p:cond delay="indefinite"/>
                      </p:stCondLst>
                      <p:childTnLst>
                        <p:par>
                          <p:cTn id="3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1" dur="10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2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3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nodeType="clickEffect" fill="hold">
                      <p:stCondLst>
                        <p:cond delay="indefinite"/>
                      </p:stCondLst>
                      <p:childTnLst>
                        <p:par>
                          <p:cTn id="3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8" dur="10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9" dur="10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0" dur="10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3" dur="10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4" dur="10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5" dur="10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8" dur="10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9" dur="10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0" dur="10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1" nodeType="clickEffect" fill="hold">
                      <p:stCondLst>
                        <p:cond delay="indefinite"/>
                      </p:stCondLst>
                      <p:childTnLst>
                        <p:par>
                          <p:cTn id="3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5" dur="10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6" dur="10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7" dur="10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0" y="1600200"/>
            <a:ext cx="73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ttp://www.irac-online.org/modes-of-action/ insect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ttp://www.frac.info/ schimmel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ttp://www.hracglobal.com/pages/classificationofherbicidesiteofaction.aspx onkrui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507F0-05FA-4CAE-A720-FF3B76F8F7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nkruidresistenti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900000" y="2160360"/>
            <a:ext cx="6346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ijv. Duis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Fotosynthese 1 en 2 remm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CC remm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LS remm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tsynthese remmer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4D638C-5C0E-405F-814D-7C8671B11C3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8" dur="indefinite" restart="never" nodeType="tmRoot">
          <p:childTnLst>
            <p:seq>
              <p:cTn id="3459" dur="indefinite" nodeType="mainSeq">
                <p:childTnLst>
                  <p:par>
                    <p:cTn id="3460" nodeType="clickEffect" fill="hold">
                      <p:stCondLst>
                        <p:cond delay="indefinite"/>
                      </p:stCondLst>
                      <p:childTnLst>
                        <p:par>
                          <p:cTn id="3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4" dur="10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5" dur="1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1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9" dur="10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0" dur="1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4" dur="10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5" dur="10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9" dur="1000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0" dur="10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1" dur="10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chimmel resistentie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755280" y="212544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immels in graan en aardappel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trobilurinen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henilamiden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ccinate dehydrogenas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2" name="Tijdelijke aanduiding voor dianumm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A9F53-85D1-4135-A0FF-9810AC421E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2" dur="indefinite" restart="never" nodeType="tmRoot">
          <p:childTnLst>
            <p:seq>
              <p:cTn id="3483" dur="indefinite" nodeType="mainSeq">
                <p:childTnLst>
                  <p:par>
                    <p:cTn id="3484" nodeType="clickEffect" fill="hold">
                      <p:stCondLst>
                        <p:cond delay="indefinite"/>
                      </p:stCondLst>
                      <p:childTnLst>
                        <p:par>
                          <p:cTn id="3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8" dur="10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9" dur="1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0" dur="1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3" dur="10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4" dur="1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5" dur="1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8" dur="100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9" dur="1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0" dur="10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r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104840"/>
            <a:ext cx="6562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euze werkzame stof, formulering en eventueel hulpstoffen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aarna toedien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pui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ruppel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trooi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Nevel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Roken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tuiven Gassen (LVM Fog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Quick dip of phyto drip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ttps://youtu.be/ISDN8SiNoMY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Tijdelijke aanduiding voor dianummer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05E68-0EFE-4E2D-BEDD-1122416A699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3683160" y="1916280"/>
            <a:ext cx="299556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Toch Resistentie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09120" y="170028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Is het wel resistentie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keerd midd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keerde dosis of toevoeg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Gespoten op het verkeerde momen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keerde spuittechniek of apparatuu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Controle registrati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Contact met leverancier middel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Proefbespuiting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Alarm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1" dur="indefinite" restart="never" nodeType="tmRoot">
          <p:childTnLst>
            <p:seq>
              <p:cTn id="3502" dur="indefinite" nodeType="mainSeq">
                <p:childTnLst>
                  <p:par>
                    <p:cTn id="3503" nodeType="clickEffect" fill="hold">
                      <p:stCondLst>
                        <p:cond delay="indefinite"/>
                      </p:stCondLst>
                      <p:childTnLst>
                        <p:par>
                          <p:cTn id="3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7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8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9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0" nodeType="clickEffect" fill="hold">
                      <p:stCondLst>
                        <p:cond delay="indefinite"/>
                      </p:stCondLst>
                      <p:childTnLst>
                        <p:par>
                          <p:cTn id="3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4" dur="10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5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6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9" dur="10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0" dur="1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1" dur="1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4" dur="10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5" dur="1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6" dur="1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9" dur="10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nodeType="clickEffect" fill="hold">
                      <p:stCondLst>
                        <p:cond delay="indefinite"/>
                      </p:stCondLst>
                      <p:childTnLst>
                        <p:par>
                          <p:cTn id="3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6" dur="10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7" dur="10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8" dur="10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9" nodeType="clickEffect" fill="hold">
                      <p:stCondLst>
                        <p:cond delay="indefinite"/>
                      </p:stCondLst>
                      <p:childTnLst>
                        <p:par>
                          <p:cTn id="3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3" dur="10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4" dur="1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5" dur="1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6" nodeType="clickEffect" fill="hold">
                      <p:stCondLst>
                        <p:cond delay="indefinite"/>
                      </p:stCondLst>
                      <p:childTnLst>
                        <p:par>
                          <p:cTn id="3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0" dur="10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1" dur="1000" fill="hold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1000" fill="hold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nodeType="clickEffect" fill="hold">
                      <p:stCondLst>
                        <p:cond delay="indefinite"/>
                      </p:stCondLst>
                      <p:childTnLst>
                        <p:par>
                          <p:cTn id="3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7" dur="1000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8" dur="1000" fill="hold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1000" fill="hold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Resistentie mechanism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32880" y="1341360"/>
            <a:ext cx="6348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Ontgiftiging vindt sneller en doeltreffender plaat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Er is iets veranderd op de plaats van werking(het aangrijpingspun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neemt minder middel op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verlaagde penetrati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past zijn gedrag aa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Scheidt het middel uit of slaat het op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</a:rPr>
              <a:t>Het middel wordt geïnactiveer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0" dur="indefinite" restart="never" nodeType="tmRoot">
          <p:childTnLst>
            <p:seq>
              <p:cTn id="3561" dur="indefinite" nodeType="mainSeq">
                <p:childTnLst>
                  <p:par>
                    <p:cTn id="3562" nodeType="clickEffect" fill="hold">
                      <p:stCondLst>
                        <p:cond delay="indefinite"/>
                      </p:stCondLst>
                      <p:childTnLst>
                        <p:par>
                          <p:cTn id="3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6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7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8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nodeType="clickEffect" fill="hold">
                      <p:stCondLst>
                        <p:cond delay="indefinite"/>
                      </p:stCondLst>
                      <p:childTnLst>
                        <p:par>
                          <p:cTn id="3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3" dur="10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4" dur="1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5" dur="1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6" nodeType="clickEffect" fill="hold">
                      <p:stCondLst>
                        <p:cond delay="indefinite"/>
                      </p:stCondLst>
                      <p:childTnLst>
                        <p:par>
                          <p:cTn id="3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0" dur="10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1" dur="1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2" dur="1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5" dur="10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nodeType="clickEffect" fill="hold">
                      <p:stCondLst>
                        <p:cond delay="indefinite"/>
                      </p:stCondLst>
                      <p:childTnLst>
                        <p:par>
                          <p:cTn id="3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2" dur="1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3" dur="10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5" nodeType="clickEffect" fill="hold">
                      <p:stCondLst>
                        <p:cond delay="indefinite"/>
                      </p:stCondLst>
                      <p:childTnLst>
                        <p:par>
                          <p:cTn id="3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9" dur="1000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0" dur="10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1" dur="10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2" nodeType="clickEffect" fill="hold">
                      <p:stCondLst>
                        <p:cond delay="indefinite"/>
                      </p:stCondLst>
                      <p:childTnLst>
                        <p:par>
                          <p:cTn id="3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6" dur="1000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7" dur="10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8" dur="10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ntstaan resist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09480" y="1700280"/>
            <a:ext cx="68421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iolog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Erfelijke eigenschap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Populatiedynamie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venscycl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nier van voortplan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tal nakomel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verleving in ongunstige omstandigh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nier en snelheid van versprei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9" dur="indefinite" restart="never" nodeType="tmRoot">
          <p:childTnLst>
            <p:seq>
              <p:cTn id="3610" dur="indefinite" nodeType="mainSeq">
                <p:childTnLst>
                  <p:par>
                    <p:cTn id="3611" nodeType="clickEffect" fill="hold">
                      <p:stCondLst>
                        <p:cond delay="indefinite"/>
                      </p:stCondLst>
                      <p:childTnLst>
                        <p:par>
                          <p:cTn id="3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5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6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7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nodeType="clickEffect" fill="hold">
                      <p:stCondLst>
                        <p:cond delay="indefinite"/>
                      </p:stCondLst>
                      <p:childTnLst>
                        <p:par>
                          <p:cTn id="3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2" dur="10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3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4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7" dur="10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8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9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0" nodeType="clickEffect" fill="hold">
                      <p:stCondLst>
                        <p:cond delay="indefinite"/>
                      </p:stCondLst>
                      <p:childTnLst>
                        <p:par>
                          <p:cTn id="3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4" dur="10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5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9" dur="10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0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1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4" dur="10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5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6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9" dur="1000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0" dur="10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1" dur="10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4" dur="1000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5" dur="10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6" dur="10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2:18:29Z</dcterms:created>
  <dc:creator>A. Bok</dc:creator>
  <dc:description/>
  <dc:language>en-US</dc:language>
  <cp:lastModifiedBy>Douwe Jan de Jong</cp:lastModifiedBy>
  <dcterms:modified xsi:type="dcterms:W3CDTF">2018-10-10T07:27:16Z</dcterms:modified>
  <cp:revision>111</cp:revision>
  <dc:subject/>
  <dc:title>Hoofdstuk 3</dc:title>
</cp:coreProperties>
</file>