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BD9-8EDF-4C15-9903-71AC875B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CB9-CB47-49AB-BE26-3BFBDEF7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687-B4DD-4E34-B89A-9F54360B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CB8-8B75-42E9-B9F9-DE79D21A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39B4-D155-41E4-87A7-81FF6953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C435-5084-4DE0-9C53-7D4E54D2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9B60-402C-425C-922D-39AAE71E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910F-5B25-44A9-86EB-0179AB5B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B4DC-A86D-4704-B7FB-CC5FE54D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7B63-FD1D-48B4-93A1-08AF1A75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ACBA-AA1A-45D1-9832-3CD3F692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D5C-A81C-4143-AA7D-556F96CA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18DC-058E-49EB-B688-44D66E81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3482-52AF-4645-B9E9-FAEC9DE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9795-4694-408E-B8E8-28290A34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D369-7DD2-4F02-AD0F-C1027E9B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9A99-A88A-4B87-AF2A-E239206D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04F8-F4DF-4303-B4D6-828843E7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2FA3-95D7-4583-95F6-5D5B044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47E6-7CA2-43B2-8FB6-76F67C34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0208-EA83-41A8-8285-6E7EB33F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7A032-73EB-4861-8817-406767E5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E66-111D-4AFE-9B52-F1CC4375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F9CA-BE61-4288-82E8-6EB86D38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6D69-8526-4807-A8E2-28F97D27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4E1E-B8D1-4BB0-98C9-897EA0A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B14E-F4A2-4D6E-8112-5058FC0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60E6-9872-4FB8-A7D9-4B9573E9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95D2-2E71-4435-AE4A-ED415047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5EF2-5379-4162-9774-430C3B92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CBE2-9FFB-45FC-AD24-F39FA7FB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DC50-B96E-493A-8E50-0A49070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156F-607E-4AFF-AAF7-29DA44DF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4A1-76DB-4B55-864B-0311149C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85CB-9798-40D5-92EC-88FFF0C2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0CE9-55ED-4945-BA9F-1CABD9F4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5171-BFFF-4F16-85BC-F07DF15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3D52-127C-4B87-861A-79AC0767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DC7DF-E25F-4B6C-8A66-B70DB50C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77A3-FDAB-4267-809E-8F469D39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361BD-D2A3-4CAD-B9A2-B391E7F5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EAD56-09B4-428D-8418-6734BE52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568C4-D529-44F5-AAA8-99A179F5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00B-5BF0-4076-9425-FF27CF78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F05-60DE-4C3D-AE2F-AAAB566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67C-01F2-4578-B08D-E04AE5C1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86E-DB0A-4BF2-AF58-915F00FD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661-9CA2-499C-AD14-2F516068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462D0-C02E-4600-A0C4-8965BB97D19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DD191-D38B-4943-98F2-36D31AF041C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01581-E1FF-4550-B33F-48EFB3F2F93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C6349-D6B0-4137-9921-1E792475641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oofdstuk 3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Chemische gewasbescher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0FEF9-C152-451C-904F-603D45BAAF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434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sco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268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; aerosol, middel in spuitb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C; emulsieconcentraa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; granulaat, strooikorr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; suspensie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L; water oplosbaar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; water oplosbaar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G; waterdispergeerbaar granul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P; 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W; emulsie in water formul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D6A10-F155-45DD-8275-4173067C48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7224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4920" y="103356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ed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zame stof met kal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chtbaar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bij af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OF (water oplosbaar foli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uifpoeder DP nog maar weinig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korrel W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eders in korrelvo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mind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af te 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 te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ost iets moeilijker op. Vb.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BF46D-FF29-4F87-844C-7120DBAADB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40120" y="271440"/>
            <a:ext cx="3087720" cy="213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17305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oeders in korrelvorm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54B0A-8761-4FD3-A4D4-5C7B144D40F7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291960" y="24224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055960" y="36370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3807000" y="24224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4"/>
          <a:stretch/>
        </p:blipFill>
        <p:spPr>
          <a:xfrm>
            <a:off x="5651640" y="36370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3760" y="1112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anulaat G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vb. bodemherbiciden, nematiciden en systemische insectic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oi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met lok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k en muizen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bar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lowabl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eerbaar concent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8543B-9560-45FD-9EED-73C7D56080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097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0062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lowables of suspensie concentraat S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(poeder zweeft in wat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tegen uitza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dden voor 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rstvrij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ft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oevoeging flow of SC. Vb. Decis Flo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door het blad minder – water en wasla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06A6F-187B-40DF-ABB8-7B805E904B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5373720" y="1670040"/>
            <a:ext cx="1890720" cy="194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2556000" y="46594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3"/>
          <a:stretch/>
        </p:blipFill>
        <p:spPr>
          <a:xfrm>
            <a:off x="668160" y="4651200"/>
            <a:ext cx="1428840" cy="2000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4"/>
          <a:stretch/>
        </p:blipFill>
        <p:spPr>
          <a:xfrm>
            <a:off x="4500720" y="46594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3444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3647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mulgeerbare concentraten E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ngbare oliën, organ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vat emulgat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men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aak een melkwitte vloei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genvaster dan poed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p voor gew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eerder verbra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D5CAE-6CA1-4343-898E-FC191B093F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5176800" y="939960"/>
            <a:ext cx="1866960" cy="2489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30360" y="465300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3"/>
          <a:stretch/>
        </p:blipFill>
        <p:spPr>
          <a:xfrm>
            <a:off x="2516040" y="465300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4"/>
          <a:stretch/>
        </p:blipFill>
        <p:spPr>
          <a:xfrm>
            <a:off x="4430880" y="465300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480" y="16776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 in water opgelost E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lie achtige stof opgelost i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, waarin actieve stof z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ldere oplo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Pulsfo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LV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1B374-F426-447E-B0C0-55F35510A0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4788000" y="263520"/>
            <a:ext cx="2033640" cy="4238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96880" y="46022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722680" y="46022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4788000" y="460224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41200" y="1480680"/>
            <a:ext cx="63468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ok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andbare stof met remm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smeul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erdamp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wavel, Pirim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orte werking en weinig verbranding, geen residu,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rosolen A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5-10% Werkzame stof in oplo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 in spuitbus. Som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asschade.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21187-C15D-4A24-B60D-26B96289DD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5167440" y="3355920"/>
            <a:ext cx="1790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migant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loeibaar middel dat in de grond wordt gebracht en damp vorm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 7 – 16 </a:t>
            </a:r>
            <a:r>
              <a:rPr b="0" lang="nl-NL" sz="2200" spc="-1" strike="noStrike" baseline="30000">
                <a:solidFill>
                  <a:srgbClr val="404040"/>
                </a:solidFill>
                <a:latin typeface="Trebuchet MS"/>
              </a:rPr>
              <a:t>o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asta voor wonden bij b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meer middelen tegen vli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lostablet voor wortel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oizwa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://agro.bayer.nl/#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EE5EE-8CA1-49DD-A2E9-22F76CD8E6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88880" y="1298520"/>
            <a:ext cx="64994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de formulering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waarin het wordt gelev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het residu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esten wel of niet zichtb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wordt een dipergeermiddel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S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m poeder zwevend in oplossing te hou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een emulgat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E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nging olie in wat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6CB44-1D66-413D-920F-2160294BAF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275760"/>
            <a:ext cx="8498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at zijn de nadelen van chem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8920" y="277164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sisten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oeiremm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werk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lieubelastend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adelijk voor niet doel 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vaarlijk voor mens en leefomgev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D4092-EF4E-4686-AA92-9A0B905186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897280" y="1569960"/>
            <a:ext cx="384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8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  <a:ea typeface="Arial"/>
              </a:rPr>
              <a:t>é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 werkgang (tijdwinst) soms wel 12 s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isic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ïnvloeding werking( bij 3 middelen stijgt pH met 0,5-1,0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me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schade / groeirem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cktail vlb.met vlb.en poeder met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rantie tegen schade is er nie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mige fabrikanten geven mengen a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8E920-B2C0-41C5-A170-6BFCEF5FFB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H en de halfwaardetijd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vies is pH 5,4 = zelfde pH als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laag (zuur) belemmert d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hoog afbraak versneld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5 is de werkzaamheid na 50 dagen gehalv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7 is dit 14,5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9 is dit 10 minu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AEB63-F101-45B9-8EBF-CF3452FBE0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opname 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aardig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id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tegen viru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opname en verspreiding virus in aardapp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on- ion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bij herbiciden, fungiciden en groeihor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per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snelle droging (Zipp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9BE52-5504-40A8-BA60-06682CE15B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tionische (zeep) en biolog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indri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chters met uitvloeier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hechting vooral met r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kmiddel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orkomt zaaduitval en lege peu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ercondition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pH beïnvloe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D31D1-AA71-486B-8150-43EB2A7EC1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volgorde van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58640"/>
            <a:ext cx="727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½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f 2/3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 verpakt in water oplosbaar folie (W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poeder (WP) en/of spuitkorrels (WG) eventueel voorgemengd in warm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spensie conc. (SC of Flowabl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ulgeerbaar concentraat (EC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stof in water (SL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(hechter, uitvloeier en vloeibare mestst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vulle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F0748-9DA4-4E53-91D8-BAB7768BF0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07560"/>
            <a:ext cx="706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Zijn hulpstoffen volgens de w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smiddel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 alleen als ze een N-nummer bezit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de functie van een minerale ol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voeg je het eerste toe olie of poed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oed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watercondition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H beïnvloeden (verlag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51C71-684A-42C4-8406-90AD4CB221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rsen is dat echt zo er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deo van 10 min. Vooral eerste en laatste 2 m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dt een gewasbeschermingsmiddel verwijderd uit rioolwat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hSBbS7SOOD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akkelijk doseren zonder morse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sW5yL81u9eU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A8424-DD44-4270-BB92-8E5C7B009E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formatie bronn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28680" y="1460520"/>
            <a:ext cx="63468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andleidingen gewasbescherming DLV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ewasbeschermingsgids of PD gids = rode gid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via interne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http://www.ctgb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strijdingsmiddelen databan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.G. (wettelijk gebruiksvoorschrift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.A. (gebruiksaanwijzin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Fytostat http://www.fytostat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roducenten – </a:t>
            </a:r>
            <a:r>
              <a:rPr b="1" lang="nl-NL" sz="2200" spc="-1" strike="noStrike">
                <a:solidFill>
                  <a:srgbClr val="404040"/>
                </a:solidFill>
                <a:latin typeface="Trebuchet MS"/>
              </a:rPr>
              <a:t>etiket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2D396-3F09-4D25-8D7C-2047C4E9C7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taak van het CTGB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en toetsen voor toela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info is er op Fytosta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tiketten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F5BFC-E26D-4239-9A89-E894956A87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middelen van natuurlijke oorspro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aag risic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inig milieubelas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4CBE2-9D2D-4671-A25A-211D9AEA79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zame stof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560" y="1530360"/>
            <a:ext cx="720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f actieve stof = stof die de werking geeft. Bij Vertimec Gold 18 g/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Formulering = de vorm vlb., poeder of vloeisto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oevoegingen of hulpstoffen om bij droogweer de opname te verbeteren, want de waslaag is 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dunner/dikk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Squall https://youtu.be/l4AdahKG2f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fen Elasto, Hasten zie ook https://www.surfaplus-tr.com/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3FF95-0D20-48DB-8989-DD3752DB7A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05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ën; Bacillus thurgiensis (Xentari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s; Mycotal, Botaniga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ycorrhiza’s; in symbiose levende bodem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ero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xtra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versterkers om weerstand te verhog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A8795-6852-4D7F-80EF-6683B96D82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55280" y="1557000"/>
            <a:ext cx="64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GN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wasbeschermingsmiddelen van natuurlijk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orspro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Leg uit wat symbiose betek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chimmel krijgt suikers van de plant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lemen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zijn feromonen en wat is hun fun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Lokstoffen om voortplanting te rem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belangrijkste functie van plantversterk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erstand verho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C9BC9-B3A4-4E23-9E7B-CBFD6A92BD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UB lijst </a:t>
            </a:r>
            <a:r>
              <a:rPr b="0" lang="nl-NL" sz="3600" spc="-1" strike="noStrike">
                <a:solidFill>
                  <a:srgbClr val="ff0000"/>
                </a:solidFill>
                <a:latin typeface="Trebuchet MS"/>
              </a:rPr>
              <a:t>afgeschaf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09120" y="193032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geling Uitzondering Bestrijding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en N numm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b. bier tegen slakken en zeep tegen lui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smettings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tegen al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oeiregulato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://wetten.overheid.nl/BWBR0003172/geldigheidsdatum_16-10-2007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708CE-9286-4697-9E2D-9406D0EDE7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920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deling en wer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rbiciden          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iciden       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        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maticiden       aaltj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denticiciden   knaagdie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ciden       bacterië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llusciciden     weekdieren (slak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cariciden          mij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19827-BCC8-49F7-93E5-756784E1AB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 door de pla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ekend en zuigende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laminair (door de waslaag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eerlarv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radicatieve (stoppen zichtbare infecties)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058C7-18D1-4526-9034-AE32017017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16080" y="1296720"/>
            <a:ext cx="6992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Wat is het grootste verschil tussen systemisch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 gaat door vaatbund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een eradicatieve fung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 dat zichtbare schimmelinfectie stop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kun je wortelonkruiden het beste m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e middelen bestrijd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ie gaan door de gehele plant en dan wordt alles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ge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 type middelen kun je alleen inzetten t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koming van een 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iet systemisch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CD903-48FB-4AD6-AA2C-8CCE22C4BB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odem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55280" y="19605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r de plant opgen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ilm in de grond – enkel centimeter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le gr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tegen wortel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roge grond werkt sle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nding Klei-Humus-Complex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rken enkele weken tot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eilijk afbreekbaar = persist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23B86-29D3-4D67-B962-073CA942ED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lad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06160"/>
            <a:ext cx="822960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a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 vb. Roundup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stoffen; plant groeit kap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cpa,mecoprop, fluroxypy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Arial"/>
              </a:rPr>
              <a:t>éé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zaadlobige gewassen tegen dicoty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ekken alleen in blad en worden niet verder vervo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k bij lagere temperat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 zaadonkruid in jong sta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sdoder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72DA0-96BB-427A-A90C-B5761336E0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206064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arom werken bodemherbiciden niet tegen gro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un wortels zitten al dieper onder de film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 type middel zet je in tegen 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e blad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CDB71-9E58-4E64-A95D-9723D6CA73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38280" y="1844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om bestrijden contactmiddelen g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e worden niet getransporteerd in d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atbundels en dus gaat het onkruid all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vengronds 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Welk type herbicide heeft een lang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awerk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demherb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8D02A-ED56-4E53-B1B5-94327E8F3E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000080"/>
            <a:ext cx="8102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ulp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aagstof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iftigheid verla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ulstof     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verdel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los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 oploss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(mengsel van water en poeder) blijft beter zweven en zakt niet naar de bode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at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lie in water = 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 mengen ook i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 goed verdeel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5955E-0B86-4193-86BB-23CDA02CAB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041480" y="5137200"/>
            <a:ext cx="3314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9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enuwstelsel aanget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etylcholine (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tast het zenuwstelsel aan door 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verstoren prikkeloverdracht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oline-esterase remmende 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prikkeling zenuw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doo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mens en di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rganische fosforverbind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arbamaten (o.a. spierverslapper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yrethroiden (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natuurlijke insekticides, snelle werking en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snelle afbraak door licht en UV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andere d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4D587-4E8D-4D24-BF3F-A505459747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1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iproces versto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71640" y="193032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rming chitine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bouwstof voor schimmels en skelet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geleedpotigen zoals insecten, kreeftachtigen en spinnen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velling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upsen mineerm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daante verwisseling vers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demha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AB64B-BEF3-42DF-9579-B15FCEC6A1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3640" y="1279080"/>
            <a:ext cx="6994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ystemisch tegen zuigende insec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-systemisch tegen vretende insecten (rups, kev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techniek belangr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uitvloei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anslaminair (ademhalingsgi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ldoende temp.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B323D-2FC0-4899-BA87-7490DC67E3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ravelling ti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middel druppelen bij laatste druppelbeurt einde d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 middel begin van de dag druppelen zodat het door verdamping goed wordt opgenom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oeveel druppelbeurten zijn nodig denk j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Zeker 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92C52-2282-4EC5-8873-2958C65B6E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280" y="1268280"/>
            <a:ext cx="6480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elk proces bij insecten wordt verstoord do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oline-esteraseremm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rikkeloverdracht in zenuwstel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arom werken systemische middelen mind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gen vretende insect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ij krijgen niet voldoende middel b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Hoe kunnen middelen door insecten word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oor huid, ademhaling en m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B4185-DB43-4F08-AA41-9BF6AE8869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ventione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rijwel nooit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ytotoxisch = giftig/schad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ven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neb, thiram, capt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094D0-6AD8-4A38-BDC4-D08F8BB10B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170028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der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ura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n plaats ingrijp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rde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 O.a. strobiluri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s combinatie van meerdere werkzame stoff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kans op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24EB8-28C1-486C-B2B0-5A12CA9501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nodeType="clickEffect" fill="hold">
                      <p:stCondLst>
                        <p:cond delay="indefinite"/>
                      </p:stCondLst>
                      <p:childTnLst>
                        <p:par>
                          <p:cTn id="2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ignu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57360"/>
            <a:ext cx="6500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buline is stofje uit een schimmel dat de stofwisseling verstoord en zeer lage giftigheid voor mens en insecten.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korte veiligheidstermij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ignum = schimmelbestrijder met 2 werkzame stoffen Pyraclostrobuline en Boscalid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resistentie. Ook groener en vitaler gewas (minder uitval) dat meer bestand is tegen ethyleen. Meer productie (10% in graan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C0BB0-4715-43C4-A449-9D7FB03F79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6" dur="indefinite" restart="never" nodeType="tmRoot">
          <p:childTnLst>
            <p:seq>
              <p:cTn id="2017" dur="indefinite" nodeType="mainSeq">
                <p:childTnLst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nodeType="clickEffect" fill="hold">
                      <p:stCondLst>
                        <p:cond delay="indefinite"/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mat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120" y="1568520"/>
            <a:ext cx="6348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loeiba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 de grond – gasvorm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d alle aaltjessoor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eratuur niet te 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Uitspoeling (2016 verbod?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Korrelvormig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anu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ossen op in het bodemvo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electief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system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venwerking insecten dod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1CDFF-E21A-4F2C-8543-4580D2F994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0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ikte waslaag bij groeizaam weer dunn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herbicide vochtige bodem nod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fungiciden hechten beter op droog warm gew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e insecticiden werken het beste bij niet te lage temp, want insecten zijn dan actief. Zon breekt ze eerder a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er, neerslag en wind!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at is het beste mom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7998A-619E-4552-A902-43F355C6C1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7" dur="indefinite" restart="never" nodeType="tmRoot">
          <p:childTnLst>
            <p:seq>
              <p:cTn id="2098" dur="indefinite" nodeType="mainSeq">
                <p:childTnLst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7226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vloei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en grotere bladbedekk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ch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erkzame stof beter aan het blad hech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nti-schuimmiddel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minder schuim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leur en geurstof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8BF5A-D09F-469A-837C-B6B0A9569A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556000" y="3746520"/>
            <a:ext cx="20858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120" y="2781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op basis van poeder en waterige middelen worden moeilijker opgenomen dan oliën en hebben een langere aandroogtijd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28A25-6752-4AA1-A13B-C1A111C884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7002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der welke omstandigheden is de waslaag du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Groeizaam weer met hoge rv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nneer worden systemische middelen het bes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verdag bij hoge temperatu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32866-DF00-42A3-BB23-3BA37A6719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optimale omstandigheden voor inz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an contactfungic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oog gewas met zon en beetje wind bij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e lage temperatur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e 2 factoren bepalen het risico van 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laagde schimmel-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fectiedruk en het weer (rv en temp. hoo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62CF0-7699-4098-BD65-7DA6C12763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iss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damp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nd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2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e berekening in het b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B8760-8087-4C76-A43C-0EACBA99A4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Te kleine druppel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Sassoon-Primary"/>
              </a:rPr>
              <a:t>(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kleiner dan 30 µm) zijn gevoelig voor emissie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Ze verdampen snel en kunnen gaan zwev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Ze komen uiteindelijk op de bovenzijde van het blad terecht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Ook kunnen ze te weinig actieve stof bevatten voor een goede werking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6FEB0-B4F4-41FA-9C97-4EE693DCE6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naar oppervlaktewater en grond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de bodem (drainwate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middelen die vanuit de lucht in het oppervlaktewater terechtk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recirculatiewa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condens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Welke emissieroute het meest voorkomt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hangt af van de gebruikte techn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AA7A7-9863-4D26-8460-58C27ACD67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nodeType="clickEffect" fill="hold">
                      <p:stCondLst>
                        <p:cond delay="indefinite"/>
                      </p:stCondLst>
                      <p:childTnLst>
                        <p:par>
                          <p:cTn id="2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8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79280" y="1623960"/>
            <a:ext cx="684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Bij emissie kom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toegepaste gewasbeschermingsmiddel niet terecht op de plaats waar het moet kom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middel gaat verloren en kan mens en milieu bedreig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Emissie van gewasbeschermingsmiddelen naar het milieu kan via verschillende routes plaatsvin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lucht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kleine druppels die naar buiten waai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verdamping van het middel van het gewas of kasdek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gasvormige middel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bodem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van de plant afdrui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naast het gewas op de grond terechtkom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aan de bodem worden toegediend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EA819-DD25-428A-8B0A-81A635F861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nodeType="clickEffect" fill="hold">
                      <p:stCondLst>
                        <p:cond delay="indefinite"/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6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nodeType="clickEffect" fill="hold">
                      <p:stCondLst>
                        <p:cond delay="indefinite"/>
                      </p:stCondLst>
                      <p:childTnLst>
                        <p:par>
                          <p:cTn id="2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3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0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tgev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120" y="18954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tiviteiten beslui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el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nti-drif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n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ogte spuitboo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gestane wind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el 90% minder drif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EDFC6-C47D-48B0-A3AA-701A5D3F0E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3" dur="indefinite" restart="never" nodeType="tmRoot">
          <p:childTnLst>
            <p:seq>
              <p:cTn id="2374" dur="indefinite" nodeType="mainSeq">
                <p:childTnLst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5" dur="10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88136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braak DT-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gradation time = halfwaarde tij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r dan 60 da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 of moeilijk afbreekbaar middel zoals bodemherbic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dap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micro-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8F8C4-74A4-4636-979A-D48AEF9C44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8" dur="indefinite" restart="never" nodeType="tmRoot">
          <p:childTnLst>
            <p:seq>
              <p:cTn id="2429" dur="indefinite" nodeType="mainSeq">
                <p:childTnLst>
                  <p:par>
                    <p:cTn id="2430" nodeType="clickEffect" fill="hold">
                      <p:stCondLst>
                        <p:cond delay="indefinite"/>
                      </p:stCondLst>
                      <p:childTnLst>
                        <p:par>
                          <p:cTn id="2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1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8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nodeType="clickEffect" fill="hold">
                      <p:stCondLst>
                        <p:cond delay="indefinite"/>
                      </p:stCondLst>
                      <p:childTnLst>
                        <p:par>
                          <p:cTn id="2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0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7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85360" y="1628280"/>
            <a:ext cx="6348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cumula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hoping persistent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keten raakt verstoo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zaam afgebro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 binding Klei-Humus-Comple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-Drinkwaternorm 0,1 microgram/L /middel. Max 0,5 van alle middelen teza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spoeling van middelen naar riool of oppervlakte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DE39D-B5E0-4C72-BE84-071EEAD82C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0" dur="indefinite" restart="never" nodeType="tmRoot">
          <p:childTnLst>
            <p:seq>
              <p:cTn id="2471" dur="indefinite" nodeType="mainSeq">
                <p:childTnLst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Uitvloei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000"/>
            <a:ext cx="67784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ad heeft een waslaag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schermd tegen uitdro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ruppels blijven gro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or uitvloeier loopt druppel uit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bedekking en minder actieve stof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 we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ikk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zaam weer met hoge temp en RV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unn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IS weegt weerbericht mee in dosi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ttp://www.opticrop.nl/default.asp?id=17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CAE74-C8CE-4B16-AC02-134F67B1BA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9640" y="1700280"/>
            <a:ext cx="7056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damping van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ge neerslag, sterk verdund met regen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 de gro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oppervlakte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gla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densatie per m</a:t>
            </a:r>
            <a:r>
              <a:rPr b="0" lang="nl-NL" sz="20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las =0,5 liter per dag opvangen als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oor wind verwaaien afh. van druk en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i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A4CEB-F209-4D2C-9FCF-68BEC41E20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160" y="1521000"/>
            <a:ext cx="6500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Hoe kunnen gewasbeschermingsmiddelen in h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 terecht k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erdamping, uitspoeling, afspoeling en drif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DT waarde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halfwaarde tijd in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betekent accumulatie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phoping middel in voedselke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first flush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erste water wat op kasdek v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91FA1-5E3F-4973-80C5-AE00C81545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9" dur="indefinite" restart="never" nodeType="tmRoot">
          <p:childTnLst>
            <p:seq>
              <p:cTn id="2570" dur="indefinite" nodeType="mainSeq">
                <p:childTnLst>
                  <p:par>
                    <p:cTn id="2571" nodeType="clickEffect" fill="hold">
                      <p:stCondLst>
                        <p:cond delay="indefinite"/>
                      </p:stCondLst>
                      <p:childTnLst>
                        <p:par>
                          <p:cTn id="2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5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0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nodeType="clickEffect" fill="hold">
                      <p:stCondLst>
                        <p:cond delay="indefinite"/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5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0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lating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519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gewasbeschermingsmiddelen en bioci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lksgezondheids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-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Mobiliteit (uitspoeling, verdamping, absorptie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Persistentie (afbraak) DT of halfwaardetij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 waterorganism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D 50 waarde = letale dosi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C-50 – lethale concentratie &lt; minder dan1% LC 50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EC-50 waarde =effectconcentratie door 50% – binnen 14 dagen reacti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0FED1-319C-4F2B-93CF-A0EFB7027E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9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nodeType="clickEffect" fill="hold">
                      <p:stCondLst>
                        <p:cond delay="indefinite"/>
                      </p:stCondLst>
                      <p:childTnLst>
                        <p:par>
                          <p:cTn id="2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6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1" dur="10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nodeType="clickEffect" fill="hold">
                      <p:stCondLst>
                        <p:cond delay="indefinite"/>
                      </p:stCondLst>
                      <p:childTnLst>
                        <p:par>
                          <p:cTn id="2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1000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95280" y="155736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 voor 10 jr. in EU land op annex A lijst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ndere landen mogen het middel ook toela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si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ikundige informatie (w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uurkundige informatie (vlampunt etc.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voor de mens (acuut, chronisch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otoxicologische gegevens milieu (bij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24821-CABA-495C-B38A-9439FF63C5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1" dur="indefinite" restart="never" nodeType="tmRoot">
          <p:childTnLst>
            <p:seq>
              <p:cTn id="2652" dur="indefinite" nodeType="mainSeq">
                <p:childTnLst>
                  <p:par>
                    <p:cTn id="2653" nodeType="clickEffect" fill="hold">
                      <p:stCondLst>
                        <p:cond delay="indefinite"/>
                      </p:stCondLst>
                      <p:childTnLst>
                        <p:par>
                          <p:cTn id="2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nodeType="clickEffect" fill="hold">
                      <p:stCondLst>
                        <p:cond delay="indefinite"/>
                      </p:stCondLst>
                      <p:childTnLst>
                        <p:par>
                          <p:cTn id="2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1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6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1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cotoxicologische gegevens </a:t>
            </a:r>
            <a:r>
              <a:rPr b="0" lang="nl-NL" sz="3000" spc="-1" strike="noStrike">
                <a:solidFill>
                  <a:srgbClr val="90c226"/>
                </a:solidFill>
                <a:latin typeface="Trebuchet MS"/>
              </a:rPr>
              <a:t>(giftigheid van het milieu)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30360" y="2045880"/>
            <a:ext cx="63482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MR stoff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arcino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ankerverwek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uta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NA verander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productietoxisch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oortplant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https://zoek.officielebekendmakingen.nl/stcrt-2014-6.html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 en P z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zzard =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caution = voorzor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62EB8-2A05-4B15-B81D-28A5F7D872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nodeType="clickEffect" fill="hold">
                      <p:stCondLst>
                        <p:cond delay="indefinite"/>
                      </p:stCondLst>
                      <p:childTnLst>
                        <p:par>
                          <p:cTn id="2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9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6" dur="1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1" dur="1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53520" y="1844640"/>
            <a:ext cx="717084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LM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(Centrum Landbouw en Milieu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0 mbp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milieu belastingspunten)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 mbp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slot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79AAA-C703-4E74-934E-EE085BB24C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4" dur="indefinite" restart="never" nodeType="tmRoot">
          <p:childTnLst>
            <p:seq>
              <p:cTn id="2745" dur="indefinite" nodeType="mainSeq">
                <p:childTnLst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7" dur="1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9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nodeType="clickEffect" fill="hold">
                      <p:stCondLst>
                        <p:cond delay="indefinite"/>
                      </p:stCondLst>
                      <p:childTnLst>
                        <p:par>
                          <p:cTn id="2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3" dur="10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4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nodeType="clickEffect" fill="hold">
                      <p:stCondLst>
                        <p:cond delay="indefinite"/>
                      </p:stCondLst>
                      <p:childTnLst>
                        <p:par>
                          <p:cTn id="2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6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0" dur="100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rdentoelatin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53880" y="1488960"/>
            <a:ext cx="63468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 kleine gewassen kan een toelating worden georganis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U zone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nnex-A lij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4D500-408C-4F23-BBCD-67B0DEE78A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614680" y="2344680"/>
            <a:ext cx="43434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6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7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1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onicotinoiden; </a:t>
            </a: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imidacloprid, thiamethoxam, clothianidine</a:t>
            </a: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09120" y="25257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emische stof afgeleid van nicotin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eden tabaksplant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ucho als zaadbehand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mire als systemisch insectic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den insect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antal vogelsoorten da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ensterfte of toch de varroamij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E882B-A576-4816-907A-B514D57BDB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nodeType="clickEffect" fill="hold">
                      <p:stCondLst>
                        <p:cond delay="indefinite"/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2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2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nodeType="clickEffect" fill="hold">
                      <p:stCondLst>
                        <p:cond delay="indefinite"/>
                      </p:stCondLst>
                      <p:childTnLst>
                        <p:par>
                          <p:cTn id="2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9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4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9640" y="1397160"/>
            <a:ext cx="82296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betek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uta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NA verande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productietox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vaar voor voortplan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arci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ankerverwekk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braaksnelhei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975CF-0ECD-4CB2-A562-FAD827D3D2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nodeType="clickEffect" fill="hold">
                      <p:stCondLst>
                        <p:cond delay="indefinite"/>
                      </p:stCondLst>
                      <p:childTnLst>
                        <p:par>
                          <p:cTn id="2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nodeType="clickEffect" fill="hold">
                      <p:stCondLst>
                        <p:cond delay="indefinite"/>
                      </p:stCondLst>
                      <p:childTnLst>
                        <p:par>
                          <p:cTn id="2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62864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een derdentoelat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lating voor middelen met al een toelating i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ot gewas dat ook in kleine gewassen word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ge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Gelden voor toelating middelen in Nederland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anje dezelfde regel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, elk land heeft zijn eigen toelatingseisen. Bij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eoordeling wordt gelet op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limaatomstandighe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F8ABB-DB7C-44F7-AF5F-F0044FFC9D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nodeType="clickEffect" fill="hold">
                      <p:stCondLst>
                        <p:cond delay="indefinite"/>
                      </p:stCondLst>
                      <p:childTnLst>
                        <p:par>
                          <p:cTn id="2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functie van een uitvloei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uppel laten uitvloeien voor een betere bladbedekk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wordt bedoeld met de formuler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van het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Onder welke weersomstandigheden hebben planten een dunnere waslaa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eizaam weer met hoge Rv en hoge tem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3B9C7-011B-42F6-9296-B0C40AB08A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gelijkt effecten verschill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spoeling grondwater afh. Org stof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bodemleven (wormen, etc) DT waarde en LC waar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waterleven (standaard 1% drift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</a:t>
            </a:r>
            <a:r>
              <a:rPr b="1" lang="nl-NL" sz="2000" spc="-1" strike="noStrike">
                <a:solidFill>
                  <a:srgbClr val="92d05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83049-5C07-4283-87DE-3CA3DD3F31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nodeType="clickEffect" fill="hold">
                      <p:stCondLst>
                        <p:cond delay="indefinite"/>
                      </p:stCondLst>
                      <p:childTnLst>
                        <p:par>
                          <p:cTn id="2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nodeType="clickEffect" fill="hold">
                      <p:stCondLst>
                        <p:cond delay="indefinite"/>
                      </p:stCondLst>
                      <p:childTnLst>
                        <p:par>
                          <p:cTn id="2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8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ergelijk 3 bladluis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6560" y="1844280"/>
            <a:ext cx="82108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erleven Bodeml grondwater  risic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cis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51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alypso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3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epekk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  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s Decis gaat 5x over wettelijke no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D7C93-97A8-4C62-A62B-CD6B31EBC4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6" dur="indefinite" restart="never" nodeType="tmRoot">
          <p:childTnLst>
            <p:seq>
              <p:cTn id="2927" dur="indefinite" nodeType="mainSeq">
                <p:childTnLst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2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meetlat kas-teel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4360" y="1930320"/>
            <a:ext cx="63468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ering L of Kg / h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passingswijz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antal toepassingen/ seizo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issie bij ruimtebehandeling door afluchten tot 40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ximaal toelaatbaar Risico ½ dag na toepassing vaststel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veelheid waarbij 95 % toetsorganismen geen reactie g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2B9D7-6D73-4227-B12C-688D841959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nodeType="clickEffect" fill="hold">
                      <p:stCondLst>
                        <p:cond delay="indefinite"/>
                      </p:stCondLst>
                      <p:childTnLst>
                        <p:par>
                          <p:cTn id="2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9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6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7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5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483920"/>
            <a:ext cx="699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 zijn de milieu belastingspunten in d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meetlat van afgele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n de mate van uitspoeling naar grondwater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iftigheid bodem en waterle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MTR van een middel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oeveel middel waarbij 95% van organismen na 12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uur geen reactie laat zi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nneer is emissie naar de lucht het groots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uimtebehandelin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F8BD4-2BAD-4A03-B8C0-087867B5B5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5" dur="indefinite" restart="never" nodeType="tmRoot">
          <p:childTnLst>
            <p:seq>
              <p:cTn id="2976" dur="indefinite" nodeType="mainSeq">
                <p:childTnLst>
                  <p:par>
                    <p:cTn id="2977" nodeType="clickEffect" fill="hold">
                      <p:stCondLst>
                        <p:cond delay="indefinite"/>
                      </p:stCondLst>
                      <p:childTnLst>
                        <p:par>
                          <p:cTn id="2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nodeType="clickEffect" fill="hold">
                      <p:stCondLst>
                        <p:cond delay="indefinite"/>
                      </p:stCondLst>
                      <p:childTnLst>
                        <p:par>
                          <p:cTn id="2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nodeType="clickEffect" fill="hold">
                      <p:stCondLst>
                        <p:cond delay="indefinite"/>
                      </p:stCondLst>
                      <p:childTnLst>
                        <p:par>
                          <p:cTn id="2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ewasbeschermingsmiddelen e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929960"/>
            <a:ext cx="6348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 ontstaat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netische verand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rking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ne / polygene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antal toepassingen, doseringen en 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hebben een werking dichtbij de natuurlijke werk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door soms minder gevoelige individu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netische 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unnen onkruiden ook resistent worden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Ja, denk aan brandnetel bij glyfos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nodeType="clickEffect" fill="hold">
                      <p:stCondLst>
                        <p:cond delay="indefinite"/>
                      </p:stCondLst>
                      <p:childTnLst>
                        <p:par>
                          <p:cTn id="2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5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8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1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4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nodeType="clickEffect" fill="hold">
                      <p:stCondLst>
                        <p:cond delay="indefinite"/>
                      </p:stCondLst>
                      <p:childTnLst>
                        <p:par>
                          <p:cTn id="3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nodeType="clickEffect" fill="hold">
                      <p:stCondLst>
                        <p:cond delay="indefinite"/>
                      </p:stCondLst>
                      <p:childTnLst>
                        <p:par>
                          <p:cTn id="3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6" dur="1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1" dur="10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nodeType="clickEffect" fill="hold">
                      <p:stCondLst>
                        <p:cond delay="indefinite"/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79280" y="1557360"/>
            <a:ext cx="70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sist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en  - binnen een j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 – binnen enkele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- binnen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ing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 vb tegen energieoverdracht en aanmaak eiwitten. Dus grijpen in op verschillende levensprocessen in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gevoelig voo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e grijpen vaak in één proces i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nodeType="clickEffect" fill="hold">
                      <p:stCondLst>
                        <p:cond delay="indefinite"/>
                      </p:stCondLst>
                      <p:childTnLst>
                        <p:par>
                          <p:cTn id="3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5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1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6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nodeType="clickEffect" fill="hold">
                      <p:stCondLst>
                        <p:cond delay="indefinite"/>
                      </p:stCondLst>
                      <p:childTnLst>
                        <p:par>
                          <p:cTn id="3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9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nodeType="clickEffect" fill="hold">
                      <p:stCondLst>
                        <p:cond delay="indefinite"/>
                      </p:stCondLst>
                      <p:childTnLst>
                        <p:par>
                          <p:cTn id="3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6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0" dur="10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5" dur="10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Komkommerbontvirus (CGMMV)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160" y="2349360"/>
            <a:ext cx="6500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l 10 resistente rass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mmuun; geen aantasting door de ziekt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resistentie = beide ouderlijnen zijn resistent. Bij hoge ziektedruk soms enige sympt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ermediaire resistentie= 1 ouderlijn is resistent. Meer schade en symptomen bij ziektedruk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8" dur="indefinite" restart="never" nodeType="tmRoot">
          <p:childTnLst>
            <p:seq>
              <p:cTn id="3089" dur="indefinite" nodeType="mainSeq">
                <p:childTnLst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6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1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2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360" y="162864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no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sistentie berustend op 1 gen of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1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ly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er dan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éé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 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, volledige resistentie bij 3 g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urt lang voordat alle nakomelingen dit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4" dur="indefinite" restart="never" nodeType="tmRoot">
          <p:childTnLst>
            <p:seq>
              <p:cTn id="3115" dur="indefinite" nodeType="mainSeq">
                <p:childTnLst>
                  <p:par>
                    <p:cTn id="3116" nodeType="clickEffect" fill="hold">
                      <p:stCondLst>
                        <p:cond delay="indefinite"/>
                      </p:stCondLst>
                      <p:childTnLst>
                        <p:par>
                          <p:cTn id="3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0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1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7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8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delay="indefinite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4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1" dur="10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2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6" dur="10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7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8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1" dur="10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8000" y="1773360"/>
            <a:ext cx="712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toepassingen, doseringen en persistentie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lke toepassing selecteer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dosering versnel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al bij monogene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polygene resistentie stapsgewijze opbou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ersistente middelen (bodemherbiciden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 aanwezig, dus doden lang de gevoelige en niet de ongevoel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4" dur="indefinite" restart="never" nodeType="tmRoot">
          <p:childTnLst>
            <p:seq>
              <p:cTn id="3155" dur="indefinite" nodeType="mainSeq">
                <p:childTnLst>
                  <p:par>
                    <p:cTn id="3156" nodeType="clickEffect" fill="hold">
                      <p:stCondLst>
                        <p:cond delay="indefinite"/>
                      </p:stCondLst>
                      <p:childTnLst>
                        <p:par>
                          <p:cTn id="3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nodeType="clickEffect" fill="hold">
                      <p:stCondLst>
                        <p:cond delay="indefinite"/>
                      </p:stCondLst>
                      <p:childTnLst>
                        <p:par>
                          <p:cTn id="3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7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2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nodeType="clickEffect" fill="hold">
                      <p:stCondLst>
                        <p:cond delay="indefinite"/>
                      </p:stCondLst>
                      <p:childTnLst>
                        <p:par>
                          <p:cTn id="3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9" dur="1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nodeType="clickEffect" fill="hold">
                      <p:stCondLst>
                        <p:cond delay="indefinite"/>
                      </p:stCondLst>
                      <p:childTnLst>
                        <p:par>
                          <p:cTn id="3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1" dur="10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2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8" dur="10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9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electiedru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1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oort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ogte doser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antal toepassi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elvuldig moeilijk afbreekbaar in ho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La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nel afbreekbaar, incidentele toepassing, la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1" dur="indefinite" restart="never" nodeType="tmRoot">
          <p:childTnLst>
            <p:seq>
              <p:cTn id="3202" dur="indefinite" nodeType="mainSeq">
                <p:childTnLst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7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nodeType="clickEffect" fill="hold">
                      <p:stCondLst>
                        <p:cond delay="indefinite"/>
                      </p:stCondLst>
                      <p:childTnLst>
                        <p:par>
                          <p:cTn id="3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4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nodeType="clickEffect" fill="hold">
                      <p:stCondLst>
                        <p:cond delay="indefinite"/>
                      </p:stCondLst>
                      <p:childTnLst>
                        <p:par>
                          <p:cTn id="3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1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nodeType="clickEffect" fill="hold">
                      <p:stCondLst>
                        <p:cond delay="indefinite"/>
                      </p:stCondLst>
                      <p:childTnLst>
                        <p:par>
                          <p:cTn id="3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8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3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6840" y="1488600"/>
            <a:ext cx="75708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Zoals door de fabrikant samengestel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oeder en korr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uitpoeder (werkzame stof met kalk als vulstof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–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an stuiven bij het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plosbare verpakkingen mog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mt bij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en met hoge concentrati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erkt – lage concentratie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el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72EE3-E868-4D3A-AC1A-1A480BC534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derne middelen vaak systemisch. Werken maar op 1 pro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port in plant dus vooral curatief toepass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-systemische middelen preventief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40E21-13C2-4DF1-80ED-014ADB09F6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8" dur="indefinite" restart="never" nodeType="tmRoot">
          <p:childTnLst>
            <p:seq>
              <p:cTn id="3249" dur="indefinite" nodeType="mainSeq">
                <p:childTnLst>
                  <p:par>
                    <p:cTn id="3250" nodeType="clickEffect" fill="hold">
                      <p:stCondLst>
                        <p:cond delay="indefinite"/>
                      </p:stCondLst>
                      <p:childTnLst>
                        <p:par>
                          <p:cTn id="3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4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nodeType="clickEffect" fill="hold">
                      <p:stCondLst>
                        <p:cond delay="indefinite"/>
                      </p:stCondLst>
                      <p:childTnLst>
                        <p:par>
                          <p:cTn id="3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1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4" nodeType="clickEffect" fill="hold">
                      <p:stCondLst>
                        <p:cond delay="indefinite"/>
                      </p:stCondLst>
                      <p:childTnLst>
                        <p:par>
                          <p:cTn id="3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8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0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150920"/>
            <a:ext cx="65628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verschil tussen monogene en polygen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 berust op 1 gen of eigenschap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resistentie kan zich het snels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wikkel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factoren bepalen de selectiedruk va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et middel, dosering, persistentie en aantal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passing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10D19-356E-4CD3-A0C8-FE57AC707A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1" dur="indefinite" restart="never" nodeType="tmRoot">
          <p:childTnLst>
            <p:seq>
              <p:cTn id="3272" dur="indefinite" nodeType="mainSeq">
                <p:childTnLst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nodeType="clickEffect" fill="hold">
                      <p:stCondLst>
                        <p:cond delay="indefinite"/>
                      </p:stCondLst>
                      <p:childTnLst>
                        <p:par>
                          <p:cTn id="3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delay="indefinite"/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ruis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560" y="1197000"/>
            <a:ext cx="79311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uit dezelfde chemisch groe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jken op elk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en meestal volgens het zelfde princip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elde en nachtscha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trazin, Sencor, Golti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Insecticiden  - choline-esterase remm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ect maakt meer choline-esterase waardoor andere choline estraseremmers ook niet meer hel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elfde werking ook in andere chemische groe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tabolische resistentie: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(grijpt in dezelf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stofwisselingsproces, maar komen uit verschillen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chemische groep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5" dur="indefinite" restart="never" nodeType="tmRoot">
          <p:childTnLst>
            <p:seq>
              <p:cTn id="3286" dur="indefinite" nodeType="mainSeq">
                <p:childTnLst>
                  <p:par>
                    <p:cTn id="3287" nodeType="clickEffect" fill="hold">
                      <p:stCondLst>
                        <p:cond delay="indefinite"/>
                      </p:stCondLst>
                      <p:childTnLst>
                        <p:par>
                          <p:cTn id="3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1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2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nodeType="clickEffect" fill="hold">
                      <p:stCondLst>
                        <p:cond delay="indefinite"/>
                      </p:stCondLst>
                      <p:childTnLst>
                        <p:par>
                          <p:cTn id="3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8" dur="1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3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4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nodeType="clickEffect" fill="hold">
                      <p:stCondLst>
                        <p:cond delay="indefinite"/>
                      </p:stCondLst>
                      <p:childTnLst>
                        <p:par>
                          <p:cTn id="3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0" dur="10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1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5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6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nodeType="clickEffect" fill="hold">
                      <p:stCondLst>
                        <p:cond delay="indefinite"/>
                      </p:stCondLst>
                      <p:childTnLst>
                        <p:par>
                          <p:cTn id="3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2" dur="10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3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9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0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delay="indefinite"/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6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1" dur="1000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kruis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lle middelen uit een groep werken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er omdat ze werken via zelfde princip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metabolische 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secticiden die uit verschillende groep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omen maar volgens zelfde principe werk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laan niet meer a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FB370-18D1-43B8-A56F-ADF5C76ED5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0" dur="1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nodeType="clickEffect" fill="hold">
                      <p:stCondLst>
                        <p:cond delay="indefinite"/>
                      </p:stCondLst>
                      <p:childTnLst>
                        <p:par>
                          <p:cTn id="3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7" dur="1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8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 kun je doen tegen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o min mogelijk chemisch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ïntegre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sistentie rassen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trijdingsdrem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sl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chanisch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0" dur="indefinite" restart="never" nodeType="tmRoot">
          <p:childTnLst>
            <p:seq>
              <p:cTn id="3361" dur="indefinite" nodeType="mainSeq">
                <p:childTnLst>
                  <p:par>
                    <p:cTn id="3362" nodeType="clickEffect" fill="hold">
                      <p:stCondLst>
                        <p:cond delay="indefinite"/>
                      </p:stCondLst>
                      <p:childTnLst>
                        <p:par>
                          <p:cTn id="3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nodeType="clickEffect" fill="hold">
                      <p:stCondLst>
                        <p:cond delay="indefinite"/>
                      </p:stCondLst>
                      <p:childTnLst>
                        <p:par>
                          <p:cTn id="3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6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1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4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nodeType="clickEffect" fill="hold">
                      <p:stCondLst>
                        <p:cond delay="indefinite"/>
                      </p:stCondLst>
                      <p:childTnLst>
                        <p:par>
                          <p:cTn id="3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9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nodeType="clickEffect" fill="hold">
                      <p:stCondLst>
                        <p:cond delay="indefinite"/>
                      </p:stCondLst>
                      <p:childTnLst>
                        <p:par>
                          <p:cTn id="3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4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8360" y="206064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eng middelen met ander werkings-mechanisme vb. selectief systemisch met breedwerkend preventie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issel middelen uit andere chemische groepen a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o mogelijk vruchtwiss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5" dur="indefinite" restart="never" nodeType="tmRoot">
          <p:childTnLst>
            <p:seq>
              <p:cTn id="3396" dur="indefinite" nodeType="mainSeq">
                <p:childTnLst>
                  <p:par>
                    <p:cTn id="3397" nodeType="clickEffect" fill="hold">
                      <p:stCondLst>
                        <p:cond delay="indefinite"/>
                      </p:stCondLst>
                      <p:childTnLst>
                        <p:par>
                          <p:cTn id="3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1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nodeType="clickEffect" fill="hold">
                      <p:stCondLst>
                        <p:cond delay="indefinite"/>
                      </p:stCondLst>
                      <p:childTnLst>
                        <p:par>
                          <p:cTn id="3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8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9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nodeType="clickEffect" fill="hold">
                      <p:stCondLst>
                        <p:cond delay="indefinite"/>
                      </p:stCondLst>
                      <p:childTnLst>
                        <p:par>
                          <p:cTn id="3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5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6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ti-resistentie strategieë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38280" y="1903320"/>
            <a:ext cx="634824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nito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abrik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ende adviezen bij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ch bruikb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fitness; resistente stam minder gevoelig dan oorspronkelijke stam.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iddel beperkt inzet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esistente stam wordt weggeconcurreerd door oorspronkelijke st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8" dur="indefinite" restart="never" nodeType="tmRoot">
          <p:childTnLst>
            <p:seq>
              <p:cTn id="3419" dur="indefinite" nodeType="mainSeq">
                <p:childTnLst>
                  <p:par>
                    <p:cTn id="3420" nodeType="clickEffect" fill="hold">
                      <p:stCondLst>
                        <p:cond delay="indefinite"/>
                      </p:stCondLst>
                      <p:childTnLst>
                        <p:par>
                          <p:cTn id="3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4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nodeType="clickEffect" fill="hold">
                      <p:stCondLst>
                        <p:cond delay="indefinite"/>
                      </p:stCondLst>
                      <p:childTnLst>
                        <p:par>
                          <p:cTn id="3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1" dur="1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8" dur="1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3" dur="10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8" dur="10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9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nodeType="clickEffect" fill="hold">
                      <p:stCondLst>
                        <p:cond delay="indefinite"/>
                      </p:stCondLst>
                      <p:childTnLst>
                        <p:par>
                          <p:cTn id="3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5" dur="10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6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160020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irac-online.org/modes-of-action/ insect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frac.info/ schimme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hracglobal.com/pages/classificationofherbicidesiteofaction.aspx onkru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CB017-F971-415A-9473-E075CB051A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kruid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00000" y="2160360"/>
            <a:ext cx="6346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v. Dui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otosynthese 1 en 2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C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LS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tsynthese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5F038-E42D-4D2A-82F8-7C647722F2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8" dur="indefinite" restart="never" nodeType="tmRoot">
          <p:childTnLst>
            <p:seq>
              <p:cTn id="3459" dur="indefinite" nodeType="mainSeq">
                <p:childTnLst>
                  <p:par>
                    <p:cTn id="3460" nodeType="clickEffect" fill="hold">
                      <p:stCondLst>
                        <p:cond delay="indefinite"/>
                      </p:stCondLst>
                      <p:childTnLst>
                        <p:par>
                          <p:cTn id="3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4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5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4" dur="10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9" dur="10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0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1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chimmel resistenti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55280" y="21254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mmels in graan en aardappel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bilurinen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henilamid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ccinate dehydrogena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E8139-67C8-4E08-A676-DB4A19C946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2" dur="indefinite" restart="never" nodeType="tmRoot">
          <p:childTnLst>
            <p:seq>
              <p:cTn id="3483" dur="indefinite" nodeType="mainSeq">
                <p:childTnLst>
                  <p:par>
                    <p:cTn id="3484" nodeType="clickEffect" fill="hold">
                      <p:stCondLst>
                        <p:cond delay="indefinite"/>
                      </p:stCondLst>
                      <p:childTnLst>
                        <p:par>
                          <p:cTn id="3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8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9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3" dur="10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4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8" dur="10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9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104840"/>
            <a:ext cx="6562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euze werkzame stof, formulering en eventueel hulpstoff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na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rooi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evel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ok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ven Gassen (LVM Fog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Quick dip of phyto dri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s://youtu.be/ISDN8SiNoMY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BA173-AD44-4CED-9608-D51EBF9D08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683160" y="1916280"/>
            <a:ext cx="29955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Toch Resistent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700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s het wel resistenti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dosis of toevoe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poten op het verkeerde mom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spuittechniek of apparat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role registrati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act met leverancier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roefbespuit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larm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1" dur="indefinite" restart="never" nodeType="tmRoot">
          <p:childTnLst>
            <p:seq>
              <p:cTn id="3502" dur="indefinite" nodeType="mainSeq">
                <p:childTnLst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8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nodeType="clickEffect" fill="hold">
                      <p:stCondLst>
                        <p:cond delay="indefinite"/>
                      </p:stCondLst>
                      <p:childTnLst>
                        <p:par>
                          <p:cTn id="3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4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5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9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0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4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9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nodeType="clickEffect" fill="hold">
                      <p:stCondLst>
                        <p:cond delay="indefinite"/>
                      </p:stCondLst>
                      <p:childTnLst>
                        <p:par>
                          <p:cTn id="3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6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9" nodeType="clickEffect" fill="hold">
                      <p:stCondLst>
                        <p:cond delay="indefinite"/>
                      </p:stCondLst>
                      <p:childTnLst>
                        <p:par>
                          <p:cTn id="3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3" dur="1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nodeType="clickEffect" fill="hold">
                      <p:stCondLst>
                        <p:cond delay="indefinite"/>
                      </p:stCondLst>
                      <p:childTnLst>
                        <p:par>
                          <p:cTn id="3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0" dur="10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7" dur="10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mechanis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32880" y="1341360"/>
            <a:ext cx="6348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ntgiftiging vindt sneller en doeltreffender plaat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Er is iets veranderd op de plaats van werking(het aangrijpingspun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eemt minder middel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laagde penetra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ast zijn gedrag aa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eidt het middel uit of slaat het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et middel wordt geïnactiveer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0" dur="indefinite" restart="never" nodeType="tmRoot">
          <p:childTnLst>
            <p:seq>
              <p:cTn id="3561" dur="indefinite" nodeType="mainSeq">
                <p:childTnLst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6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nodeType="clickEffect" fill="hold">
                      <p:stCondLst>
                        <p:cond delay="indefinite"/>
                      </p:stCondLst>
                      <p:childTnLst>
                        <p:par>
                          <p:cTn id="3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3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4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6" nodeType="clickEffect" fill="hold">
                      <p:stCondLst>
                        <p:cond delay="indefinite"/>
                      </p:stCondLst>
                      <p:childTnLst>
                        <p:par>
                          <p:cTn id="3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0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1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5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2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nodeType="clickEffect" fill="hold">
                      <p:stCondLst>
                        <p:cond delay="indefinite"/>
                      </p:stCondLst>
                      <p:childTnLst>
                        <p:par>
                          <p:cTn id="3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9" dur="10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nodeType="clickEffect" fill="hold">
                      <p:stCondLst>
                        <p:cond delay="indefinite"/>
                      </p:stCondLst>
                      <p:childTnLst>
                        <p:par>
                          <p:cTn id="3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6" dur="10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tstaa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09480" y="1700280"/>
            <a:ext cx="6842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rfelijke eigenscha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pulatiedynam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nscycl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van voortplan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tal nakomel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leving in ongunstige omstandig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en snelheid van verspre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9" dur="indefinite" restart="never" nodeType="tmRoot">
          <p:childTnLst>
            <p:seq>
              <p:cTn id="3610" dur="indefinite" nodeType="mainSeq">
                <p:childTnLst>
                  <p:par>
                    <p:cTn id="3611" nodeType="clickEffect" fill="hold">
                      <p:stCondLst>
                        <p:cond delay="indefinite"/>
                      </p:stCondLst>
                      <p:childTnLst>
                        <p:par>
                          <p:cTn id="3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nodeType="clickEffect" fill="hold">
                      <p:stCondLst>
                        <p:cond delay="indefinite"/>
                      </p:stCondLst>
                      <p:childTnLst>
                        <p:par>
                          <p:cTn id="3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2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7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8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nodeType="clickEffect" fill="hold">
                      <p:stCondLst>
                        <p:cond delay="indefinite"/>
                      </p:stCondLst>
                      <p:childTnLst>
                        <p:par>
                          <p:cTn id="3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4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5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9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0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4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5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6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9" dur="10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0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1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4" dur="10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5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6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2:18:29Z</dcterms:created>
  <dc:creator>A. Bok</dc:creator>
  <dc:description/>
  <dc:language>en-US</dc:language>
  <cp:lastModifiedBy>Douwe Jan de Jong</cp:lastModifiedBy>
  <dcterms:modified xsi:type="dcterms:W3CDTF">2018-10-10T07:27:16Z</dcterms:modified>
  <cp:revision>111</cp:revision>
  <dc:subject/>
  <dc:title>Hoofdstuk 3</dc:title>
</cp:coreProperties>
</file>