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F07-170A-4678-915F-CCBC0220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659-3961-4E66-B2F0-35864185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429-A472-4BEF-98B8-C773E680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253-3FD8-4824-B363-220F3170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216B-AA49-48F3-A47F-B09D3B7F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AD84-85FC-4CD4-80EC-B07E158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6AB3-B2A4-49D7-91B5-22D48AFA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620F-C6E8-4AF8-85B6-27C9457A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2BB9-A642-4C1D-92E1-F3E82E8A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230A-134C-468B-966B-2802C02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F2BF-10CC-4CEC-87AB-16EB825F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B97-0F03-4535-8CA2-24F203E4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5F5C-C26A-4B40-A039-FF65C78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EB43-E4B5-41D5-8498-C0811E0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3BE0-2635-4207-BCC6-8A226917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629F-8D53-48F1-B46B-FCA91AB3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D7ED-31E4-428B-872E-738C3A7C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E5E3D-2C9B-407C-8991-86248043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9CB4-A892-4F7E-ABD3-A537187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D667-7210-4BBC-8605-22005D8B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F471-22B6-44B0-915A-18CD453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0DA2-B419-46D6-ADE7-2DAAA301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6BA-090C-4A85-AEBB-1D03333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9AE0-032F-4E8C-A45E-450F6AA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27EA-D865-4392-87CE-7B586B8A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19DB-6B9B-418F-8798-FC22FFD8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7560-86C9-42DF-A376-4874B6B9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8DBC-1ACB-4EBE-9D1A-AD834C6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288D-23DC-4415-BEC3-96715358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5A33-96E0-4728-97ED-0FED4958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008E-FBFD-489D-A567-1CA8B86D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6D94-18CF-451C-B4F0-A4F31EA2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2671-E6F0-479B-9DC5-00A584E5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BF6-CB1B-406B-9C66-E21F76A2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00E99-BB9A-451D-82AF-F03AA5C4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D139-8D60-483B-AE84-60889CDD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77E9-5F3E-48D2-BA3F-5BF54894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5CE74-8438-4A12-8B43-28F63787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1137-B54E-4CF2-ABEC-DEEC64FE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D7621-BD16-497A-8EE5-6E5CACF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7712-66E9-4E5A-95E3-23D1EB02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A0E4-3590-4278-BC10-E0E50583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03FC-3421-49CA-A5C6-DBD72335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2A1-B491-4D82-AE05-BF12B348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446-5D2D-4461-AA11-285BF812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A25-96C1-4A03-A084-372AF8AE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5C6-0382-4CC5-88EB-7C245FA7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427-9131-4091-896E-BDCCABC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6699B-6E62-4C2D-901B-E3261EC30E3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3A437-AF9B-4FA2-BC87-1B7D2934581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BA2A5-0CE6-4363-84E1-AE35DDA5B0F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0B4CB-A01D-46FB-AB5D-C02DE259638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oofdstuk 3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Chemische gewasbescher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671A0-5B37-4A6A-8D3A-64DA66465F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434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sco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68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; aerosol, middel in spuitb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C; emulsieconcentraa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; granulaat, strooikorr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; suspensie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L; water oplosbaar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; water oplosbaar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G; waterdispergeerbaar granul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P; 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W; emulsie in water formul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FBE80-7334-4304-A0A9-BFC9D5E9EB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7224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4920" y="103356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e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zame stof met kal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chtbaar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bij af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OF (water oplosbaar foli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uifpoeder DP nog maar weinig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korrel W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eders in korrelvo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mind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af te 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 te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ost iets moeilijker op. Vb.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220A2-B23D-419C-B5D7-46E0F3A66C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40120" y="271440"/>
            <a:ext cx="3087720" cy="213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17305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oeders in korrelvorm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FB2B8-3995-48BE-873B-5828988B585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291960" y="24224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055960" y="36370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3807000" y="24224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4"/>
          <a:stretch/>
        </p:blipFill>
        <p:spPr>
          <a:xfrm>
            <a:off x="5651640" y="36370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3760" y="1112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anulaat G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vb. bodemherbiciden, nematiciden en systemische insectic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oi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met lok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k en muizen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bar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lowabl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eerbaar concent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99D37-287A-44CF-AFA8-A2ED0B9542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097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0062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lowables of suspensie concentraat S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(poeder zweeft in wat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tegen uitza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dden voor 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rstvrij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ft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oevoeging flow of SC. Vb. Decis Flo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door het blad minder – water en wasla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135FA-161A-4AAD-BAF4-911AA8305F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5373720" y="1670040"/>
            <a:ext cx="1890720" cy="194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2556000" y="46594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3"/>
          <a:stretch/>
        </p:blipFill>
        <p:spPr>
          <a:xfrm>
            <a:off x="668160" y="4651200"/>
            <a:ext cx="1428840" cy="2000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4"/>
          <a:stretch/>
        </p:blipFill>
        <p:spPr>
          <a:xfrm>
            <a:off x="4500720" y="46594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3444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3647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mulgeerbare concentraten E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ngbare oliën, organ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vat emulgat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men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aak een melkwitte vloei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genvaster dan poe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p voor gew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eerder verbra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5D6BC-7FDF-4F18-83F8-55A0BD1722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5176800" y="939960"/>
            <a:ext cx="1866960" cy="2489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30360" y="465300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3"/>
          <a:stretch/>
        </p:blipFill>
        <p:spPr>
          <a:xfrm>
            <a:off x="2516040" y="465300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4"/>
          <a:stretch/>
        </p:blipFill>
        <p:spPr>
          <a:xfrm>
            <a:off x="4430880" y="465300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480" y="16776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 in water opgelost E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lie achtige stof opgelost i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, waarin actieve stof z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ldere oplo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Pulsfo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LV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AADD8-C73E-4DC6-B451-62082EF716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4788000" y="263520"/>
            <a:ext cx="2033640" cy="4238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96880" y="46022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722680" y="46022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4788000" y="460224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41200" y="1480680"/>
            <a:ext cx="63468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ok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andbare stof met remm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smeul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erdamp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wavel, Pirim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orte werking en weinig verbranding, geen residu,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rosolen A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5-10% Werkzame stof in oplo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 in spuitbus. Som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asschade.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FB6EE-A41D-4C1A-A40F-2166F4EB57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5167440" y="3355920"/>
            <a:ext cx="1790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migant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loeibaar middel dat in de grond wordt gebracht en damp vorm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 7 – 16 </a:t>
            </a:r>
            <a:r>
              <a:rPr b="0" lang="nl-NL" sz="2200" spc="-1" strike="noStrike" baseline="30000">
                <a:solidFill>
                  <a:srgbClr val="404040"/>
                </a:solidFill>
                <a:latin typeface="Trebuchet MS"/>
              </a:rPr>
              <a:t>o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asta voor wonden bij b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meer middelen tegen vli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lostablet voor wortel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oizwa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://agro.bayer.nl/#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D6528-B60B-42EF-9F05-22862B4D12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88880" y="1298520"/>
            <a:ext cx="64994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de formulering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waarin het wordt gelev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het residu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esten wel of niet zichtb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wordt een dipergeermiddel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S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m poeder zwevend in oplossing te hou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een emulgat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E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nging olie in wat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D414D-7499-4912-A693-CC2E37CF6C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275760"/>
            <a:ext cx="8498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at zijn de nadelen van chem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8920" y="277164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sisten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oeiremm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werk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lieubelastend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adelijk voor niet doel 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vaarlijk voor mens en leefomgev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CF069-9F40-421B-98EC-F7A8F03B96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97280" y="1569960"/>
            <a:ext cx="384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8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  <a:ea typeface="Arial"/>
              </a:rPr>
              <a:t>é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 werkgang (tijdwinst) soms wel 12 s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isic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ïnvloeding werking( bij 3 middelen stijgt pH met 0,5-1,0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me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schade / groeirem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cktail vlb.met vlb.en poeder met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rantie tegen schade is er nie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mige fabrikanten geven mengen a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3FE99-2656-42F4-979F-4A423F1123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H en de halfwaardetijd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vies is pH 5,4 = zelfde pH als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laag (zuur) belemmert d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hoog afbraak versneld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5 is de werkzaamheid na 50 dagen gehalv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7 is dit 14,5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9 is dit 10 minu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457A3-27B2-4290-B5A9-EAE12A0628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opname 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aardig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id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tegen viru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opname en verspreiding virus in aardapp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on- ion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bij herbiciden, fungiciden en groeihor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per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snelle droging (Zipp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90F96-B244-4515-9D2F-5844B62509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tionische (zeep) en biolog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indri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chters met uitvloeier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hechting vooral met r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kmiddel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orkomt zaaduitval en lege peu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ercondition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pH beïnvloe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26B60-0D3E-4874-A3DD-CC66673455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volgorde van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58640"/>
            <a:ext cx="727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½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f 2/3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 verpakt in water oplosbaar folie (W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poeder (WP) en/of spuitkorrels (WG) eventueel voorgemengd in warm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spensie conc. (SC of Flow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ulgeerbaar concentraat (EC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stof in water (SL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(hechter, uitvloeier en vloeibare mestst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vulle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177F9-210A-4C58-84D4-CBF59DEC31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07560"/>
            <a:ext cx="706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Zijn hulpstoffen volgens de w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smiddel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 alleen als ze een N-nummer bezit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de functie van een minerale ol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voeg je het eerste toe olie of poed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oed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watercondition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H beïnvloeden (verlag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A03DF-5518-416D-B735-AA3C6682DD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rsen is dat echt zo er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deo van 10 min. Vooral eerste en laatste 2 m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dt een gewasbeschermingsmiddel verwijderd uit rioolwat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hSBbS7SOOD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akkelijk doseren zonder morse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sW5yL81u9eU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C9453-7900-45D3-B348-14BEC86075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formatie bronn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28680" y="1460520"/>
            <a:ext cx="63468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andleidingen gewasbescherming DLV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ewasbeschermingsgids of PD gids = rode gid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via interne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http://www.ctgb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strijdingsmiddelen databan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.G. (wettelijk gebruiksvoorschrift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.A. (gebruiksaanwijzin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Fytostat http://www.fytostat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roducenten – </a:t>
            </a:r>
            <a:r>
              <a:rPr b="1" lang="nl-NL" sz="2200" spc="-1" strike="noStrike">
                <a:solidFill>
                  <a:srgbClr val="404040"/>
                </a:solidFill>
                <a:latin typeface="Trebuchet MS"/>
              </a:rPr>
              <a:t>etiket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E7B4A-44DC-4A97-90CC-B546BEFC7A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taak van het CTGB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en toetsen voor toela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info is er op Fytosta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tiketten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EF98B-369F-4540-8F7C-759097AC95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middelen van natuurlijke oorspro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aag risic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inig milieubelas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3ED87-AAD0-4462-9510-6522CAC587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zame stof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560" y="1530360"/>
            <a:ext cx="720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f actieve stof = stof die de werking geeft. Bij Vertimec Gold 18 g/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Formulering = de vorm vlb., poeder of vloeisto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oevoegingen of hulpstoffen om bij droogweer de opname te verbeteren, want de waslaag is 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dunner/dikk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Squall https://youtu.be/l4AdahKG2f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fen Elasto, Hasten zie ook https://www.surfaplus-tr.com/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1B1A9-FF20-4B3E-9F56-6258AB6060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05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ën; Bacillus thurgiensis (Xentari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s; Mycotal, Botaniga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ycorrhiza’s; in symbiose levende bodem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ero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xtra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versterkers om weerstand te verhog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9A7EF-8214-437A-A454-83B4C4B610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55280" y="1557000"/>
            <a:ext cx="64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GN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wasbeschermingsmiddelen van natuurlijk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orspro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Leg uit wat symbiose betek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chimmel krijgt suikers van de plant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lemen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zijn feromonen en wat is hun fun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Lokstoffen om voortplanting te rem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belangrijkste functie van plantversterk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erstand verho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E48E8-11BB-4998-ADAC-2600523DFC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UB lijst </a:t>
            </a:r>
            <a:r>
              <a:rPr b="0" lang="nl-NL" sz="3600" spc="-1" strike="noStrike">
                <a:solidFill>
                  <a:srgbClr val="ff0000"/>
                </a:solidFill>
                <a:latin typeface="Trebuchet MS"/>
              </a:rPr>
              <a:t>afgeschaf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9120" y="193032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geling Uitzondering Bestrijding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en N numm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b. bier tegen slakken en zeep tegen lui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smettings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tegen al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oeiregulato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://wetten.overheid.nl/BWBR0003172/geldigheidsdatum_16-10-2007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F7264-7DE0-4E67-AF04-2C6C04AE6F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920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deling en wer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rbiciden          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iciden       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        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maticiden       aaltj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denticiciden   knaagdie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ciden       bacterië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llusciciden     weekdieren (slak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cariciden          mij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2793C-3865-4BD5-A57A-24DDB28E2D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 door de pl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ekend en zuigende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laminair (door de waslaag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eerlarv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radicatieve (stoppen zichtbare infecties)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00402-B529-4EEA-9D5B-6612BB303D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16080" y="1296720"/>
            <a:ext cx="6992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Wat is het grootste verschil tussen systemisch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 gaat door vaatbund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een eradicatieve fung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 dat zichtbare schimmelinfectie stop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kun je wortelonkruiden het beste m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e middelen bestrijd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ie gaan door de gehele plant en dan wordt alles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ge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 type middelen kun je alleen inzetten t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koming van een 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iet systemisch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53C72-45DA-45DA-A4FB-39490173A3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odem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55280" y="19605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r de plant opgen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ilm in de grond – enkel centimeter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le gr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tegen wortel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roge grond werkt sle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nding Klei-Humus-Complex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rken enkele weken tot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eilijk afbreekbaar = persist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ADC86-E852-4512-A5B3-1D795DD0FA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lad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06160"/>
            <a:ext cx="822960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a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 vb. Roundup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stoffen; plant groeit kap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cpa,mecoprop, fluroxypy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Arial"/>
              </a:rPr>
              <a:t>éé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zaadlobige gewassen tegen dicoty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ekken alleen in blad en worden niet verder vervo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k bij lagere temperat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 zaadonkruid in jong sta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sdoder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38FD1-D442-4A57-8E7B-CFE5D32152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2060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arom werken bodemherbiciden niet tegen gro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un wortels zitten al dieper onder de film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 type middel zet je in tegen 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e blad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9E413-57BD-4A20-A440-F3173D4FCC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38280" y="1844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om bestrijden contactmiddelen g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e worden niet getransporteerd in d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atbundels en dus gaat het onkruid all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vengronds 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Welk type herbicide heeft een lang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awerk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demherb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2546C-ABE9-40D1-BB1E-D06AC6390A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000080"/>
            <a:ext cx="810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ulp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aagstof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iftigheid verla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ulstof     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verdel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los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 oploss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(mengsel van water en poeder) blijft beter zweven en zakt niet naar de bode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at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lie in water = 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 mengen ook i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 goed verdeel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B0ED3-C522-4048-9881-0A5B81FA5F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041480" y="5137200"/>
            <a:ext cx="3314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9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enuwstelsel aanget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etylcholine (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tast het zenuwstelsel aan door 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verstoren prikkeloverdracht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oline-esterase remmende 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prikkeling zenuw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doo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mens en di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rganische fosforverbind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arbamaten (o.a. spierverslapp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yrethroiden (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natuurlijke insekticides, snelle werking en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snelle afbraak door licht en UV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andere d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C5C12-F232-44B0-A6DD-79D4D770B0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1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iproces versto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71640" y="193032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rming chitine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bouwstof voor schimmels en skelet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geleedpotigen zoals insecten, kreeftachtigen en spinn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velling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upsen mineerm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daante verwisseling vers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demha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FD008-CCED-4B86-81E6-4C54E8CBB6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3640" y="1279080"/>
            <a:ext cx="6994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ystemisch tegen zuigende insec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-systemisch tegen vretende insecten (rups, k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techniek belangr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uitvloei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anslaminair (ademhalingsgi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ldoende temp.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3A600-55AB-486E-862A-E3421BB580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ravelling ti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middel druppelen bij laatste druppelbeurt einde d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 middel begin van de dag druppelen zodat het door verdamping goed wordt opgenom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oeveel druppelbeurten zijn nodig denk j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Zeker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ADE4B-0C60-44D5-9073-BF66434525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280" y="1268280"/>
            <a:ext cx="6480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elk proces bij insecten wordt verstoord do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oline-esteraseremm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rikkeloverdracht in zenuwstel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arom werken systemische middelen mind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gen vretende insect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ij krijgen niet voldoende middel b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Hoe kunnen middelen door insecten word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oor huid, ademhaling en m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E65A9-7A9F-48F6-B9F0-58F63C2637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ventione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rijwel nooit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ytotoxisch = giftig/schad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ven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neb, thiram, capt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C33EA-ABE0-4FD3-A5BC-F5968EBFD0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der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ura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n plaats ingrijp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rde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 O.a. strobiluri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s combinatie van meerdere werkzame stoff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kans op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0D899-6AE8-47A6-81C0-5C2BABD5F9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ignu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57360"/>
            <a:ext cx="6500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buline is stofje uit een schimmel dat de stofwisseling verstoord en zeer lage giftigheid voor mens en insecten.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korte veiligheidstermij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ignum = schimmelbestrijder met 2 werkzame stoffen Pyraclostrobuline en Boscalid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resistentie. Ook groener en vitaler gewas (minder uitval) dat meer bestand is tegen ethyleen. Meer productie (10% in graan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1D3E3-14AA-4D46-9320-E7BC4FF605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mat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120" y="1568520"/>
            <a:ext cx="6348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loeiba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 de grond – gasvorm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d alle aaltjessoor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eratuur niet te 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Uitspoeling (2016 verbod?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Korrelvormig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anu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ossen op in het bodemvo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electief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system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venwerking insecten dod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3011E-2E97-4040-8099-F1A4F86E03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ikte waslaag bij groeizaam weer dunn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herbicide vochtige bodem nod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fungiciden hechten beter op droog warm gew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e insecticiden werken het beste bij niet te lage temp, want insecten zijn dan actief. Zon breekt ze eerder a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er, neerslag en wind!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at is het beste mom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7B350-751D-4909-8214-7192D29289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7" dur="indefinite" restart="never" nodeType="tmRoot">
          <p:childTnLst>
            <p:seq>
              <p:cTn id="2098" dur="indefinite" nodeType="mainSeq">
                <p:childTnLst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7226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vloei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en grotere bladbedekk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ch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erkzame stof beter aan het blad hech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nti-schuimmiddel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minder schuim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leur en geurstof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0B011-60CB-4055-8590-459F477C7C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556000" y="3746520"/>
            <a:ext cx="20858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120" y="2781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op basis van poeder en waterige middelen worden moeilijker opgenomen dan oliën en hebben een langere aandroogtijd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AD197-A015-4E7B-BAA9-F47F898A31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7002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der welke omstandigheden is de waslaag du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Groeizaam weer met hoge rv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nneer worden systemische middelen het bes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verdag bij hoge temperatu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79633-3619-4DF5-8E08-DEB1B02C90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optimale omstandigheden voor inz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an contactfungic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oog gewas met zon en beetje wind bij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e lage temperatur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e 2 factoren bepalen het risico van 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laagde schimmel-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fectiedruk en het weer (rv en temp. hoo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18E21-BDD9-4C9B-8CDD-E083145006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iss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damp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nd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2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e berekening in het b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4F043-36FC-4323-B94C-A210047C6D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Te kleine druppel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Sassoon-Primary"/>
              </a:rPr>
              <a:t>(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kleiner dan 30 µm) zijn gevoelig voor emissie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Ze verdampen snel en kunnen gaan zwev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Ze komen uiteindelijk op de bovenzijde van het blad terecht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Ook kunnen ze te weinig actieve stof bevatten voor een goede werking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2AC93-713B-4D52-9767-0F1FAAF6FD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naar oppervlaktewater en grond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de bodem (drainwate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middelen die vanuit de lucht in het oppervlaktewater terechtk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recirculatiewa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condens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Welke emissieroute het meest voorkomt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hangt af van de gebruikte techn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58E48-5BD8-4849-8544-8ADF762FD8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nodeType="clickEffect" fill="hold">
                      <p:stCondLst>
                        <p:cond delay="indefinite"/>
                      </p:stCondLst>
                      <p:childTnLst>
                        <p:par>
                          <p:cTn id="2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9280" y="1623960"/>
            <a:ext cx="68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Bij emissie kom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toegepaste gewasbeschermingsmiddel niet terecht op de plaats waar het moet kom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middel gaat verloren en kan mens en milieu bedreig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Emissie van gewasbeschermingsmiddelen naar het milieu kan via verschillende routes plaatsvin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lucht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kleine druppels die naar buiten waai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verdamping van het middel van het gewas of kasdek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gasvormige middel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bodem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van de plant afdrui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naast het gewas op de grond terecht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aan de bodem worden toegedien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151F5-D58E-4B1A-89A1-51B5F148E5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nodeType="clickEffect" fill="hold">
                      <p:stCondLst>
                        <p:cond delay="indefinite"/>
                      </p:stCondLst>
                      <p:childTnLst>
                        <p:par>
                          <p:cTn id="2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tgev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120" y="18954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tiviteiten beslui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el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nti-drif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n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ogte spuitboo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gestane wind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el 90% minder drif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C4C29-A001-47F1-8231-2461A7F321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3" dur="indefinite" restart="never" nodeType="tmRoot">
          <p:childTnLst>
            <p:seq>
              <p:cTn id="2374" dur="indefinite" nodeType="mainSeq">
                <p:childTnLst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5" dur="10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88136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braak DT-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gradation time = halfwaarde tij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r dan 60 d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 of moeilijk afbreekbaar middel zoals bodemherbic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dap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micro-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22000-755B-4437-B822-F465635FB3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8" dur="indefinite" restart="never" nodeType="tmRoot">
          <p:childTnLst>
            <p:seq>
              <p:cTn id="2429" dur="indefinite" nodeType="mainSeq">
                <p:childTnLst>
                  <p:par>
                    <p:cTn id="2430" nodeType="clickEffect" fill="hold">
                      <p:stCondLst>
                        <p:cond delay="indefinite"/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1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nodeType="clickEffect" fill="hold">
                      <p:stCondLst>
                        <p:cond delay="indefinite"/>
                      </p:stCondLst>
                      <p:childTnLst>
                        <p:par>
                          <p:cTn id="2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0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7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85360" y="1628280"/>
            <a:ext cx="6348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cumula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hoping persistent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keten raakt verstoo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zaam afgebro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 binding Klei-Humus-Comple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-Drinkwaternorm 0,1 microgram/L /middel. Max 0,5 van alle middelen teza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spoeling van middelen naar riool of oppervlakte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5158F-AFA1-4576-B73C-545B600921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Uitvloei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000"/>
            <a:ext cx="6778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ad heeft een waslaag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schermd tegen uitdro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ruppels blijven gro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or uitvloeier loopt druppel uit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bedekking en minder actieve stof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 we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ikk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zaam weer met hoge temp en RV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unn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IS weegt weerbericht mee in dosi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ttp://www.opticrop.nl/default.asp?id=17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C0D67-7EA5-4D6E-BD66-1EAB9D2953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9640" y="1700280"/>
            <a:ext cx="7056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damping van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ge neerslag, sterk verdund met regen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 de gro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oppervlakte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gla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densatie per m</a:t>
            </a:r>
            <a:r>
              <a:rPr b="0" lang="nl-NL" sz="20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las =0,5 liter per dag opvangen als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oor wind verwaaien afh. van druk en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i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6712A-B83F-49CD-905B-C287CDF7EE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160" y="1521000"/>
            <a:ext cx="650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Hoe kunnen gewasbeschermingsmiddelen in h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 terecht k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erdamping, uitspoeling, afspoeling en drif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DT waarde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halfwaarde tijd in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betekent accumulatie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phoping middel in voedselke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first flush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erste water wat op kasdek v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E9EB3-EFC1-4E67-8279-09116F3CE3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9" dur="indefinite" restart="never" nodeType="tmRoot">
          <p:childTnLst>
            <p:seq>
              <p:cTn id="2570" dur="indefinite" nodeType="mainSeq">
                <p:childTnLst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5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nodeType="clickEffect" fill="hold">
                      <p:stCondLst>
                        <p:cond delay="indefinite"/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5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0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lating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519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gewasbeschermingsmiddelen en bioci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lksgezondheids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-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Mobiliteit (uitspoeling, verdamping, absorptie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Persistentie (afbraak) DT of halfwaardetij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 waterorganism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D 50 waarde = letale dosi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C-50 – lethale concentratie &lt; minder dan1% LC 50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EC-50 waarde =effectconcentratie door 50% – binnen 14 dagen reacti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D4FA3-9DBB-4918-A6F5-D1F8A80703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9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nodeType="clickEffect" fill="hold">
                      <p:stCondLst>
                        <p:cond delay="indefinite"/>
                      </p:stCondLst>
                      <p:childTnLst>
                        <p:par>
                          <p:cTn id="2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6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1" dur="1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nodeType="clickEffect" fill="hold">
                      <p:stCondLst>
                        <p:cond delay="indefinite"/>
                      </p:stCondLst>
                      <p:childTnLst>
                        <p:par>
                          <p:cTn id="2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1000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5280" y="15573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 voor 10 jr. in EU land op annex A lijst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ndere landen mogen het middel ook toela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si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ikundige informatie (w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uurkundige informatie (vlampunt etc.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voor de mens (acuut, chronisch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otoxicologische gegevens milieu (bij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D0C87-A9F1-4790-8A81-100EB28D32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1" dur="indefinite" restart="never" nodeType="tmRoot">
          <p:childTnLst>
            <p:seq>
              <p:cTn id="2652" dur="indefinite" nodeType="mainSeq">
                <p:childTnLst>
                  <p:par>
                    <p:cTn id="2653" nodeType="clickEffect" fill="hold">
                      <p:stCondLst>
                        <p:cond delay="indefinite"/>
                      </p:stCondLst>
                      <p:childTnLst>
                        <p:par>
                          <p:cTn id="2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nodeType="clickEffect" fill="hold">
                      <p:stCondLst>
                        <p:cond delay="indefinite"/>
                      </p:stCondLst>
                      <p:childTnLst>
                        <p:par>
                          <p:cTn id="2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6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1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cotoxicologische gegevens </a:t>
            </a:r>
            <a:r>
              <a:rPr b="0" lang="nl-NL" sz="3000" spc="-1" strike="noStrike">
                <a:solidFill>
                  <a:srgbClr val="90c226"/>
                </a:solidFill>
                <a:latin typeface="Trebuchet MS"/>
              </a:rPr>
              <a:t>(giftigheid van het milieu)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30360" y="204588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MR stoff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arcino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ankerverwek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uta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NA verander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productietoxisch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oortplant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https://zoek.officielebekendmakingen.nl/stcrt-2014-6.html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 en P z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zzard =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caution = voorzor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53203-D16B-4DB9-9409-FBE74EC1E0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nodeType="clickEffect" fill="hold">
                      <p:stCondLst>
                        <p:cond delay="indefinite"/>
                      </p:stCondLst>
                      <p:childTnLst>
                        <p:par>
                          <p:cTn id="2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9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6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1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53520" y="1844640"/>
            <a:ext cx="717084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LM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(Centrum Landbouw en Milieu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0 mbp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milieu belastingspunten)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 mbp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slot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A4E68-4DD8-4BCC-9400-51CA5DF3E1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4" dur="indefinite" restart="never" nodeType="tmRoot">
          <p:childTnLst>
            <p:seq>
              <p:cTn id="2745" dur="indefinite" nodeType="mainSeq">
                <p:childTnLst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9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nodeType="clickEffect" fill="hold">
                      <p:stCondLst>
                        <p:cond delay="indefinite"/>
                      </p:stCondLst>
                      <p:childTnLst>
                        <p:par>
                          <p:cTn id="2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3" dur="10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4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nodeType="clickEffect" fill="hold">
                      <p:stCondLst>
                        <p:cond delay="indefinite"/>
                      </p:stCondLst>
                      <p:childTnLst>
                        <p:par>
                          <p:cTn id="2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10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rdentoelatin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53880" y="1488960"/>
            <a:ext cx="63468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 kleine gewassen kan een toelating worden georganis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U zone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nnex-A lij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99ECE-C58D-471F-BA06-D7FC334808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614680" y="2344680"/>
            <a:ext cx="43434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1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onicotinoiden; </a:t>
            </a: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imidacloprid, thiamethoxam, clothianidine</a:t>
            </a: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09120" y="25257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emische stof afgeleid van nicotin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eden tabaksplant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ucho als zaadbehand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mire als systemisch insectic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den insect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antal vogelsoorten da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ensterfte of toch de varroamij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BADCE-2234-4FF1-A9DA-42AE5B2DC5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nodeType="clickEffect" fill="hold">
                      <p:stCondLst>
                        <p:cond delay="indefinite"/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2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nodeType="clickEffect" fill="hold">
                      <p:stCondLst>
                        <p:cond delay="indefinite"/>
                      </p:stCondLst>
                      <p:childTnLst>
                        <p:par>
                          <p:cTn id="2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9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9640" y="1397160"/>
            <a:ext cx="82296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betek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uta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NA verande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productietox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vaar voor voortplan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arci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ankerverwekk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braaksnelhei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E2427-E847-437E-B92A-3FE393E5DD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nodeType="clickEffect" fill="hold">
                      <p:stCondLst>
                        <p:cond delay="indefinite"/>
                      </p:stCondLst>
                      <p:childTnLst>
                        <p:par>
                          <p:cTn id="2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62864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een derdentoelat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lating voor middelen met al een toelating i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ot gewas dat ook in kleine gewassen word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ge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Gelden voor toelating middelen in Nederland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anje dezelfde regel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, elk land heeft zijn eigen toelatingseisen. Bij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eoordeling wordt gelet op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limaatomstandighe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11434-7ACC-4751-BC41-734C9756C6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nodeType="clickEffect" fill="hold">
                      <p:stCondLst>
                        <p:cond delay="indefinite"/>
                      </p:stCondLst>
                      <p:childTnLst>
                        <p:par>
                          <p:cTn id="2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functie van een uitvloei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uppel laten uitvloeien voor een betere bladbedekk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wordt bedoeld met de formuler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van het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Onder welke weersomstandigheden hebben planten een dunnere waslaa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eizaam weer met hoge Rv en hoge tem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63BFC-E313-4C07-B4F6-C9E86D7C51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gelijkt effecten verschill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spoeling grondwater afh. Org stof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bodemleven (wormen, etc) DT waarde en LC waar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waterleven (standaard 1% drift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</a:t>
            </a:r>
            <a:r>
              <a:rPr b="1" lang="nl-NL" sz="2000" spc="-1" strike="noStrike">
                <a:solidFill>
                  <a:srgbClr val="92d05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8B754-99CB-4942-8E4D-D7BA73A5EA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nodeType="clickEffect" fill="hold">
                      <p:stCondLst>
                        <p:cond delay="indefinite"/>
                      </p:stCondLst>
                      <p:childTnLst>
                        <p:par>
                          <p:cTn id="2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nodeType="clickEffect" fill="hold">
                      <p:stCondLst>
                        <p:cond delay="indefinite"/>
                      </p:stCondLst>
                      <p:childTnLst>
                        <p:par>
                          <p:cTn id="2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ergelijk 3 bladluis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6560" y="1844280"/>
            <a:ext cx="82108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erleven Bodeml grondwater  risic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cis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51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alypso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3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epekk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  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s Decis gaat 5x over wettelijke n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C2936-6FE6-4572-94A4-919F664872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6" dur="indefinite" restart="never" nodeType="tmRoot">
          <p:childTnLst>
            <p:seq>
              <p:cTn id="2927" dur="indefinite" nodeType="mainSeq">
                <p:childTnLst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2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meetlat kas-teel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4360" y="1930320"/>
            <a:ext cx="6346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ering L of Kg / h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passingswijz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antal toepassingen/ seizo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issie bij ruimtebehandeling door afluchten tot 40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ximaal toelaatbaar Risico ½ dag na toepassing vaststel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veelheid waarbij 95 % toetsorganismen geen reactie g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96B1C-23A6-452B-B270-5CF503AC36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nodeType="clickEffect" fill="hold">
                      <p:stCondLst>
                        <p:cond delay="indefinite"/>
                      </p:stCondLst>
                      <p:childTnLst>
                        <p:par>
                          <p:cTn id="2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9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7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5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483920"/>
            <a:ext cx="699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 zijn de milieu belastingspunten in d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meetlat van afgele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n de mate van uitspoeling naar grondwater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iftigheid bodem en waterle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MTR van een middel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oeveel middel waarbij 95% van organismen na 12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uur geen reactie laat zi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nneer is emissie naar de lucht het groots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uimtebehandel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EDA4B-E388-48A3-A151-C13E33C763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5" dur="indefinite" restart="never" nodeType="tmRoot">
          <p:childTnLst>
            <p:seq>
              <p:cTn id="2976" dur="indefinite" nodeType="mainSeq">
                <p:childTnLst>
                  <p:par>
                    <p:cTn id="2977" nodeType="clickEffect" fill="hold">
                      <p:stCondLst>
                        <p:cond delay="indefinite"/>
                      </p:stCondLst>
                      <p:childTnLst>
                        <p:par>
                          <p:cTn id="2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nodeType="clickEffect" fill="hold">
                      <p:stCondLst>
                        <p:cond delay="indefinite"/>
                      </p:stCondLst>
                      <p:childTnLst>
                        <p:par>
                          <p:cTn id="2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ewasbeschermingsmiddelen e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929960"/>
            <a:ext cx="6348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 ontstaat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netische verand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rking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ne / polygene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antal toepassingen, doseringen en 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hebben een werking dichtbij de natuurlijke werk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door soms minder gevoelige individu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netische 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unnen onkruiden ook resistent worden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Ja, denk aan brandnetel bij glyfos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nodeType="clickEffect" fill="hold">
                      <p:stCondLst>
                        <p:cond delay="indefinite"/>
                      </p:stCondLst>
                      <p:childTnLst>
                        <p:par>
                          <p:cTn id="2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5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8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4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nodeType="clickEffect" fill="hold">
                      <p:stCondLst>
                        <p:cond delay="indefinite"/>
                      </p:stCondLst>
                      <p:childTnLst>
                        <p:par>
                          <p:cTn id="3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nodeType="clickEffect" fill="hold">
                      <p:stCondLst>
                        <p:cond delay="indefinite"/>
                      </p:stCondLst>
                      <p:childTnLst>
                        <p:par>
                          <p:cTn id="3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6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1" dur="1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delay="indefinite"/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79280" y="1557360"/>
            <a:ext cx="70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sist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en  - binnen een j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 – binnen enkele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- binnen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ing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 vb tegen energieoverdracht en aanmaak eiwitten. Dus grijpen in op verschillende levensprocessen in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gevoelig voo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e grijpen vaak in één proces i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nodeType="clickEffect" fill="hold">
                      <p:stCondLst>
                        <p:cond delay="indefinite"/>
                      </p:stCondLst>
                      <p:childTnLst>
                        <p:par>
                          <p:cTn id="3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1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9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nodeType="clickEffect" fill="hold">
                      <p:stCondLst>
                        <p:cond delay="indefinite"/>
                      </p:stCondLst>
                      <p:childTnLst>
                        <p:par>
                          <p:cTn id="3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Komkommerbontvirus (CGMMV)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160" y="2349360"/>
            <a:ext cx="6500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l 10 resistente rass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mmuun; geen aantasting door de ziekt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resistentie = beide ouderlijnen zijn resistent. Bij hoge ziektedruk soms enige sympt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ermediaire resistentie= 1 ouderlijn is resistent. Meer schade en symptomen bij ziektedruk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8" dur="indefinite" restart="never" nodeType="tmRoot">
          <p:childTnLst>
            <p:seq>
              <p:cTn id="3089" dur="indefinite" nodeType="mainSeq">
                <p:childTnLst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6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1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2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360" y="162864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no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sistentie berustend op 1 gen of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1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ly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er dan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éé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 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, volledige resistentie bij 3 g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urt lang voordat alle nakomelingen dit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4" dur="indefinite" restart="never" nodeType="tmRoot">
          <p:childTnLst>
            <p:seq>
              <p:cTn id="3115" dur="indefinite" nodeType="mainSeq">
                <p:childTnLst>
                  <p:par>
                    <p:cTn id="3116" nodeType="clickEffect" fill="hold">
                      <p:stCondLst>
                        <p:cond delay="indefinite"/>
                      </p:stCondLst>
                      <p:childTnLst>
                        <p:par>
                          <p:cTn id="3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0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1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7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4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1" dur="1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6" dur="10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8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1" dur="10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8000" y="1773360"/>
            <a:ext cx="712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toepassingen, doseringen en persistentie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lke toepassing selecteer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dosering versnel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al bij monogene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polygene resistentie stapsgewijze opbou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ersistente middelen (bodemherbiciden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 aanwezig, dus doden lang de gevoelige en niet de ongevoel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4" dur="indefinite" restart="never" nodeType="tmRoot">
          <p:childTnLst>
            <p:seq>
              <p:cTn id="3155" dur="indefinite" nodeType="mainSeq">
                <p:childTnLst>
                  <p:par>
                    <p:cTn id="3156" nodeType="clickEffect" fill="hold">
                      <p:stCondLst>
                        <p:cond delay="indefinite"/>
                      </p:stCondLst>
                      <p:childTnLst>
                        <p:par>
                          <p:cTn id="3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nodeType="clickEffect" fill="hold">
                      <p:stCondLst>
                        <p:cond delay="indefinite"/>
                      </p:stCondLst>
                      <p:childTnLst>
                        <p:par>
                          <p:cTn id="3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2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nodeType="clickEffect" fill="hold">
                      <p:stCondLst>
                        <p:cond delay="indefinite"/>
                      </p:stCondLst>
                      <p:childTnLst>
                        <p:par>
                          <p:cTn id="3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9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nodeType="clickEffect" fill="hold">
                      <p:stCondLst>
                        <p:cond delay="indefinite"/>
                      </p:stCondLst>
                      <p:childTnLst>
                        <p:par>
                          <p:cTn id="3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1" dur="10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8" dur="10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9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electiedru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1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oort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ogte doser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antal toepassi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elvuldig moeilijk afbreekbaar in ho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La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nel afbreekbaar, incidentele toepassing, la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1" dur="indefinite" restart="never" nodeType="tmRoot">
          <p:childTnLst>
            <p:seq>
              <p:cTn id="3202" dur="indefinite" nodeType="mainSeq">
                <p:childTnLst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7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nodeType="clickEffect" fill="hold">
                      <p:stCondLst>
                        <p:cond delay="indefinite"/>
                      </p:stCondLst>
                      <p:childTnLst>
                        <p:par>
                          <p:cTn id="3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4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nodeType="clickEffect" fill="hold">
                      <p:stCondLst>
                        <p:cond delay="indefinite"/>
                      </p:stCondLst>
                      <p:childTnLst>
                        <p:par>
                          <p:cTn id="3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1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nodeType="clickEffect" fill="hold">
                      <p:stCondLst>
                        <p:cond delay="indefinite"/>
                      </p:stCondLst>
                      <p:childTnLst>
                        <p:par>
                          <p:cTn id="3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8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3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6840" y="1488600"/>
            <a:ext cx="75708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Zoals door de fabrikant samengestel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oeder en korr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uitpoeder (werkzame stof met kalk als vulstof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–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an stuiven bij het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plosbare verpakkingen mog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mt bij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en met hoge concentrati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erkt – lage concentratie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el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8C827-771C-4E4A-96F8-F0E8AD2ECA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derne middelen vaak systemisch. Werken maar op 1 pro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port in plant dus vooral curatief toepass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-systemische middelen preventief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99B4C-51B4-42F9-9C8A-5D05658352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8" dur="indefinite" restart="never" nodeType="tmRoot">
          <p:childTnLst>
            <p:seq>
              <p:cTn id="3249" dur="indefinite" nodeType="mainSeq">
                <p:childTnLst>
                  <p:par>
                    <p:cTn id="3250" nodeType="clickEffect" fill="hold">
                      <p:stCondLst>
                        <p:cond delay="indefinite"/>
                      </p:stCondLst>
                      <p:childTnLst>
                        <p:par>
                          <p:cTn id="3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4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nodeType="clickEffect" fill="hold">
                      <p:stCondLst>
                        <p:cond delay="indefinite"/>
                      </p:stCondLst>
                      <p:childTnLst>
                        <p:par>
                          <p:cTn id="3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1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4" nodeType="clickEffect" fill="hold">
                      <p:stCondLst>
                        <p:cond delay="indefinite"/>
                      </p:stCondLst>
                      <p:childTnLst>
                        <p:par>
                          <p:cTn id="3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8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150920"/>
            <a:ext cx="65628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verschil tussen monogene en polygen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 berust op 1 gen of eigenschap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resistentie kan zich het snels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wikkel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factoren bepalen de selectiedruk va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et middel, dosering, persistentie en aantal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passing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A4AD8-4C4B-41E5-AF63-0E7107318C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1" dur="indefinite" restart="never" nodeType="tmRoot">
          <p:childTnLst>
            <p:seq>
              <p:cTn id="3272" dur="indefinite" nodeType="mainSeq">
                <p:childTnLst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nodeType="clickEffect" fill="hold">
                      <p:stCondLst>
                        <p:cond delay="indefinite"/>
                      </p:stCondLst>
                      <p:childTnLst>
                        <p:par>
                          <p:cTn id="3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delay="indefinite"/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ruis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560" y="1197000"/>
            <a:ext cx="79311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uit dezelfde chemisch groe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jken op elk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en meestal volgens het zelfde princi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elde en nachtscha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trazin, Sencor, Golti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Insecticiden  - choline-esterase remm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ect maakt meer choline-esterase waardoor andere choline estraseremmers ook niet meer hel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elfde werking ook in andere chemische groe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tabolische resistentie: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(grijpt in dezelf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stofwisselingsproces, maar komen uit verschillen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chemische groep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nodeType="clickEffect" fill="hold">
                      <p:stCondLst>
                        <p:cond delay="indefinite"/>
                      </p:stCondLst>
                      <p:childTnLst>
                        <p:par>
                          <p:cTn id="3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1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nodeType="clickEffect" fill="hold">
                      <p:stCondLst>
                        <p:cond delay="indefinite"/>
                      </p:stCondLst>
                      <p:childTnLst>
                        <p:par>
                          <p:cTn id="3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8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3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4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nodeType="clickEffect" fill="hold">
                      <p:stCondLst>
                        <p:cond delay="indefinite"/>
                      </p:stCondLst>
                      <p:childTnLst>
                        <p:par>
                          <p:cTn id="3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0" dur="10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1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5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6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nodeType="clickEffect" fill="hold">
                      <p:stCondLst>
                        <p:cond delay="indefinite"/>
                      </p:stCondLst>
                      <p:childTnLst>
                        <p:par>
                          <p:cTn id="3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2" dur="10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3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9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0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delay="indefinite"/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6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1" dur="1000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kruis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lle middelen uit een groep werken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er omdat ze werken via zelfde princip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metabolische 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secticiden die uit verschillende groep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omen maar volgens zelfde principe werk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laan niet meer a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15006-ECE2-4F44-B780-73BDF5179A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nodeType="clickEffect" fill="hold">
                      <p:stCondLst>
                        <p:cond delay="indefinite"/>
                      </p:stCondLst>
                      <p:childTnLst>
                        <p:par>
                          <p:cTn id="3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7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8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 kun je doen tegen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o min mogelijk chemisch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ïntegre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sistentie rassen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trijdingsdrem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chanisch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0" dur="indefinite" restart="never" nodeType="tmRoot">
          <p:childTnLst>
            <p:seq>
              <p:cTn id="3361" dur="indefinite" nodeType="mainSeq">
                <p:childTnLst>
                  <p:par>
                    <p:cTn id="3362" nodeType="clickEffect" fill="hold">
                      <p:stCondLst>
                        <p:cond delay="indefinite"/>
                      </p:stCondLst>
                      <p:childTnLst>
                        <p:par>
                          <p:cTn id="3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nodeType="clickEffect" fill="hold">
                      <p:stCondLst>
                        <p:cond delay="indefinite"/>
                      </p:stCondLst>
                      <p:childTnLst>
                        <p:par>
                          <p:cTn id="3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6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1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4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nodeType="clickEffect" fill="hold">
                      <p:stCondLst>
                        <p:cond delay="indefinite"/>
                      </p:stCondLst>
                      <p:childTnLst>
                        <p:par>
                          <p:cTn id="3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9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nodeType="clickEffect" fill="hold">
                      <p:stCondLst>
                        <p:cond delay="indefinite"/>
                      </p:stCondLst>
                      <p:childTnLst>
                        <p:par>
                          <p:cTn id="3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4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8360" y="2060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eng middelen met ander werkings-mechanisme vb. selectief systemisch met breedwerkend preventie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issel middelen uit andere chemische groepen a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o mogelijk vruchtwiss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5" dur="indefinite" restart="never" nodeType="tmRoot">
          <p:childTnLst>
            <p:seq>
              <p:cTn id="3396" dur="indefinite" nodeType="mainSeq">
                <p:childTnLst>
                  <p:par>
                    <p:cTn id="3397" nodeType="clickEffect" fill="hold">
                      <p:stCondLst>
                        <p:cond delay="indefinite"/>
                      </p:stCondLst>
                      <p:childTnLst>
                        <p:par>
                          <p:cTn id="3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1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nodeType="clickEffect" fill="hold">
                      <p:stCondLst>
                        <p:cond delay="indefinite"/>
                      </p:stCondLst>
                      <p:childTnLst>
                        <p:par>
                          <p:cTn id="3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8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9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nodeType="clickEffect" fill="hold">
                      <p:stCondLst>
                        <p:cond delay="indefinite"/>
                      </p:stCondLst>
                      <p:childTnLst>
                        <p:par>
                          <p:cTn id="3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5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ti-resistentie strategieë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38280" y="1903320"/>
            <a:ext cx="634824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nito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abrik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ende adviezen bij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ch bru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fitness; resistente stam minder gevoelig dan oorspronkelijke stam.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ddel beperkt inzet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esistente stam wordt weggeconcurreerd door oorspronkelijke st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8" dur="indefinite" restart="never" nodeType="tmRoot">
          <p:childTnLst>
            <p:seq>
              <p:cTn id="3419" dur="indefinite" nodeType="mainSeq">
                <p:childTnLst>
                  <p:par>
                    <p:cTn id="3420" nodeType="clickEffect" fill="hold">
                      <p:stCondLst>
                        <p:cond delay="indefinite"/>
                      </p:stCondLst>
                      <p:childTnLst>
                        <p:par>
                          <p:cTn id="3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4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nodeType="clickEffect" fill="hold">
                      <p:stCondLst>
                        <p:cond delay="indefinite"/>
                      </p:stCondLst>
                      <p:childTnLst>
                        <p:par>
                          <p:cTn id="3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1" dur="1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8" dur="1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3" dur="1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8" dur="1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9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nodeType="clickEffect" fill="hold">
                      <p:stCondLst>
                        <p:cond delay="indefinite"/>
                      </p:stCondLst>
                      <p:childTnLst>
                        <p:par>
                          <p:cTn id="3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5" dur="10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6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irac-online.org/modes-of-action/ insect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frac.info/ schimm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hracglobal.com/pages/classificationofherbicidesiteofaction.aspx onkru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C40BE-A685-44AC-81B7-D6359B3971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kruid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00000" y="2160360"/>
            <a:ext cx="6346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v. Dui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otosynthese 1 en 2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C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LS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tsynthese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33953-B8B2-4044-8859-A904DA7B51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8" dur="indefinite" restart="never" nodeType="tmRoot">
          <p:childTnLst>
            <p:seq>
              <p:cTn id="3459" dur="indefinite" nodeType="mainSeq">
                <p:childTnLst>
                  <p:par>
                    <p:cTn id="3460" nodeType="clickEffect" fill="hold">
                      <p:stCondLst>
                        <p:cond delay="indefinite"/>
                      </p:stCondLst>
                      <p:childTnLst>
                        <p:par>
                          <p:cTn id="3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4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5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4" dur="10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9" dur="10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0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1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chimmel resistenti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55280" y="21254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mmels in graan en aardappel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bilurinen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henilamid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ccinate dehydrogen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AFCD9-ADA4-48D6-A30D-C835FBA9EF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2" dur="indefinite" restart="never" nodeType="tmRoot">
          <p:childTnLst>
            <p:seq>
              <p:cTn id="3483" dur="indefinite" nodeType="mainSeq">
                <p:childTnLst>
                  <p:par>
                    <p:cTn id="3484" nodeType="clickEffect" fill="hold">
                      <p:stCondLst>
                        <p:cond delay="indefinite"/>
                      </p:stCondLst>
                      <p:childTnLst>
                        <p:par>
                          <p:cTn id="3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8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9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3" dur="1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4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8" dur="10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9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104840"/>
            <a:ext cx="6562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euze werkzame stof, formulering en eventueel hulpstoff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na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rooi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evel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ok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ven Gassen (LVM Fog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Quick dip of phyto dri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s://youtu.be/ISDN8SiNoMY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6CFBD-3D34-4795-ABC8-9CC32561DC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683160" y="1916280"/>
            <a:ext cx="29955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Toch Resistent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700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s het wel resistenti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dosis of toevoe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poten op het verkeerde mom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spuittechniek of apparat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role registrati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act met leverancier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roefbespuit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larm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1" dur="indefinite" restart="never" nodeType="tmRoot">
          <p:childTnLst>
            <p:seq>
              <p:cTn id="3502" dur="indefinite" nodeType="mainSeq">
                <p:childTnLst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8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nodeType="clickEffect" fill="hold">
                      <p:stCondLst>
                        <p:cond delay="indefinite"/>
                      </p:stCondLst>
                      <p:childTnLst>
                        <p:par>
                          <p:cTn id="3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4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5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9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0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4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9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nodeType="clickEffect" fill="hold">
                      <p:stCondLst>
                        <p:cond delay="indefinite"/>
                      </p:stCondLst>
                      <p:childTnLst>
                        <p:par>
                          <p:cTn id="3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6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9" nodeType="clickEffect" fill="hold">
                      <p:stCondLst>
                        <p:cond delay="indefinite"/>
                      </p:stCondLst>
                      <p:childTnLst>
                        <p:par>
                          <p:cTn id="3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nodeType="clickEffect" fill="hold">
                      <p:stCondLst>
                        <p:cond delay="indefinite"/>
                      </p:stCondLst>
                      <p:childTnLst>
                        <p:par>
                          <p:cTn id="3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0" dur="10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7" dur="10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mechanis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32880" y="1341360"/>
            <a:ext cx="6348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ntgiftiging vindt sneller en doeltreffender plaat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Er is iets veranderd op de plaats van werking(het aangrijpingspun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eemt minder middel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laagde penetra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ast zijn gedrag aa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eidt het middel uit of slaat het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et middel wordt geïnactiveer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0" dur="indefinite" restart="never" nodeType="tmRoot">
          <p:childTnLst>
            <p:seq>
              <p:cTn id="3561" dur="indefinite" nodeType="mainSeq">
                <p:childTnLst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6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nodeType="clickEffect" fill="hold">
                      <p:stCondLst>
                        <p:cond delay="indefinite"/>
                      </p:stCondLst>
                      <p:childTnLst>
                        <p:par>
                          <p:cTn id="3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3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4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nodeType="clickEffect" fill="hold">
                      <p:stCondLst>
                        <p:cond delay="indefinite"/>
                      </p:stCondLst>
                      <p:childTnLst>
                        <p:par>
                          <p:cTn id="3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0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1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5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2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nodeType="clickEffect" fill="hold">
                      <p:stCondLst>
                        <p:cond delay="indefinite"/>
                      </p:stCondLst>
                      <p:childTnLst>
                        <p:par>
                          <p:cTn id="3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9" dur="10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nodeType="clickEffect" fill="hold">
                      <p:stCondLst>
                        <p:cond delay="indefinite"/>
                      </p:stCondLst>
                      <p:childTnLst>
                        <p:par>
                          <p:cTn id="3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6" dur="10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tstaa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09480" y="1700280"/>
            <a:ext cx="68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rfelijke eigenscha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pulatiedynam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nscycl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van voortplan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tal nakomel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leving in ongunstige omstandig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en snelheid van verspre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9" dur="indefinite" restart="never" nodeType="tmRoot">
          <p:childTnLst>
            <p:seq>
              <p:cTn id="3610" dur="indefinite" nodeType="mainSeq">
                <p:childTnLst>
                  <p:par>
                    <p:cTn id="3611" nodeType="clickEffect" fill="hold">
                      <p:stCondLst>
                        <p:cond delay="indefinite"/>
                      </p:stCondLst>
                      <p:childTnLst>
                        <p:par>
                          <p:cTn id="3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nodeType="clickEffect" fill="hold">
                      <p:stCondLst>
                        <p:cond delay="indefinite"/>
                      </p:stCondLst>
                      <p:childTnLst>
                        <p:par>
                          <p:cTn id="3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7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8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nodeType="clickEffect" fill="hold">
                      <p:stCondLst>
                        <p:cond delay="indefinite"/>
                      </p:stCondLst>
                      <p:childTnLst>
                        <p:par>
                          <p:cTn id="3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4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5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9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0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4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5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9" dur="10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0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4" dur="10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5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6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18:29Z</dcterms:created>
  <dc:creator>A. Bok</dc:creator>
  <dc:description/>
  <dc:language>en-US</dc:language>
  <cp:lastModifiedBy>Douwe Jan de Jong</cp:lastModifiedBy>
  <dcterms:modified xsi:type="dcterms:W3CDTF">2018-10-10T07:27:16Z</dcterms:modified>
  <cp:revision>111</cp:revision>
  <dc:subject/>
  <dc:title>Hoofdstuk 3</dc:title>
</cp:coreProperties>
</file>