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CCA7-5964-4EED-A9B9-822234119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CE60-5766-44DD-AF25-32B10B7E3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E10D-445C-4056-AA7D-48E0AD8E7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0C3D-5AB3-4150-9C94-A606421F7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57C61-54B8-4905-A386-3300EAEAE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BBBD5-7652-4D6E-A74B-C39F8F096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0B0F8-C009-491F-8E0E-70D54F332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F0609-C037-4871-A444-AD85A2F15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C8C48-BF61-4D35-9284-0FFD3EB28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9FBE2-E37B-4CD1-B9FF-B8E9E3FDB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C570D-0825-4EE4-8F75-698153ED4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DF48-00B4-47D2-B35B-E5BDF00D4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2595B-6134-4715-83BC-2B922F97A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85059-2FB9-434D-8D52-0E193F89F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68889-CA3C-4476-8CF3-FD573343B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B340B-6D1A-4C51-8CE4-E4C7F44FE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781F1-3E8B-4E7D-A10D-F4922412F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CFA75-BC84-4EAC-B41D-ED7FCA8EF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86884-3255-4B7C-B5A5-1E6B1D679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3A6B4-4835-4B36-8AE6-48D688D23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77AC8-1BBC-47D2-8C5D-33CA06147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09FD9-3587-453F-BDC0-4720C3502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BD02-46F1-475D-B10F-06EA5D154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2DB95-F7A9-4499-99D6-6CD31D851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F5862-2B03-4C48-AA37-8C7568A2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6D998-E5D8-4FF9-A650-5E47B66CF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782F0-C566-4207-84DA-BF9BBBDC6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6E552-51A3-432C-9DFB-576EB045B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AC203-1F60-4746-A7F0-8A1181C80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FF6AC-86DF-4A7F-A1E1-06C82151F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C84B9-00AF-4AD3-80DF-1CB88F615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43D36-03AA-414A-8DB7-84781BDC5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5ADD8C-D644-4306-BCB6-89F74593E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A1F9-46FF-45A0-8113-B6B236CAB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E52A4-BB25-4460-A343-42288E893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5799D-886B-4426-A4A0-E5D86E2BE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1A20E-72BE-4214-A003-5C8F53134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04DD9-BAC9-434C-910C-B99CA4881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944FB-50E9-407D-A1FD-9985E341C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C98EB-7D30-493F-A048-9C6074FA3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D8F19-E842-401E-99A7-330758867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532AF-7DB7-4D54-82E0-7650DE12F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F7D64-93FD-4B30-9952-26BB6F7B9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7B9F-E0F9-47D1-8C78-F4F971EC4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E307-8C70-43A1-BC47-35944F166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9D17-99DE-4020-A525-2356061E1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78C1-4E98-45CD-956D-0445BAE9D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9416-2EF2-4B17-A1DA-12CBE7C0F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F12A53-05B5-43F1-97A9-1A9E7F165477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6C2556-6FB1-42A1-BEC9-D499A19F1CE2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123C7A-71DB-4FA1-B27E-85E3634AA57A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E8817A-31F3-4154-8746-BC1FF01D13CE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30400" y="2404800"/>
            <a:ext cx="582768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90c226"/>
                </a:solidFill>
                <a:latin typeface="Trebuchet MS"/>
              </a:rPr>
              <a:t>Hoofdstuk 3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130400" y="4051080"/>
            <a:ext cx="582768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7f7f7f"/>
                </a:solidFill>
                <a:latin typeface="Trebuchet MS"/>
              </a:rPr>
              <a:t>Chemische gewasbescherm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1FBADD-A819-4363-A450-77165DCB8FE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4345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Formuleringscode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268280"/>
            <a:ext cx="8229600" cy="47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AE; aerosol, middel in spuitbus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EC; emulsieconcentraat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GR; granulaat, strooikorr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SC; suspensie concentra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SL; water oplosbaar concentra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SP; water oplosbaar poeder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WG; waterdispergeerbaar granula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DP; stuifpoeder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EW; emulsie in water formulering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495036-4D57-40C2-A880-0A74CC61BD6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68000" y="12240"/>
            <a:ext cx="72248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Formulering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4920" y="1033560"/>
            <a:ext cx="8229600" cy="52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Poeder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Werkzame stof met kalk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Zichtbaar residu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tuift bij afweg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WOF (water oplosbaar folie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Stuifpoeder DP nog maar weinig gebruik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Spuitkorrel WG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Poeders in korrelvorm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tuift minder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Makkelijk af te weg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Lang te bewar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Lost iets moeilijker op. Vb.Pirimor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64E1F5-9ADD-44D5-9621-BC15D91E0B6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1"/>
          <a:stretch/>
        </p:blipFill>
        <p:spPr>
          <a:xfrm>
            <a:off x="3840120" y="271440"/>
            <a:ext cx="3087720" cy="21319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5" descr=""/>
          <p:cNvPicPr/>
          <p:nvPr/>
        </p:nvPicPr>
        <p:blipFill>
          <a:blip r:embed="rId2"/>
          <a:stretch/>
        </p:blipFill>
        <p:spPr>
          <a:xfrm>
            <a:off x="5580000" y="3357720"/>
            <a:ext cx="173052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2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2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2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2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2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2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Poeders in korrelvorm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2" name="Tijdelijke aanduiding voor dianumm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048F35-D5E8-4670-B476-24BA4F799B15}" type="slidenum">
              <a:rPr b="0" lang="nl-NL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3" name="Picture 6" descr=""/>
          <p:cNvPicPr/>
          <p:nvPr/>
        </p:nvPicPr>
        <p:blipFill>
          <a:blip r:embed="rId1"/>
          <a:stretch/>
        </p:blipFill>
        <p:spPr>
          <a:xfrm>
            <a:off x="291960" y="2422440"/>
            <a:ext cx="1428840" cy="20001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7" descr=""/>
          <p:cNvPicPr/>
          <p:nvPr/>
        </p:nvPicPr>
        <p:blipFill>
          <a:blip r:embed="rId2"/>
          <a:stretch/>
        </p:blipFill>
        <p:spPr>
          <a:xfrm>
            <a:off x="2055960" y="3637080"/>
            <a:ext cx="1428480" cy="20001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8" descr=""/>
          <p:cNvPicPr/>
          <p:nvPr/>
        </p:nvPicPr>
        <p:blipFill>
          <a:blip r:embed="rId3"/>
          <a:stretch/>
        </p:blipFill>
        <p:spPr>
          <a:xfrm>
            <a:off x="3807000" y="2422440"/>
            <a:ext cx="1428480" cy="20001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9" descr=""/>
          <p:cNvPicPr/>
          <p:nvPr/>
        </p:nvPicPr>
        <p:blipFill>
          <a:blip r:embed="rId4"/>
          <a:stretch/>
        </p:blipFill>
        <p:spPr>
          <a:xfrm>
            <a:off x="5651640" y="3637080"/>
            <a:ext cx="14284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12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Formulering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23760" y="111276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Granulaat GR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korrel vb. bodemherbiciden, nematiciden en systemische insecticid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Makkelijk toedien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Strooimiddel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Korrel met lokstof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lak en muizen 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Vloeibare middel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Flowable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Emulgeerbaar concentraa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emulsi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9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4E03D8-2DBA-4E57-A561-1407C7019EA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0" name="Picture 4" descr=""/>
          <p:cNvPicPr/>
          <p:nvPr/>
        </p:nvPicPr>
        <p:blipFill>
          <a:blip r:embed="rId1"/>
          <a:stretch/>
        </p:blipFill>
        <p:spPr>
          <a:xfrm>
            <a:off x="4067280" y="2060640"/>
            <a:ext cx="320976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2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2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2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2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2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2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2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2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2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58920" y="165240"/>
            <a:ext cx="8229600" cy="77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Vloeibare middel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0" y="100620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Flowables of suspensie concentraat SC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(poeder zweeft in water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Dispergeermiddel tegen uitzakk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chudden voor gebruik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orstvrij bewar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Geeft residu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Toevoeging flow of SC. Vb. Decis Flow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Opname door het blad minder – water en waslaa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9FE54C-4634-4BC4-A337-A6B38D89690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4" name="Picture 4" descr=""/>
          <p:cNvPicPr/>
          <p:nvPr/>
        </p:nvPicPr>
        <p:blipFill>
          <a:blip r:embed="rId1"/>
          <a:stretch/>
        </p:blipFill>
        <p:spPr>
          <a:xfrm>
            <a:off x="5373720" y="1670040"/>
            <a:ext cx="1890720" cy="1944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5" descr=""/>
          <p:cNvPicPr/>
          <p:nvPr/>
        </p:nvPicPr>
        <p:blipFill>
          <a:blip r:embed="rId2"/>
          <a:stretch/>
        </p:blipFill>
        <p:spPr>
          <a:xfrm>
            <a:off x="2556000" y="4659480"/>
            <a:ext cx="1428480" cy="20001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6" descr=""/>
          <p:cNvPicPr/>
          <p:nvPr/>
        </p:nvPicPr>
        <p:blipFill>
          <a:blip r:embed="rId3"/>
          <a:stretch/>
        </p:blipFill>
        <p:spPr>
          <a:xfrm>
            <a:off x="668160" y="4651200"/>
            <a:ext cx="1428840" cy="20005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7" descr=""/>
          <p:cNvPicPr/>
          <p:nvPr/>
        </p:nvPicPr>
        <p:blipFill>
          <a:blip r:embed="rId4"/>
          <a:stretch/>
        </p:blipFill>
        <p:spPr>
          <a:xfrm>
            <a:off x="4500720" y="4659480"/>
            <a:ext cx="14284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1000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534440" cy="85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Vloeibare middel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0" y="13647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Emulgeerbare concentraten EC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Mengbare oliën, organisch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Bevat emulgator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betere mengin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aak een melkwitte vloeistof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Minder residu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Regenvaster dan poeder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cherp voor gewas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eerder verbrandin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0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E3C3A7-53D5-498D-B4BD-1E6EA0ABF4C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1" name="Picture 4" descr=""/>
          <p:cNvPicPr/>
          <p:nvPr/>
        </p:nvPicPr>
        <p:blipFill>
          <a:blip r:embed="rId1"/>
          <a:stretch/>
        </p:blipFill>
        <p:spPr>
          <a:xfrm>
            <a:off x="5176800" y="939960"/>
            <a:ext cx="1866960" cy="248904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5" descr=""/>
          <p:cNvPicPr/>
          <p:nvPr/>
        </p:nvPicPr>
        <p:blipFill>
          <a:blip r:embed="rId2"/>
          <a:stretch/>
        </p:blipFill>
        <p:spPr>
          <a:xfrm>
            <a:off x="630360" y="4653000"/>
            <a:ext cx="1428480" cy="20001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6" descr=""/>
          <p:cNvPicPr/>
          <p:nvPr/>
        </p:nvPicPr>
        <p:blipFill>
          <a:blip r:embed="rId3"/>
          <a:stretch/>
        </p:blipFill>
        <p:spPr>
          <a:xfrm>
            <a:off x="2516040" y="4653000"/>
            <a:ext cx="1428840" cy="20001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7" descr=""/>
          <p:cNvPicPr/>
          <p:nvPr/>
        </p:nvPicPr>
        <p:blipFill>
          <a:blip r:embed="rId4"/>
          <a:stretch/>
        </p:blipFill>
        <p:spPr>
          <a:xfrm>
            <a:off x="4430880" y="4653000"/>
            <a:ext cx="14284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1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10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10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1000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1000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Vloeibare middel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609480" y="1677600"/>
            <a:ext cx="8229600" cy="48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Emulsie in water opgelost EW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Olie achtige stof opgelost in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water, waarin actieve stof zi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Heldere oplossin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oor Pulsfo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oor LV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D7D074-45CF-4DDB-A8A7-E17B32DC91A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8" name="Picture 4" descr=""/>
          <p:cNvPicPr/>
          <p:nvPr/>
        </p:nvPicPr>
        <p:blipFill>
          <a:blip r:embed="rId1"/>
          <a:stretch/>
        </p:blipFill>
        <p:spPr>
          <a:xfrm>
            <a:off x="4788000" y="263520"/>
            <a:ext cx="2033640" cy="42386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5" descr=""/>
          <p:cNvPicPr/>
          <p:nvPr/>
        </p:nvPicPr>
        <p:blipFill>
          <a:blip r:embed="rId2"/>
          <a:stretch/>
        </p:blipFill>
        <p:spPr>
          <a:xfrm>
            <a:off x="596880" y="4602240"/>
            <a:ext cx="1428840" cy="20001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6" descr=""/>
          <p:cNvPicPr/>
          <p:nvPr/>
        </p:nvPicPr>
        <p:blipFill>
          <a:blip r:embed="rId3"/>
          <a:stretch/>
        </p:blipFill>
        <p:spPr>
          <a:xfrm>
            <a:off x="2722680" y="4602240"/>
            <a:ext cx="1428480" cy="20001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7" descr=""/>
          <p:cNvPicPr/>
          <p:nvPr/>
        </p:nvPicPr>
        <p:blipFill>
          <a:blip r:embed="rId4"/>
          <a:stretch/>
        </p:blipFill>
        <p:spPr>
          <a:xfrm>
            <a:off x="4788000" y="4602240"/>
            <a:ext cx="14284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1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10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10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10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100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1000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1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8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3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Andere formulering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241200" y="1480680"/>
            <a:ext cx="63468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Rookmiddel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Brandbare stof met remmer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smeulen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verdampen werkzame stof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Zwavel, Pirimor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korte werking en weinig verbranding, geen residu, alleen bovenzijd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Aerosolen A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5-10% Werkzame stof in oplo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middel in spuitbus. Soms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gewasschade. Alleen bovenzijd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4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1D6AF0-8420-452F-9D70-DD7B1FC61FA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5" name="Picture 4" descr=""/>
          <p:cNvPicPr/>
          <p:nvPr/>
        </p:nvPicPr>
        <p:blipFill>
          <a:blip r:embed="rId1"/>
          <a:stretch/>
        </p:blipFill>
        <p:spPr>
          <a:xfrm>
            <a:off x="5167440" y="3355920"/>
            <a:ext cx="1790640" cy="22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7" dur="1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4" dur="10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1" dur="10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8" dur="10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3" dur="1000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8" dur="1000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1000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0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Andere formulering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26520" y="1773000"/>
            <a:ext cx="6348600" cy="38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Fumigantia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Vloeibaar middel dat in de grond wordt gebracht en damp vormt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Bodemtemp 7 – 16 </a:t>
            </a:r>
            <a:r>
              <a:rPr b="0" lang="nl-NL" sz="2200" spc="-1" strike="noStrike" baseline="30000">
                <a:solidFill>
                  <a:srgbClr val="404040"/>
                </a:solidFill>
                <a:latin typeface="Trebuchet MS"/>
              </a:rPr>
              <a:t>o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C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Pasta voor wonden bij bom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Smeer middelen tegen vlieg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Oplostablet voor wortelopnam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Strooizwa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92d050"/>
                </a:solidFill>
                <a:latin typeface="Trebuchet MS"/>
              </a:rPr>
              <a:t>http://agro.bayer.nl/#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8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12D437-F448-41E5-A623-9B7A0A76FAB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nodeType="clickEffect" fill="hold">
                      <p:stCondLst>
                        <p:cond delay="indefinite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1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6" dur="100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10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8" dur="1000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5" dur="1000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2" dur="1000"/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9" dur="1000"/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4" dur="1000"/>
                                        <p:tgtEl>
                                          <p:spTgt spid="2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2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2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Vragen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88880" y="1298520"/>
            <a:ext cx="649944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1. Wat is de formulering van een middel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De vorm waarin het wordt geleverd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2. Wat is het residu van een middel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Resten wel of niet zichtbaar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3. Waarom wordt een dipergeermiddel 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toegevoegd aan een SC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Om poeder zwevend in oplossing te houd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4. Wat is de functie van een emulgator 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toegevoegd aan een EC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Menging olie in water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031443-B5DB-464C-9A3E-6749C5810EF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3" dur="10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4" dur="10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1000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7" dur="1000"/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nodeType="clickEffect" fill="hold">
                      <p:stCondLst>
                        <p:cond delay="indefinite"/>
                      </p:stCondLst>
                      <p:childTnLst>
                        <p:par>
                          <p:cTn id="9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1000"/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9280" y="275760"/>
            <a:ext cx="84981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Wat zijn de nadelen van chemie?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78920" y="2771640"/>
            <a:ext cx="6348600" cy="38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Resistentie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Groeiremming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Bijwerking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Milieubelastend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Schadelijk voor niet doel organism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Gevaarlijk voor mens en leefomgeving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3A4380-E10D-43E7-8B2F-14F078C9C40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8" name="Picture 4" descr=""/>
          <p:cNvPicPr/>
          <p:nvPr/>
        </p:nvPicPr>
        <p:blipFill>
          <a:blip r:embed="rId1"/>
          <a:stretch/>
        </p:blipFill>
        <p:spPr>
          <a:xfrm>
            <a:off x="2897280" y="1569960"/>
            <a:ext cx="384480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Meng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68360" y="1628640"/>
            <a:ext cx="63468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E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  <a:ea typeface="Arial"/>
              </a:rPr>
              <a:t>é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n werkgang (tijdwinst) soms wel 12 st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Risico’s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20720" indent="-2772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Beïnvloeding werking( bij 3 middelen stijgt pH met 0,5-1,0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20720" indent="-2772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Ontmenging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20720" indent="-2772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Gewasschade / groeiremming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Cocktail vlb.met vlb.en poeder met poeder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Garantie tegen schade is er nie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Sommige fabrikanten geven mengen aa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4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328959-C59C-4187-8AB4-9920D48CC1F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3" dur="10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nodeType="clickEffect" fill="hold">
                      <p:stCondLst>
                        <p:cond delay="indefinite"/>
                      </p:stCondLst>
                      <p:childTnLst>
                        <p:par>
                          <p:cTn id="9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10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10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nodeType="clickEffect" fill="hold">
                      <p:stCondLst>
                        <p:cond delay="indefinite"/>
                      </p:stCondLst>
                      <p:childTnLst>
                        <p:par>
                          <p:cTn id="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7" dur="10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2" dur="10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3" dur="10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7" dur="1000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nodeType="clickEffect" fill="hold">
                      <p:stCondLst>
                        <p:cond delay="indefinite"/>
                      </p:stCondLst>
                      <p:childTnLst>
                        <p:par>
                          <p:cTn id="1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4" dur="1000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nodeType="clickEffect" fill="hold">
                      <p:stCondLst>
                        <p:cond delay="indefinite"/>
                      </p:stCondLst>
                      <p:childTnLst>
                        <p:par>
                          <p:cTn id="1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1" dur="1000"/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nodeType="clickEffect" fill="hold">
                      <p:stCondLst>
                        <p:cond delay="indefinite"/>
                      </p:stCondLst>
                      <p:childTnLst>
                        <p:par>
                          <p:cTn id="10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1000"/>
                                        <p:tgtEl>
                                          <p:spTgt spid="2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2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2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PH en de halfwaardetijd.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Advies is pH 5,4 = zelfde pH als blad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Te laag (zuur) belemmert de opnam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Te hoog afbraak versneld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pH 5 is de werkzaamheid na 50 dagen gehalveerd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pH 7 is dit 14,5 uur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pH 9 is dit 10 minuten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7" name="Tijdelijke aanduiding voor dianumm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A88D34-5F3B-430A-AB96-3199EC47F6A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10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nodeType="clickEffect" fill="hold">
                      <p:stCondLst>
                        <p:cond delay="indefinite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4" dur="100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10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10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nodeType="clickEffect" fill="hold">
                      <p:stCondLst>
                        <p:cond delay="indefinite"/>
                      </p:stCondLst>
                      <p:childTnLst>
                        <p:par>
                          <p:cTn id="10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8" dur="1000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10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3" dur="10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8" dur="10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9" dur="1000" fill="hold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1000" fill="hold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Toevoegingen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Minerale olie </a:t>
            </a:r>
            <a:r>
              <a:rPr b="0" lang="nl-NL" sz="22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 betere opname herbicid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Plantaardige olie </a:t>
            </a:r>
            <a:r>
              <a:rPr b="0" lang="nl-NL" sz="22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 idem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Minerale olie tegen virus </a:t>
            </a:r>
            <a:r>
              <a:rPr b="0" lang="nl-NL" sz="22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 minder opname en verspreiding virus in aardapp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Non- ionische uitvloeiers </a:t>
            </a:r>
            <a:r>
              <a:rPr b="0" lang="nl-NL" sz="22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 betere bladbedekking bij herbiciden, fungiciden en groeihormon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Superuitvloeiers </a:t>
            </a:r>
            <a:r>
              <a:rPr b="0" lang="nl-NL" sz="22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 betere bladbedekking en snelle droging (Zipper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0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A104AA-0D81-4B22-8868-02C2E5D3AD4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nodeType="clickEffect" fill="hold">
                      <p:stCondLst>
                        <p:cond delay="indefinite"/>
                      </p:stCondLst>
                      <p:childTnLst>
                        <p:par>
                          <p:cTn id="1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10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8" dur="10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10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3" dur="10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10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nodeType="clickEffect" fill="hold">
                      <p:stCondLst>
                        <p:cond delay="indefinite"/>
                      </p:stCondLst>
                      <p:childTnLst>
                        <p:par>
                          <p:cTn id="10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9" dur="1000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0" dur="10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nodeType="clickEffect" fill="hold">
                      <p:stCondLst>
                        <p:cond delay="indefinite"/>
                      </p:stCondLst>
                      <p:childTnLst>
                        <p:par>
                          <p:cTn id="10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6" dur="1000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3" dur="1000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Toevoegingen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Kationische (zeep) en biologische uitvloeiers </a:t>
            </a:r>
            <a:r>
              <a:rPr b="0" lang="nl-NL" sz="22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 betere bladbedekking en indringing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Hechters met uitvloeier </a:t>
            </a:r>
            <a:r>
              <a:rPr b="0" lang="nl-NL" sz="22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 betere hechting vooral met reg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Plakmiddel </a:t>
            </a:r>
            <a:r>
              <a:rPr b="0" lang="nl-NL" sz="22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 voorkomt zaaduitval en lege peul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Waterconditioners </a:t>
            </a:r>
            <a:r>
              <a:rPr b="0" lang="nl-NL" sz="22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 pH beïnvloed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84E70E-44A2-48E8-B940-5D33D51B89A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6" dur="indefinite" restart="never" nodeType="tmRoot">
          <p:childTnLst>
            <p:seq>
              <p:cTn id="1097" dur="indefinite" nodeType="mainSeq">
                <p:childTnLst>
                  <p:par>
                    <p:cTn id="1098" nodeType="clickEffect" fill="hold">
                      <p:stCondLst>
                        <p:cond delay="indefinite"/>
                      </p:stCondLst>
                      <p:childTnLst>
                        <p:par>
                          <p:cTn id="10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10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3" dur="10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10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nodeType="clickEffect" fill="hold">
                      <p:stCondLst>
                        <p:cond delay="indefinite"/>
                      </p:stCondLst>
                      <p:childTnLst>
                        <p:par>
                          <p:cTn id="1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9" dur="1000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0" dur="10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10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nodeType="clickEffect" fill="hold">
                      <p:stCondLst>
                        <p:cond delay="indefinite"/>
                      </p:stCondLst>
                      <p:childTnLst>
                        <p:par>
                          <p:cTn id="1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6" dur="1000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7" dur="1000" fill="hold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1000" fill="hold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nodeType="clickEffect" fill="hold">
                      <p:stCondLst>
                        <p:cond delay="indefinite"/>
                      </p:stCondLst>
                      <p:childTnLst>
                        <p:par>
                          <p:cTn id="1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1000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1000" fill="hold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Mengvolgorde van middel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94920" y="1358640"/>
            <a:ext cx="72738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404040"/>
                </a:solidFill>
                <a:latin typeface="Trebuchet MS"/>
              </a:rPr>
              <a:t>½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of 2/3 water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Middel verpakt in water oplosbaar folie (WOF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Spuitpoeder (WP) en/of spuitkorrels (WG) eventueel voorgemengd in warm water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Suspensie conc. (SC of Flowable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Emulgeerbaar concentraat (EC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Vloeistof in water (SL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Hulpstof (hechter, uitvloeier en vloeibare meststof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Spuitolie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Afvulle</a:t>
            </a: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n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6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1D1427-0851-4ADD-B703-C1954C61159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6" dur="indefinite" restart="never" nodeType="tmRoot">
          <p:childTnLst>
            <p:seq>
              <p:cTn id="1127" dur="indefinite" nodeType="mainSeq">
                <p:childTnLst>
                  <p:par>
                    <p:cTn id="1128" nodeType="clickEffect" fill="hold">
                      <p:stCondLst>
                        <p:cond delay="indefinite"/>
                      </p:stCondLst>
                      <p:childTnLst>
                        <p:par>
                          <p:cTn id="1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10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3" dur="10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10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nodeType="clickEffect" fill="hold">
                      <p:stCondLst>
                        <p:cond delay="indefinite"/>
                      </p:stCondLst>
                      <p:childTnLst>
                        <p:par>
                          <p:cTn id="1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10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0" dur="10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10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10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10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5" dur="1000" fill="hold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1000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0" dur="1000" fill="hold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1000" fill="hold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1000"/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5" dur="1000" fill="hold"/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1000" fill="hold"/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nodeType="clickEffect" fill="hold">
                      <p:stCondLst>
                        <p:cond delay="indefinite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1" dur="1000"/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1000" fill="hold"/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nodeType="clickEffect" fill="hold">
                      <p:stCondLst>
                        <p:cond delay="indefinite"/>
                      </p:stCondLst>
                      <p:childTnLst>
                        <p:par>
                          <p:cTn id="1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8" dur="1000"/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9" dur="1000" fill="hold"/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90c226"/>
                </a:solidFill>
                <a:latin typeface="Trebuchet MS"/>
              </a:rPr>
              <a:t>Vragen 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907560"/>
            <a:ext cx="706752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1. Zijn hulpstoffen volgens de wet 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gewasbeschermingsmiddelen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Nee alleen als ze een N-nummer bezitt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2. Wat is de functie van een minerale olie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Zorgen voor betere opnam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3. Welke voeg je het eerste toe olie of poeder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Poeder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4. Wat is de functie van waterconditioners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pH beïnvloeden (verlagen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9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5A8D33-9E70-4DA6-865C-1C887BA5642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1" dur="indefinite" restart="never" nodeType="tmRoot">
          <p:childTnLst>
            <p:seq>
              <p:cTn id="1182" dur="indefinite" nodeType="mainSeq">
                <p:childTnLst>
                  <p:par>
                    <p:cTn id="1183" nodeType="clickEffect" fill="hold">
                      <p:stCondLst>
                        <p:cond delay="indefinite"/>
                      </p:stCondLst>
                      <p:childTnLst>
                        <p:par>
                          <p:cTn id="1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nodeType="clickEffect" fill="hold">
                      <p:stCondLst>
                        <p:cond delay="indefinite"/>
                      </p:stCondLst>
                      <p:childTnLst>
                        <p:par>
                          <p:cTn id="1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nodeType="clickEffect" fill="hold">
                      <p:stCondLst>
                        <p:cond delay="indefinite"/>
                      </p:stCondLst>
                      <p:childTnLst>
                        <p:par>
                          <p:cTn id="1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0" dur="500" fill="hold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nodeType="clickEffect" fill="hold">
                      <p:stCondLst>
                        <p:cond delay="indefinite"/>
                      </p:stCondLst>
                      <p:childTnLst>
                        <p:par>
                          <p:cTn id="1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Morsen is dat echt zo erg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Video van 10 min. Vooral eerste en laatste 2 min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Wordt een gewasbeschermingsmiddel verwijderd uit rioolwater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https://youtu.be/hSBbS7SOODg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Makkelijk doseren zonder morsen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https://youtu.be/sW5yL81u9eU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2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296E34-A705-4436-91F2-876AA0DB0D9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7" dur="indefinite" restart="never" nodeType="tmRoot">
          <p:childTnLst>
            <p:seq>
              <p:cTn id="1208" dur="indefinite" nodeType="mainSeq">
                <p:childTnLst>
                  <p:par>
                    <p:cTn id="1209" nodeType="clickEffect" fill="hold">
                      <p:stCondLst>
                        <p:cond delay="indefinite"/>
                      </p:stCondLst>
                      <p:childTnLst>
                        <p:par>
                          <p:cTn id="1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3" dur="10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4" dur="10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0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nodeType="clickEffect" fill="hold">
                      <p:stCondLst>
                        <p:cond delay="indefinite"/>
                      </p:stCondLst>
                      <p:childTnLst>
                        <p:par>
                          <p:cTn id="1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1000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1" dur="10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10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nodeType="clickEffect" fill="hold">
                      <p:stCondLst>
                        <p:cond delay="indefinite"/>
                      </p:stCondLst>
                      <p:childTnLst>
                        <p:par>
                          <p:cTn id="1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7" dur="1000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8" dur="1000" fill="hold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1000" fill="hold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2" dur="1000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3" dur="1000" fill="hold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1000" fill="hold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7" dur="1000"/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8" dur="1000" fill="hold"/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1000" fill="hold"/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Informatie bronn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28680" y="1460520"/>
            <a:ext cx="634680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Handleidingen gewasbescherming DLV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Gewasbeschermingsgids of PD gids = rode gids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lvl="1" marL="705600" indent="-2714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Ook via internet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CTGB http://www.ctgb.nl/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lvl="1" marL="705600" indent="-2714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Toelating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05600" indent="-2714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Bestrijdingsmiddelen databank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05600" indent="-2714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W.G. (wettelijk gebruiksvoorschrift)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05600" indent="-2714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G.A. (gebruiksaanwijzing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Fytostat http://www.fytostat.nl/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lvl="1" marL="705600" indent="-2714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Producenten – </a:t>
            </a:r>
            <a:r>
              <a:rPr b="1" lang="nl-NL" sz="2200" spc="-1" strike="noStrike">
                <a:solidFill>
                  <a:srgbClr val="404040"/>
                </a:solidFill>
                <a:latin typeface="Trebuchet MS"/>
              </a:rPr>
              <a:t>etiket en veiligheidsblad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5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51CE10-8B02-41F2-9DAA-D06257115D6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0" dur="indefinite" restart="never" nodeType="tmRoot">
          <p:childTnLst>
            <p:seq>
              <p:cTn id="1241" dur="indefinite" nodeType="mainSeq">
                <p:childTnLst>
                  <p:par>
                    <p:cTn id="1242" nodeType="clickEffect" fill="hold">
                      <p:stCondLst>
                        <p:cond delay="indefinite"/>
                      </p:stCondLst>
                      <p:childTnLst>
                        <p:par>
                          <p:cTn id="1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6" dur="1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7" dur="10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10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nodeType="clickEffect" fill="hold">
                      <p:stCondLst>
                        <p:cond delay="indefinite"/>
                      </p:stCondLst>
                      <p:childTnLst>
                        <p:par>
                          <p:cTn id="1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3" dur="10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4" dur="10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10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nodeType="clickEffect" fill="hold">
                      <p:stCondLst>
                        <p:cond delay="indefinite"/>
                      </p:stCondLst>
                      <p:childTnLst>
                        <p:par>
                          <p:cTn id="1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0" dur="10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1" dur="10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10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nodeType="clickEffect" fill="hold">
                      <p:stCondLst>
                        <p:cond delay="indefinite"/>
                      </p:stCondLst>
                      <p:childTnLst>
                        <p:par>
                          <p:cTn id="1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7" dur="1000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8" dur="1000" fill="hold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1000" fill="hold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nodeType="clickEffect" fill="hold">
                      <p:stCondLst>
                        <p:cond delay="indefinite"/>
                      </p:stCondLst>
                      <p:childTnLst>
                        <p:par>
                          <p:cTn id="1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4" dur="1000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5" dur="1000" fill="hold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1000" fill="hold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9" dur="1000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0" dur="1000" fill="hold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1000" fill="hold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4" dur="1000"/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5" dur="1000" fill="hold"/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1000" fill="hold"/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9" dur="1000"/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0" dur="1000" fill="hold"/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1000" fill="hold"/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nodeType="clickEffect" fill="hold">
                      <p:stCondLst>
                        <p:cond delay="indefinite"/>
                      </p:stCondLst>
                      <p:childTnLst>
                        <p:par>
                          <p:cTn id="1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6" dur="1000"/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7" dur="1000" fill="hold"/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1000" fill="hold"/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1" dur="1000"/>
                                        <p:tgtEl>
                                          <p:spTgt spid="3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2" dur="1000" fill="hold"/>
                                        <p:tgtEl>
                                          <p:spTgt spid="3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1000" fill="hold"/>
                                        <p:tgtEl>
                                          <p:spTgt spid="3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Vragen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9144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1.Wat is de taak van het CTGB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Middelen toetsen voor toelating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2. Welke info is er op Fytostat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Etiketten en veiligheidsblad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8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CDE901-FEE9-44DE-82C1-ADE51ED01F2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4" dur="indefinite" restart="never" nodeType="tmRoot">
          <p:childTnLst>
            <p:seq>
              <p:cTn id="1305" dur="indefinite" nodeType="mainSeq">
                <p:childTnLst>
                  <p:par>
                    <p:cTn id="1306" nodeType="clickEffect" fill="hold">
                      <p:stCondLst>
                        <p:cond delay="indefinite"/>
                      </p:stCondLst>
                      <p:childTnLst>
                        <p:par>
                          <p:cTn id="1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nodeType="clickEffect" fill="hold">
                      <p:stCondLst>
                        <p:cond delay="indefinite"/>
                      </p:stCondLst>
                      <p:childTnLst>
                        <p:par>
                          <p:cTn id="1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GNO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Gewasbeschermingmiddelen van natuurlijke oorsprong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Laag risico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Weinig milieubelasting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1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3C347E-11E1-41B2-ABAE-9118B59E296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4" dur="indefinite" restart="never" nodeType="tmRoot">
          <p:childTnLst>
            <p:seq>
              <p:cTn id="1315" dur="indefinite" nodeType="mainSeq">
                <p:childTnLst>
                  <p:par>
                    <p:cTn id="1316" nodeType="clickEffect" fill="hold">
                      <p:stCondLst>
                        <p:cond delay="indefinite"/>
                      </p:stCondLst>
                      <p:childTnLst>
                        <p:par>
                          <p:cTn id="1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0" dur="10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1" dur="10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10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nodeType="clickEffect" fill="hold">
                      <p:stCondLst>
                        <p:cond delay="indefinite"/>
                      </p:stCondLst>
                      <p:childTnLst>
                        <p:par>
                          <p:cTn id="1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7" dur="10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8" dur="10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10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nodeType="clickEffect" fill="hold">
                      <p:stCondLst>
                        <p:cond delay="indefinite"/>
                      </p:stCondLst>
                      <p:childTnLst>
                        <p:par>
                          <p:cTn id="1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4" dur="1000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5" dur="10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10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Werkzame stof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250560" y="1530360"/>
            <a:ext cx="7202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Of actieve stof = stof die de werking geeft. Bij Vertimec Gold 18 g/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Formulering = de vorm vlb., poeder of vloeistof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Toevoegingen of hulpstoffen om bij droogweer de opname te verbeteren, want de waslaag is </a:t>
            </a:r>
            <a:r>
              <a:rPr b="0" lang="nl-NL" sz="2400" spc="-1" strike="noStrike">
                <a:solidFill>
                  <a:srgbClr val="ff0000"/>
                </a:solidFill>
                <a:latin typeface="Trebuchet MS"/>
              </a:rPr>
              <a:t>dunner/dikker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Hulpstof Squall https://youtu.be/l4AdahKG2fg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hulpstoffen Elasto, Hasten zie ook https://www.surfaplus-tr.com/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AABD0E-BD09-42B4-98F1-AEAF1A1C688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GNO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2205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Bacteriën; Bacillus thurgiensis (Xentari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Schimmels; Mycotal, Botanigard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Mycorrhiza’s; in symbiose levende bodemschimmels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Feromon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Extract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Plantversterkers om weerstand te verhogen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4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A151A7-1704-4585-9386-05C027A65BB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7" dur="indefinite" restart="never" nodeType="tmRoot">
          <p:childTnLst>
            <p:seq>
              <p:cTn id="1338" dur="indefinite" nodeType="mainSeq">
                <p:childTnLst>
                  <p:par>
                    <p:cTn id="1339" nodeType="clickEffect" fill="hold">
                      <p:stCondLst>
                        <p:cond delay="indefinite"/>
                      </p:stCondLst>
                      <p:childTnLst>
                        <p:par>
                          <p:cTn id="1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3" dur="10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4" dur="10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10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nodeType="clickEffect" fill="hold">
                      <p:stCondLst>
                        <p:cond delay="indefinite"/>
                      </p:stCondLst>
                      <p:childTnLst>
                        <p:par>
                          <p:cTn id="1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0" dur="10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1" dur="10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10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nodeType="clickEffect" fill="hold">
                      <p:stCondLst>
                        <p:cond delay="indefinite"/>
                      </p:stCondLst>
                      <p:childTnLst>
                        <p:par>
                          <p:cTn id="1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7" dur="10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8" dur="10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10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nodeType="clickEffect" fill="hold">
                      <p:stCondLst>
                        <p:cond delay="indefinite"/>
                      </p:stCondLst>
                      <p:childTnLst>
                        <p:par>
                          <p:cTn id="1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4" dur="10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5" dur="10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10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nodeType="clickEffect" fill="hold">
                      <p:stCondLst>
                        <p:cond delay="indefinite"/>
                      </p:stCondLst>
                      <p:childTnLst>
                        <p:par>
                          <p:cTn id="1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1" dur="1000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2" dur="10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10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nodeType="clickEffect" fill="hold">
                      <p:stCondLst>
                        <p:cond delay="indefinite"/>
                      </p:stCondLst>
                      <p:childTnLst>
                        <p:par>
                          <p:cTn id="1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8" dur="1000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9" dur="1000" fill="hold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1000" fill="hold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Vrag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755280" y="1557000"/>
            <a:ext cx="648036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. 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Wat zijn GNO’s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Gewasbeschermingsmiddelen van natuurlijke 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oorsprong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2. Leg uit wat symbiose betekent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Schimmel krijgt suikers van de plant en 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zorgen voor betere opname 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elementen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3. Wat zijn feromonen en wat is hun functie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Lokstoffen om voortplanting te remm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4. Wat is de belangrijkste functie van plantversterkers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Weerstand verhog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7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77D59E-8725-4C3F-A440-505D1EFCD5E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1" dur="indefinite" restart="never" nodeType="tmRoot">
          <p:childTnLst>
            <p:seq>
              <p:cTn id="1382" dur="indefinite" nodeType="mainSeq">
                <p:childTnLst>
                  <p:par>
                    <p:cTn id="1383" nodeType="clickEffect" fill="hold">
                      <p:stCondLst>
                        <p:cond delay="indefinite"/>
                      </p:stCondLst>
                      <p:childTnLst>
                        <p:par>
                          <p:cTn id="1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nodeType="clickEffect" fill="hold">
                      <p:stCondLst>
                        <p:cond delay="indefinite"/>
                      </p:stCondLst>
                      <p:childTnLst>
                        <p:par>
                          <p:cTn id="1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nodeType="clickEffect" fill="hold">
                      <p:stCondLst>
                        <p:cond delay="indefinite"/>
                      </p:stCondLst>
                      <p:childTnLst>
                        <p:par>
                          <p:cTn id="1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nodeType="clickEffect" fill="hold">
                      <p:stCondLst>
                        <p:cond delay="indefinite"/>
                      </p:stCondLst>
                      <p:childTnLst>
                        <p:par>
                          <p:cTn id="1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RUB lijst </a:t>
            </a:r>
            <a:r>
              <a:rPr b="0" lang="nl-NL" sz="3600" spc="-1" strike="noStrike">
                <a:solidFill>
                  <a:srgbClr val="ff0000"/>
                </a:solidFill>
                <a:latin typeface="Trebuchet MS"/>
              </a:rPr>
              <a:t>afgeschaf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609120" y="1930320"/>
            <a:ext cx="6348600" cy="38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Regeling Uitzondering Bestrijdingmiddel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Geen N nummer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Vb. bier tegen slakken en zeep tegen luis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Ontsmettingsmiddel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Middelen tegen alg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Groeiregulator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http://wetten.overheid.nl/BWBR0003172/geldigheidsdatum_16-10-2007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0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9CAFB4-6A71-4098-86DA-017237D88D8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9" dur="indefinite" restart="never" nodeType="tmRoot">
          <p:childTnLst>
            <p:seq>
              <p:cTn id="1400" dur="indefinite" nodeType="mainSeq">
                <p:childTnLst>
                  <p:par>
                    <p:cTn id="1401" nodeType="clickEffect" fill="hold">
                      <p:stCondLst>
                        <p:cond delay="indefinite"/>
                      </p:stCondLst>
                      <p:childTnLst>
                        <p:par>
                          <p:cTn id="1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5" dur="1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6" dur="1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1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nodeType="clickEffect" fill="hold">
                      <p:stCondLst>
                        <p:cond delay="indefinite"/>
                      </p:stCondLst>
                      <p:childTnLst>
                        <p:par>
                          <p:cTn id="1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2" dur="10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3" dur="10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10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7" dur="10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8" dur="10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9" dur="10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2" dur="10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3" dur="10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10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7" dur="1000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8" dur="10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10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2" dur="1000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3" dur="1000" fill="hold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1000" fill="hold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nodeType="clickEffect" fill="hold">
                      <p:stCondLst>
                        <p:cond delay="indefinite"/>
                      </p:stCondLst>
                      <p:childTnLst>
                        <p:par>
                          <p:cTn id="1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9" dur="1000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0" dur="1000" fill="hold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1000" fill="hold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19200" y="549000"/>
            <a:ext cx="63482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Indeling en werking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Herbiciden          onkruid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Insecticiden        insect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Fungiciden         schimmels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Nematiciden       aaltjes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Rodenticiciden   knaagdier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Bactericiden       bacterië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Mollusciciden     weekdieren (slak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Acariciden          mijt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3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FB74A4-F2F8-447A-8540-03F11931CBE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2" dur="indefinite" restart="never" nodeType="tmRoot">
          <p:childTnLst>
            <p:seq>
              <p:cTn id="1443" dur="indefinite" nodeType="mainSeq">
                <p:childTnLst>
                  <p:par>
                    <p:cTn id="1444" nodeType="clickEffect" fill="hold">
                      <p:stCondLst>
                        <p:cond delay="indefinite"/>
                      </p:stCondLst>
                      <p:childTnLst>
                        <p:par>
                          <p:cTn id="1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8" dur="10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9" dur="10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10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nodeType="clickEffect" fill="hold">
                      <p:stCondLst>
                        <p:cond delay="indefinite"/>
                      </p:stCondLst>
                      <p:childTnLst>
                        <p:par>
                          <p:cTn id="1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5" dur="1000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6" dur="10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7" dur="10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8" nodeType="clickEffect" fill="hold">
                      <p:stCondLst>
                        <p:cond delay="indefinite"/>
                      </p:stCondLst>
                      <p:childTnLst>
                        <p:par>
                          <p:cTn id="1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2" dur="1000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3" dur="10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10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nodeType="clickEffect" fill="hold">
                      <p:stCondLst>
                        <p:cond delay="indefinite"/>
                      </p:stCondLst>
                      <p:childTnLst>
                        <p:par>
                          <p:cTn id="1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9" dur="1000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0" dur="10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10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2" nodeType="clickEffect" fill="hold">
                      <p:stCondLst>
                        <p:cond delay="indefinite"/>
                      </p:stCondLst>
                      <p:childTnLst>
                        <p:par>
                          <p:cTn id="1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6" dur="1000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7" dur="10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10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nodeType="clickEffect" fill="hold">
                      <p:stCondLst>
                        <p:cond delay="indefinite"/>
                      </p:stCondLst>
                      <p:childTnLst>
                        <p:par>
                          <p:cTn id="1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3" dur="1000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4" dur="1000" fill="hold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5" dur="1000" fill="hold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nodeType="clickEffect" fill="hold">
                      <p:stCondLst>
                        <p:cond delay="indefinite"/>
                      </p:stCondLst>
                      <p:childTnLst>
                        <p:par>
                          <p:cTn id="1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0" dur="1000"/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1" dur="1000" fill="hold"/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1000" fill="hold"/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nodeType="clickEffect" fill="hold">
                      <p:stCondLst>
                        <p:cond delay="indefinite"/>
                      </p:stCondLst>
                      <p:childTnLst>
                        <p:par>
                          <p:cTn id="1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7" dur="1000"/>
                                        <p:tgtEl>
                                          <p:spTgt spid="3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8" dur="1000" fill="hold"/>
                                        <p:tgtEl>
                                          <p:spTgt spid="3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9" dur="1000" fill="hold"/>
                                        <p:tgtEl>
                                          <p:spTgt spid="3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Systemisch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Opname door de plan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Stekend en zuigende insect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Niet systemisch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Translaminair (door de waslaag) </a:t>
            </a:r>
            <a:r>
              <a:rPr b="0" lang="nl-NL" sz="22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 mineerlarv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Contact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Eradicatieve (stoppen zichtbare infecties) 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fungiciden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6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E129BE-4AE1-4407-9F39-4211BB91649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0" dur="indefinite" restart="never" nodeType="tmRoot">
          <p:childTnLst>
            <p:seq>
              <p:cTn id="1501" dur="indefinite" nodeType="mainSeq">
                <p:childTnLst>
                  <p:par>
                    <p:cTn id="1502" nodeType="clickEffect" fill="hold">
                      <p:stCondLst>
                        <p:cond delay="indefinite"/>
                      </p:stCondLst>
                      <p:childTnLst>
                        <p:par>
                          <p:cTn id="1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6" dur="10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7" dur="10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8" dur="10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nodeType="clickEffect" fill="hold">
                      <p:stCondLst>
                        <p:cond delay="indefinite"/>
                      </p:stCondLst>
                      <p:childTnLst>
                        <p:par>
                          <p:cTn id="1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3" dur="10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4" dur="10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10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6" nodeType="clickEffect" fill="hold">
                      <p:stCondLst>
                        <p:cond delay="indefinite"/>
                      </p:stCondLst>
                      <p:childTnLst>
                        <p:par>
                          <p:cTn id="1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0" dur="10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1" dur="10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10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3" nodeType="clickEffect" fill="hold">
                      <p:stCondLst>
                        <p:cond delay="indefinite"/>
                      </p:stCondLst>
                      <p:childTnLst>
                        <p:par>
                          <p:cTn id="1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7" dur="10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8" dur="10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10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2" dur="1000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3" dur="10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4" dur="10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7" dur="10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8" dur="1000" fill="hold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9" dur="1000" fill="hold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Vrag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316080" y="1296720"/>
            <a:ext cx="699264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. Wat is het grootste verschil tussen systemisch en 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niet systemisch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Systemisch gaat door vaatbundels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2. Wat is een eradicatieve fungicid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Middel dat zichtbare schimmelinfectie stop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3. Waarom kun je wortelonkruiden het beste met 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systemische middelen bestrijden?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Die gaan door de gehele plant en dan wordt alles 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afgedood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4. Welk type middelen kun je alleen inzetten ter 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voorkoming van een infectie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Niet systemische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9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1A17AE-2BBF-4FC7-AFA6-40EB5A29598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0" dur="indefinite" restart="never" nodeType="tmRoot">
          <p:childTnLst>
            <p:seq>
              <p:cTn id="1541" dur="indefinite" nodeType="mainSeq">
                <p:childTnLst>
                  <p:par>
                    <p:cTn id="1542" nodeType="clickEffect" fill="hold">
                      <p:stCondLst>
                        <p:cond delay="indefinite"/>
                      </p:stCondLst>
                      <p:childTnLst>
                        <p:par>
                          <p:cTn id="1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6" dur="1000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7" dur="10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8" dur="10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9" nodeType="clickEffect" fill="hold">
                      <p:stCondLst>
                        <p:cond delay="indefinite"/>
                      </p:stCondLst>
                      <p:childTnLst>
                        <p:par>
                          <p:cTn id="1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3" dur="1000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4" dur="10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5" dur="10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nodeType="clickEffect" fill="hold">
                      <p:stCondLst>
                        <p:cond delay="indefinite"/>
                      </p:stCondLst>
                      <p:childTnLst>
                        <p:par>
                          <p:cTn id="1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0" dur="1000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1" dur="1000" fill="hold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1000" fill="hold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nodeType="clickEffect" fill="hold">
                      <p:stCondLst>
                        <p:cond delay="indefinite"/>
                      </p:stCondLst>
                      <p:childTnLst>
                        <p:par>
                          <p:cTn id="1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7" dur="1000"/>
                                        <p:tgtEl>
                                          <p:spTgt spid="3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8" dur="1000" fill="hold"/>
                                        <p:tgtEl>
                                          <p:spTgt spid="3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9" dur="1000" fill="hold"/>
                                        <p:tgtEl>
                                          <p:spTgt spid="3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Bodemherbiciden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755280" y="1960560"/>
            <a:ext cx="63486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Door de plant opgenom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Film in de grond – enkel centimeters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Kale grond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Niet tegen wortelonkruid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Droge grond werkt slech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Binding Klei-Humus-Complex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Werken enkele weken tot maand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Moeilijk afbreekbaar = persisten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2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246BF8-E399-4707-92B4-B5218B37D8B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0" dur="indefinite" restart="never" nodeType="tmRoot">
          <p:childTnLst>
            <p:seq>
              <p:cTn id="1571" dur="indefinite" nodeType="mainSeq">
                <p:childTnLst>
                  <p:par>
                    <p:cTn id="1572" nodeType="clickEffect" fill="hold">
                      <p:stCondLst>
                        <p:cond delay="indefinite"/>
                      </p:stCondLst>
                      <p:childTnLst>
                        <p:par>
                          <p:cTn id="1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6" dur="10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7" dur="1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8" dur="1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9" nodeType="clickEffect" fill="hold">
                      <p:stCondLst>
                        <p:cond delay="indefinite"/>
                      </p:stCondLst>
                      <p:childTnLst>
                        <p:par>
                          <p:cTn id="1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3" dur="100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4" dur="10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10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6" nodeType="clickEffect" fill="hold">
                      <p:stCondLst>
                        <p:cond delay="indefinite"/>
                      </p:stCondLst>
                      <p:childTnLst>
                        <p:par>
                          <p:cTn id="1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0" dur="10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1" dur="10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10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3" nodeType="clickEffect" fill="hold">
                      <p:stCondLst>
                        <p:cond delay="indefinite"/>
                      </p:stCondLst>
                      <p:childTnLst>
                        <p:par>
                          <p:cTn id="1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7" dur="10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8" dur="1000" fill="hold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1000" fill="hold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0" nodeType="clickEffect" fill="hold">
                      <p:stCondLst>
                        <p:cond delay="indefinite"/>
                      </p:stCondLst>
                      <p:childTnLst>
                        <p:par>
                          <p:cTn id="1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4" dur="1000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5" dur="1000" fill="hold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1000" fill="hold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7" nodeType="clickEffect" fill="hold">
                      <p:stCondLst>
                        <p:cond delay="indefinite"/>
                      </p:stCondLst>
                      <p:childTnLst>
                        <p:par>
                          <p:cTn id="1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1" dur="10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2" dur="1000" fill="hold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3" dur="1000" fill="hold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4" nodeType="clickEffect" fill="hold">
                      <p:stCondLst>
                        <p:cond delay="indefinite"/>
                      </p:stCondLst>
                      <p:childTnLst>
                        <p:par>
                          <p:cTn id="1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8" dur="1000"/>
                                        <p:tgtEl>
                                          <p:spTgt spid="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9" dur="1000" fill="hold"/>
                                        <p:tgtEl>
                                          <p:spTgt spid="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1000" fill="hold"/>
                                        <p:tgtEl>
                                          <p:spTgt spid="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1" nodeType="clickEffect" fill="hold">
                      <p:stCondLst>
                        <p:cond delay="indefinite"/>
                      </p:stCondLst>
                      <p:childTnLst>
                        <p:par>
                          <p:cTn id="1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5" dur="10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6" dur="1000" fill="hold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7" dur="1000" fill="hold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Bladherbiciden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7200" y="1406160"/>
            <a:ext cx="8229600" cy="605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Via blad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ystemisch vb. Roundup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Groeistoffen; plant groeit kapo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cpa,mecoprop, fluroxypy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In 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  <a:ea typeface="Arial"/>
              </a:rPr>
              <a:t>éé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nzaadlobige gewassen tegen dicotyl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Contac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Trekken alleen in blad en worden niet verder vervoer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Ook bij lagere temperatuu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Tegen zaadonkruid in jong stadiu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llesdoders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5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191E45-1A47-4369-8567-0C8FC03AB21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8" dur="indefinite" restart="never" nodeType="tmRoot">
          <p:childTnLst>
            <p:seq>
              <p:cTn id="1629" dur="indefinite" nodeType="mainSeq">
                <p:childTnLst>
                  <p:par>
                    <p:cTn id="1630" nodeType="clickEffect" fill="hold">
                      <p:stCondLst>
                        <p:cond delay="indefinite"/>
                      </p:stCondLst>
                      <p:childTnLst>
                        <p:par>
                          <p:cTn id="1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4" dur="10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5" dur="10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6" dur="10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nodeType="clickEffect" fill="hold">
                      <p:stCondLst>
                        <p:cond delay="indefinite"/>
                      </p:stCondLst>
                      <p:childTnLst>
                        <p:par>
                          <p:cTn id="1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1" dur="100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2" dur="10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3" dur="10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6" dur="10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7" dur="1000" fill="hold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8" dur="1000" fill="hold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9" nodeType="clickEffect" fill="hold">
                      <p:stCondLst>
                        <p:cond delay="indefinite"/>
                      </p:stCondLst>
                      <p:childTnLst>
                        <p:par>
                          <p:cTn id="1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3" dur="1000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4" dur="1000" fill="hold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1000" fill="hold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8" dur="1000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9" dur="1000" fill="hold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0" dur="1000" fill="hold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1" nodeType="clickEffect" fill="hold">
                      <p:stCondLst>
                        <p:cond delay="indefinite"/>
                      </p:stCondLst>
                      <p:childTnLst>
                        <p:par>
                          <p:cTn id="1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5" dur="1000"/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6" dur="1000" fill="hold"/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7" dur="1000" fill="hold"/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8" nodeType="clickEffect" fill="hold">
                      <p:stCondLst>
                        <p:cond delay="indefinite"/>
                      </p:stCondLst>
                      <p:childTnLst>
                        <p:par>
                          <p:cTn id="1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2" dur="1000"/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3" dur="1000" fill="hold"/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4" dur="1000" fill="hold"/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7" dur="1000"/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8" dur="1000" fill="hold"/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9" dur="1000" fill="hold"/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2" dur="1000"/>
                                        <p:tgtEl>
                                          <p:spTgt spid="3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3" dur="1000" fill="hold"/>
                                        <p:tgtEl>
                                          <p:spTgt spid="3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4" dur="1000" fill="hold"/>
                                        <p:tgtEl>
                                          <p:spTgt spid="3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7" dur="1000"/>
                                        <p:tgtEl>
                                          <p:spTgt spid="3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8" dur="1000" fill="hold"/>
                                        <p:tgtEl>
                                          <p:spTgt spid="3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9" dur="1000" fill="hold"/>
                                        <p:tgtEl>
                                          <p:spTgt spid="3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Vragen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94920" y="2060640"/>
            <a:ext cx="69850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1. Waarom werken bodemherbiciden niet tegen grote 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onkruiden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Hun wortels zitten al dieper onder de filmlaag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2. Welk type middel zet je in tegen wortelonkruid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Systemische bladherbicid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8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E61855-F3F3-4B9F-8546-AA227E4FFA2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0" dur="indefinite" restart="never" nodeType="tmRoot">
          <p:childTnLst>
            <p:seq>
              <p:cTn id="1691" dur="indefinite" nodeType="mainSeq">
                <p:childTnLst>
                  <p:par>
                    <p:cTn id="1692" nodeType="clickEffect" fill="hold">
                      <p:stCondLst>
                        <p:cond delay="indefinite"/>
                      </p:stCondLst>
                      <p:childTnLst>
                        <p:par>
                          <p:cTn id="1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6" dur="50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7" nodeType="clickEffect" fill="hold">
                      <p:stCondLst>
                        <p:cond delay="indefinite"/>
                      </p:stCondLst>
                      <p:childTnLst>
                        <p:par>
                          <p:cTn id="1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1" dur="500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Vragen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638280" y="1844640"/>
            <a:ext cx="63468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3.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Waarom bestrijden contactmiddelen geen 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wortelonkruid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Ze worden niet getransporteerd in de 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vaatbundels en dus gaat het onkruid allen 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bovengronds dood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4.Welk type herbicide heeft een lange 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nawerking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Bodemherbiciden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1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6A745B-CA10-4C36-AD3D-01FF3104746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2" dur="indefinite" restart="never" nodeType="tmRoot">
          <p:childTnLst>
            <p:seq>
              <p:cTn id="1703" dur="indefinite" nodeType="mainSeq">
                <p:childTnLst>
                  <p:par>
                    <p:cTn id="1704" nodeType="clickEffect" fill="hold">
                      <p:stCondLst>
                        <p:cond delay="indefinite"/>
                      </p:stCondLst>
                      <p:childTnLst>
                        <p:par>
                          <p:cTn id="1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08" dur="5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9" nodeType="clickEffect" fill="hold">
                      <p:stCondLst>
                        <p:cond delay="indefinite"/>
                      </p:stCondLst>
                      <p:childTnLst>
                        <p:par>
                          <p:cTn id="1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13" dur="500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63482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Toevoegingen en hulpstoff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-360" y="1000080"/>
            <a:ext cx="81025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Hulpstoff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Draagstof    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Giftigheid verlag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ulstof         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Betere verdelin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Oplosmiddel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Beter oplossen werkzame stof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Dispergeermiddel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uspensie (mengsel van water en poeder) blijft beter zweven en zakt niet naar de bodem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Emulgator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Olie in water = emulsi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Na mengen ook in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       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water goed verdeeld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9026A5-9740-4E58-A21B-A53EB26C25C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1"/>
          <a:stretch/>
        </p:blipFill>
        <p:spPr>
          <a:xfrm>
            <a:off x="1041480" y="5137200"/>
            <a:ext cx="3314520" cy="17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Insecticiden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596520" y="1773000"/>
            <a:ext cx="6348600" cy="38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Zenuwstelsel aangetas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623880" indent="-2397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Acetylcholine (</a:t>
            </a:r>
            <a:r>
              <a:rPr b="0" lang="nl-NL" sz="1600" spc="-1" strike="noStrike">
                <a:solidFill>
                  <a:srgbClr val="404040"/>
                </a:solidFill>
                <a:latin typeface="Trebuchet MS"/>
              </a:rPr>
              <a:t>tast het zenuwstelsel aan door </a:t>
            </a:r>
            <a:r>
              <a:rPr b="0" lang="nl-NL" sz="1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Trebuchet MS"/>
              </a:rPr>
              <a:t>verstoren prikkeloverdracht)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2" marL="960120" indent="-191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Choline-esterase remmende werk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343880" indent="-191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Overprikkeling zenuwen </a:t>
            </a:r>
            <a:r>
              <a:rPr b="0" lang="nl-NL" sz="1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doo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343880" indent="-191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Zeer giftig voor mens en dier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623880" indent="-2397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oorbeeld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960120" indent="-191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Organische fosforverbindin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960120" indent="-191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Carbamaten (o.a. spierverslapper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960120" indent="-191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Pyrethroiden (</a:t>
            </a:r>
            <a:r>
              <a:rPr b="0" lang="nl-NL" sz="1400" spc="-1" strike="noStrike">
                <a:solidFill>
                  <a:srgbClr val="404040"/>
                </a:solidFill>
                <a:latin typeface="Trebuchet MS"/>
              </a:rPr>
              <a:t>natuurlijke insekticides, snelle werking en </a:t>
            </a:r>
            <a:r>
              <a:rPr b="0" lang="nl-NL" sz="1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400" spc="-1" strike="noStrike">
                <a:solidFill>
                  <a:srgbClr val="404040"/>
                </a:solidFill>
                <a:latin typeface="Trebuchet MS"/>
              </a:rPr>
              <a:t>snelle afbraak door licht en UV)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960120" indent="-191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Zeer giftig voor andere di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343880" indent="-191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88000" indent="-2880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4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DD9651-9CFA-4F26-9808-EC037E25780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4" dur="indefinite" restart="never" nodeType="tmRoot">
          <p:childTnLst>
            <p:seq>
              <p:cTn id="1715" dur="indefinite" nodeType="mainSeq">
                <p:childTnLst>
                  <p:par>
                    <p:cTn id="1716" nodeType="clickEffect" fill="hold">
                      <p:stCondLst>
                        <p:cond delay="indefinite"/>
                      </p:stCondLst>
                      <p:childTnLst>
                        <p:par>
                          <p:cTn id="1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0" dur="1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1" dur="1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2" dur="1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3" nodeType="clickEffect" fill="hold">
                      <p:stCondLst>
                        <p:cond delay="indefinite"/>
                      </p:stCondLst>
                      <p:childTnLst>
                        <p:par>
                          <p:cTn id="1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7" dur="10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8" dur="10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9" dur="10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0" nodeType="clickEffect" fill="hold">
                      <p:stCondLst>
                        <p:cond delay="indefinite"/>
                      </p:stCondLst>
                      <p:childTnLst>
                        <p:par>
                          <p:cTn id="1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4" dur="10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5" dur="10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6" dur="10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9" dur="1000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0" dur="10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1" dur="10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4" dur="1000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5" dur="1000" fill="hold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6" dur="1000" fill="hold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7" nodeType="clickEffect" fill="hold">
                      <p:stCondLst>
                        <p:cond delay="indefinite"/>
                      </p:stCondLst>
                      <p:childTnLst>
                        <p:par>
                          <p:cTn id="1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1" dur="1000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2" dur="1000" fill="hold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3" dur="1000" fill="hold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6" dur="1000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7" dur="1000" fill="hold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8" dur="1000" fill="hold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1" dur="1000"/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2" dur="1000" fill="hold"/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3" dur="1000" fill="hold"/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6" dur="1000"/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7" dur="1000" fill="hold"/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8" dur="1000" fill="hold"/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1" dur="1000"/>
                                        <p:tgtEl>
                                          <p:spTgt spid="3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2" dur="1000" fill="hold"/>
                                        <p:tgtEl>
                                          <p:spTgt spid="3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3" dur="1000" fill="hold"/>
                                        <p:tgtEl>
                                          <p:spTgt spid="3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Groeiproces verstoring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971640" y="1930320"/>
            <a:ext cx="634824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Vorming chitine </a:t>
            </a:r>
            <a:r>
              <a:rPr b="0" lang="nl-NL" sz="1400" spc="-1" strike="noStrike">
                <a:solidFill>
                  <a:srgbClr val="404040"/>
                </a:solidFill>
                <a:latin typeface="Trebuchet MS"/>
              </a:rPr>
              <a:t>(bouwstof voor schimmels en skelet </a:t>
            </a:r>
            <a:r>
              <a:rPr b="0" lang="nl-NL" sz="1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400" spc="-1" strike="noStrike">
                <a:solidFill>
                  <a:srgbClr val="404040"/>
                </a:solidFill>
                <a:latin typeface="Trebuchet MS"/>
              </a:rPr>
              <a:t>geleedpotigen zoals insecten, kreeftachtigen en spinnen)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ervelling verstoord </a:t>
            </a:r>
            <a:r>
              <a:rPr b="0" lang="nl-NL" sz="1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rupsen mineermo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Gedaante verwisseling versto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Opnam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Hui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demhal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aa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7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FF1689-B48F-4A25-AF8D-3026D026636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4" dur="indefinite" restart="never" nodeType="tmRoot">
          <p:childTnLst>
            <p:seq>
              <p:cTn id="1775" dur="indefinite" nodeType="mainSeq">
                <p:childTnLst>
                  <p:par>
                    <p:cTn id="1776" nodeType="clickEffect" fill="hold">
                      <p:stCondLst>
                        <p:cond delay="indefinite"/>
                      </p:stCondLst>
                      <p:childTnLst>
                        <p:par>
                          <p:cTn id="1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0" dur="10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1" dur="1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2" dur="1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3" nodeType="clickEffect" fill="hold">
                      <p:stCondLst>
                        <p:cond delay="indefinite"/>
                      </p:stCondLst>
                      <p:childTnLst>
                        <p:par>
                          <p:cTn id="1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7" dur="100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8" dur="10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9" dur="10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2" dur="100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3" dur="10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4" dur="10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5" nodeType="clickEffect" fill="hold">
                      <p:stCondLst>
                        <p:cond delay="indefinite"/>
                      </p:stCondLst>
                      <p:childTnLst>
                        <p:par>
                          <p:cTn id="1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9" dur="1000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0" dur="10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1" dur="10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2" nodeType="clickEffect" fill="hold">
                      <p:stCondLst>
                        <p:cond delay="indefinite"/>
                      </p:stCondLst>
                      <p:childTnLst>
                        <p:par>
                          <p:cTn id="1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6" dur="1000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7" dur="1000" fill="hold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8" dur="1000" fill="hold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1" dur="1000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2" dur="1000" fill="hold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3" dur="1000" fill="hold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6" dur="1000"/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7" dur="1000" fill="hold"/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8" dur="1000" fill="hold"/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Insecticiden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23640" y="1279080"/>
            <a:ext cx="699444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Systemisch tegen zuigende insect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druppel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Niet-systemisch tegen vretende insecten (rups, kever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Rak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puittechniek belangrijk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Gebruik uitvloeier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Translaminair (ademhalingsgif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Pirimor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oldoende temp. nodi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0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4CF517-2932-4BBE-A61E-37473069573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9" dur="indefinite" restart="never" nodeType="tmRoot">
          <p:childTnLst>
            <p:seq>
              <p:cTn id="1820" dur="indefinite" nodeType="mainSeq">
                <p:childTnLst>
                  <p:par>
                    <p:cTn id="1821" nodeType="clickEffect" fill="hold">
                      <p:stCondLst>
                        <p:cond delay="indefinite"/>
                      </p:stCondLst>
                      <p:childTnLst>
                        <p:par>
                          <p:cTn id="1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5" dur="1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6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7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8" nodeType="clickEffect" fill="hold">
                      <p:stCondLst>
                        <p:cond delay="indefinite"/>
                      </p:stCondLst>
                      <p:childTnLst>
                        <p:par>
                          <p:cTn id="1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2" dur="10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3" dur="10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4" dur="10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5" nodeType="clickEffect" fill="hold">
                      <p:stCondLst>
                        <p:cond delay="indefinite"/>
                      </p:stCondLst>
                      <p:childTnLst>
                        <p:par>
                          <p:cTn id="1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9" dur="10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0" dur="10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1" dur="10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2" nodeType="clickEffect" fill="hold">
                      <p:stCondLst>
                        <p:cond delay="indefinite"/>
                      </p:stCondLst>
                      <p:childTnLst>
                        <p:par>
                          <p:cTn id="1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6" dur="1000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7" dur="10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8" dur="10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1" dur="1000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2" dur="1000" fill="hold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3" dur="1000" fill="hold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6" dur="1000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7" dur="1000" fill="hold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8" dur="1000" fill="hold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9" nodeType="clickEffect" fill="hold">
                      <p:stCondLst>
                        <p:cond delay="indefinite"/>
                      </p:stCondLst>
                      <p:childTnLst>
                        <p:par>
                          <p:cTn id="1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3" dur="1000"/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4" dur="1000" fill="hold"/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5" dur="1000" fill="hold"/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6" nodeType="clickEffect" fill="hold">
                      <p:stCondLst>
                        <p:cond delay="indefinite"/>
                      </p:stCondLst>
                      <p:childTnLst>
                        <p:par>
                          <p:cTn id="1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0" dur="1000"/>
                                        <p:tgtEl>
                                          <p:spTgt spid="3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1" dur="1000" fill="hold"/>
                                        <p:tgtEl>
                                          <p:spTgt spid="3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2" dur="1000" fill="hold"/>
                                        <p:tgtEl>
                                          <p:spTgt spid="3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5" dur="1000"/>
                                        <p:tgtEl>
                                          <p:spTgt spid="3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6" dur="1000" fill="hold"/>
                                        <p:tgtEl>
                                          <p:spTgt spid="3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7" dur="1000" fill="hold"/>
                                        <p:tgtEl>
                                          <p:spTgt spid="3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Travelling tim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Contactmiddel druppelen bij laatste druppelbeurt einde dag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Systemisch middel begin van de dag druppelen zodat het door verdamping goed wordt opgenomen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Hoeveel druppelbeurten zijn nodig denk je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rebuchet MS"/>
              </a:rPr>
              <a:t>Zeker 6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3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BB909E-D6B5-408B-B24F-60AA1F85F0D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8" dur="indefinite" restart="never" nodeType="tmRoot">
          <p:childTnLst>
            <p:seq>
              <p:cTn id="1879" dur="indefinite" nodeType="mainSeq">
                <p:childTnLst>
                  <p:par>
                    <p:cTn id="1880" nodeType="clickEffect" fill="hold">
                      <p:stCondLst>
                        <p:cond delay="indefinite"/>
                      </p:stCondLst>
                      <p:childTnLst>
                        <p:par>
                          <p:cTn id="1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4" dur="1000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5" dur="1000" fill="hold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6" dur="1000" fill="hold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7" nodeType="clickEffect" fill="hold">
                      <p:stCondLst>
                        <p:cond delay="indefinite"/>
                      </p:stCondLst>
                      <p:childTnLst>
                        <p:par>
                          <p:cTn id="1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1" dur="1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2" dur="10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3" dur="10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4" nodeType="clickEffect" fill="hold">
                      <p:stCondLst>
                        <p:cond delay="indefinite"/>
                      </p:stCondLst>
                      <p:childTnLst>
                        <p:par>
                          <p:cTn id="1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8" dur="10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9" dur="10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0" dur="10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1" nodeType="clickEffect" fill="hold">
                      <p:stCondLst>
                        <p:cond delay="indefinite"/>
                      </p:stCondLst>
                      <p:childTnLst>
                        <p:par>
                          <p:cTn id="1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5" dur="10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6" dur="10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7" dur="10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Vragen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539280" y="1268280"/>
            <a:ext cx="648036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1. Welk proces bij insecten wordt verstoord door 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choline-esteraseremmers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Prikkeloverdracht in zenuwstels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2. Waarom werken systemische middelen minder 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tegen vretende insecten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Zij krijgen niet voldoende middel binn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3. Hoe kunnen middelen door insecten worden 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opgenomen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Door huid, ademhaling en maag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6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F0EF73-0D3B-41BB-8EC1-BE46144BF61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8" dur="indefinite" restart="never" nodeType="tmRoot">
          <p:childTnLst>
            <p:seq>
              <p:cTn id="1909" dur="indefinite" nodeType="mainSeq">
                <p:childTnLst>
                  <p:par>
                    <p:cTn id="1910" nodeType="clickEffect" fill="hold">
                      <p:stCondLst>
                        <p:cond delay="indefinite"/>
                      </p:stCondLst>
                      <p:childTnLst>
                        <p:par>
                          <p:cTn id="1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4" nodeType="clickEffect" fill="hold">
                      <p:stCondLst>
                        <p:cond delay="indefinite"/>
                      </p:stCondLst>
                      <p:childTnLst>
                        <p:par>
                          <p:cTn id="1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8" nodeType="clickEffect" fill="hold">
                      <p:stCondLst>
                        <p:cond delay="indefinite"/>
                      </p:stCondLst>
                      <p:childTnLst>
                        <p:par>
                          <p:cTn id="1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Fungicid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Conventione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Breedwerkend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rijwel nooit resistenti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Fytotoxisch = giftig/schadelijk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Niet systemisch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Preventief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Maneb, thiram, capta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9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B6C88E-E918-4FA1-AD71-19ECD8A394F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2" dur="indefinite" restart="never" nodeType="tmRoot">
          <p:childTnLst>
            <p:seq>
              <p:cTn id="1923" dur="indefinite" nodeType="mainSeq">
                <p:childTnLst>
                  <p:par>
                    <p:cTn id="1924" nodeType="clickEffect" fill="hold">
                      <p:stCondLst>
                        <p:cond delay="indefinite"/>
                      </p:stCondLst>
                      <p:childTnLst>
                        <p:par>
                          <p:cTn id="1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8" dur="10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9" dur="10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0" dur="10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1" nodeType="clickEffect" fill="hold">
                      <p:stCondLst>
                        <p:cond delay="indefinite"/>
                      </p:stCondLst>
                      <p:childTnLst>
                        <p:par>
                          <p:cTn id="1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5" dur="100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6" dur="10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7" dur="10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8" nodeType="clickEffect" fill="hold">
                      <p:stCondLst>
                        <p:cond delay="indefinite"/>
                      </p:stCondLst>
                      <p:childTnLst>
                        <p:par>
                          <p:cTn id="1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2" dur="10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3" dur="10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4" dur="10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5" nodeType="clickEffect" fill="hold">
                      <p:stCondLst>
                        <p:cond delay="indefinite"/>
                      </p:stCondLst>
                      <p:childTnLst>
                        <p:par>
                          <p:cTn id="1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9" dur="1000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0" dur="100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1" dur="100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2" nodeType="clickEffect" fill="hold">
                      <p:stCondLst>
                        <p:cond delay="indefinite"/>
                      </p:stCondLst>
                      <p:childTnLst>
                        <p:par>
                          <p:cTn id="1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6" dur="1000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7" dur="1000" fill="hold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8" dur="1000" fill="hold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9" nodeType="clickEffect" fill="hold">
                      <p:stCondLst>
                        <p:cond delay="indefinite"/>
                      </p:stCondLst>
                      <p:childTnLst>
                        <p:par>
                          <p:cTn id="1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3" dur="1000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4" dur="1000" fill="hold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5" dur="1000" fill="hold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6" nodeType="clickEffect" fill="hold">
                      <p:stCondLst>
                        <p:cond delay="indefinite"/>
                      </p:stCondLst>
                      <p:childTnLst>
                        <p:par>
                          <p:cTn id="1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0" dur="1000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1" dur="1000" fill="hold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2" dur="1000" fill="hold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Fungicid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539640" y="1700280"/>
            <a:ext cx="63468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Modern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13160" indent="-2743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ystemisch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13160" indent="-2743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Curatief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13160" indent="-2743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Een plaats ingrijpend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13160" indent="-2743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Eerder resistenti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13160" indent="-2743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oorbeeld O.a. strobilurin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13160" indent="-27432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13160" indent="-2743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Soms combinatie van meerdere werkzame stoffen </a:t>
            </a:r>
            <a:r>
              <a:rPr b="0" lang="nl-NL" sz="22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 minder kans op resistenti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2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C55CDD-BA0B-48C1-B726-95511D09E95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3" dur="indefinite" restart="never" nodeType="tmRoot">
          <p:childTnLst>
            <p:seq>
              <p:cTn id="1974" dur="indefinite" nodeType="mainSeq">
                <p:childTnLst>
                  <p:par>
                    <p:cTn id="1975" nodeType="clickEffect" fill="hold">
                      <p:stCondLst>
                        <p:cond delay="indefinite"/>
                      </p:stCondLst>
                      <p:childTnLst>
                        <p:par>
                          <p:cTn id="1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9" dur="10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0" dur="10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1" dur="10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2" nodeType="clickEffect" fill="hold">
                      <p:stCondLst>
                        <p:cond delay="indefinite"/>
                      </p:stCondLst>
                      <p:childTnLst>
                        <p:par>
                          <p:cTn id="1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6" dur="100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7" dur="10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8" dur="10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1" dur="1000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2" dur="10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3" dur="10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6" dur="1000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7" dur="10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8" dur="10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1" dur="1000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2" dur="1000" fill="hold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3" dur="1000" fill="hold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6" dur="1000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7" dur="1000" fill="hold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8" dur="1000" fill="hold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9" nodeType="clickEffect" fill="hold">
                      <p:stCondLst>
                        <p:cond delay="indefinite"/>
                      </p:stCondLst>
                      <p:childTnLst>
                        <p:par>
                          <p:cTn id="2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3" dur="1000"/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4" dur="1000" fill="hold"/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5" dur="1000" fill="hold"/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Signum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557360"/>
            <a:ext cx="65008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Strobuline is stofje uit een schimmel dat de stofwisseling verstoord en zeer lage giftigheid voor mens en insecten. </a:t>
            </a:r>
            <a:r>
              <a:rPr b="0" lang="nl-NL" sz="22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 korte veiligheidstermij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Signum = schimmelbestrijder met 2 werkzame stoffen Pyraclostrobuline en Boscalid </a:t>
            </a:r>
            <a:r>
              <a:rPr b="0" lang="nl-NL" sz="22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 minder resistentie. Ook groener en vitaler gewas (minder uitval) dat meer bestand is tegen ethyleen. Meer productie (10% in graan)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5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878881-30B8-4F48-A5D6-6E930BBE1E1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6" dur="indefinite" restart="never" nodeType="tmRoot">
          <p:childTnLst>
            <p:seq>
              <p:cTn id="2017" dur="indefinite" nodeType="mainSeq">
                <p:childTnLst>
                  <p:par>
                    <p:cTn id="2018" nodeType="clickEffect" fill="hold">
                      <p:stCondLst>
                        <p:cond delay="indefinite"/>
                      </p:stCondLst>
                      <p:childTnLst>
                        <p:par>
                          <p:cTn id="2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2" dur="10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3" dur="1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4" dur="1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5" nodeType="clickEffect" fill="hold">
                      <p:stCondLst>
                        <p:cond delay="indefinite"/>
                      </p:stCondLst>
                      <p:childTnLst>
                        <p:par>
                          <p:cTn id="2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9" dur="10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0" dur="10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1" dur="10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Nematicid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609120" y="1568520"/>
            <a:ext cx="6348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Vloeibare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In de grond – gasvormig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Dood alle aaltjessoort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Bodemtemperatuur niet te laag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Uitspoeling (2016 verbod?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Korrelvormige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Granulat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Lossen op in het bodemvoch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Selectief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Ook systemisch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Nevenwerking insecten dodend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8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AADD6C-832D-446E-946C-6D295817A54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2" dur="indefinite" restart="never" nodeType="tmRoot">
          <p:childTnLst>
            <p:seq>
              <p:cTn id="2033" dur="indefinite" nodeType="mainSeq">
                <p:childTnLst>
                  <p:par>
                    <p:cTn id="2034" nodeType="clickEffect" fill="hold">
                      <p:stCondLst>
                        <p:cond delay="indefinite"/>
                      </p:stCondLst>
                      <p:childTnLst>
                        <p:par>
                          <p:cTn id="2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8" dur="10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9" dur="10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0" dur="10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1" nodeType="clickEffect" fill="hold">
                      <p:stCondLst>
                        <p:cond delay="indefinite"/>
                      </p:stCondLst>
                      <p:childTnLst>
                        <p:par>
                          <p:cTn id="2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5" dur="10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6" dur="10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7" dur="10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0" dur="1000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1" dur="10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2" dur="10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5" dur="1000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6" dur="1000" fill="hold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7" dur="1000" fill="hold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0" dur="1000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1" dur="1000" fill="hold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2" dur="1000" fill="hold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3" nodeType="clickEffect" fill="hold">
                      <p:stCondLst>
                        <p:cond delay="indefinite"/>
                      </p:stCondLst>
                      <p:childTnLst>
                        <p:par>
                          <p:cTn id="2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7" dur="1000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8" dur="1000" fill="hold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9" dur="1000" fill="hold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0" nodeType="clickEffect" fill="hold">
                      <p:stCondLst>
                        <p:cond delay="indefinite"/>
                      </p:stCondLst>
                      <p:childTnLst>
                        <p:par>
                          <p:cTn id="2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4" dur="1000"/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5" dur="1000" fill="hold"/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6" dur="1000" fill="hold"/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9" dur="1000"/>
                                        <p:tgtEl>
                                          <p:spTgt spid="3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0" dur="1000" fill="hold"/>
                                        <p:tgtEl>
                                          <p:spTgt spid="3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1" dur="1000" fill="hold"/>
                                        <p:tgtEl>
                                          <p:spTgt spid="3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4" dur="1000"/>
                                        <p:tgtEl>
                                          <p:spTgt spid="3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5" dur="1000" fill="hold"/>
                                        <p:tgtEl>
                                          <p:spTgt spid="3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6" dur="1000" fill="hold"/>
                                        <p:tgtEl>
                                          <p:spTgt spid="3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9" dur="1000"/>
                                        <p:tgtEl>
                                          <p:spTgt spid="3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0" dur="1000" fill="hold"/>
                                        <p:tgtEl>
                                          <p:spTgt spid="3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1" dur="1000" fill="hold"/>
                                        <p:tgtEl>
                                          <p:spTgt spid="3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4" dur="1000"/>
                                        <p:tgtEl>
                                          <p:spTgt spid="3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5" dur="1000" fill="hold"/>
                                        <p:tgtEl>
                                          <p:spTgt spid="3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6" dur="1000" fill="hold"/>
                                        <p:tgtEl>
                                          <p:spTgt spid="3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Weer en gewasbescherming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600200"/>
            <a:ext cx="677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Dikte waslaag bij groeizaam weer dunner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Bodemherbicide vochtige bodem nodig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Contactfungiciden hechten beter op droog warm gewa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Niet systemische insecticiden werken het beste bij niet te lage temp, want insecten zijn dan actief. Zon breekt ze eerder af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Weer, neerslag en wind!!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Wat is het beste moment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1" name="Tijdelijke aanduiding voor dianumm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B11A0B-30A9-474A-96C5-12F89AAB72F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7" dur="indefinite" restart="never" nodeType="tmRoot">
          <p:childTnLst>
            <p:seq>
              <p:cTn id="2098" dur="indefinite" nodeType="mainSeq">
                <p:childTnLst>
                  <p:par>
                    <p:cTn id="2099" nodeType="clickEffect" fill="hold">
                      <p:stCondLst>
                        <p:cond delay="indefinite"/>
                      </p:stCondLst>
                      <p:childTnLst>
                        <p:par>
                          <p:cTn id="2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3" dur="10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4" dur="1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5" dur="1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6" nodeType="clickEffect" fill="hold">
                      <p:stCondLst>
                        <p:cond delay="indefinite"/>
                      </p:stCondLst>
                      <p:childTnLst>
                        <p:par>
                          <p:cTn id="2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0" dur="10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1" dur="1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2" dur="1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3" nodeType="clickEffect" fill="hold">
                      <p:stCondLst>
                        <p:cond delay="indefinite"/>
                      </p:stCondLst>
                      <p:childTnLst>
                        <p:par>
                          <p:cTn id="2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7" dur="10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8" dur="1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9" dur="1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0" nodeType="clickEffect" fill="hold">
                      <p:stCondLst>
                        <p:cond delay="indefinite"/>
                      </p:stCondLst>
                      <p:childTnLst>
                        <p:par>
                          <p:cTn id="2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4" dur="1000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5" dur="10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6" dur="10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7" nodeType="clickEffect" fill="hold">
                      <p:stCondLst>
                        <p:cond delay="indefinite"/>
                      </p:stCondLst>
                      <p:childTnLst>
                        <p:par>
                          <p:cTn id="2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1" dur="1000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2" dur="10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3" dur="10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4" nodeType="clickEffect" fill="hold">
                      <p:stCondLst>
                        <p:cond delay="indefinite"/>
                      </p:stCondLst>
                      <p:childTnLst>
                        <p:par>
                          <p:cTn id="2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8" dur="1000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9" dur="1000" fill="hold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0" dur="1000" fill="hold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Toevoegingen en hulpstoff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0" y="1722600"/>
            <a:ext cx="885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Uitvloeier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Betere en grotere bladbedekkin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Hechter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Werkzame stof beter aan het blad hech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Anti-schuimmiddel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minder schuimvormin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Kleur en geurstof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gevaar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099A4B-A310-486C-BA7D-0A32EC5A4F4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9" name="Picture 4" descr=""/>
          <p:cNvPicPr/>
          <p:nvPr/>
        </p:nvPicPr>
        <p:blipFill>
          <a:blip r:embed="rId1"/>
          <a:stretch/>
        </p:blipFill>
        <p:spPr>
          <a:xfrm>
            <a:off x="2556000" y="3746520"/>
            <a:ext cx="2085840" cy="27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Weer en gewasbescherming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609120" y="2781000"/>
            <a:ext cx="6348600" cy="38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Middelen op basis van poeder en waterige middelen worden moeilijker opgenomen dan oliën en hebben een langere aandroogtijd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4" name="Tijdelijke aanduiding voor dianumm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6C6103-F3F5-4C03-B13B-2148BF65922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1" dur="indefinite" restart="never" nodeType="tmRoot">
          <p:childTnLst>
            <p:seq>
              <p:cTn id="2142" dur="indefinite" nodeType="mainSeq">
                <p:childTnLst>
                  <p:par>
                    <p:cTn id="2143" nodeType="clickEffect" fill="hold">
                      <p:stCondLst>
                        <p:cond delay="indefinite"/>
                      </p:stCondLst>
                      <p:childTnLst>
                        <p:par>
                          <p:cTn id="2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7" dur="10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8" dur="10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9" dur="10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Vragen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700280"/>
            <a:ext cx="82296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. 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Onder welke omstandigheden is de waslaag dun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ff0000"/>
                </a:solidFill>
                <a:latin typeface="Trebuchet MS"/>
              </a:rPr>
              <a:t>Groeizaam weer met hoge rv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2. Wanneer worden systemische middelen het beste 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opgenomen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Overdag bij hoge temperatur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7" name="Tijdelijke aanduiding voor dianumm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968C09-B84D-4B7D-95DE-ACE14A13B1D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0" dur="indefinite" restart="never" nodeType="tmRoot">
          <p:childTnLst>
            <p:seq>
              <p:cTn id="2151" dur="indefinite" nodeType="mainSeq">
                <p:childTnLst>
                  <p:par>
                    <p:cTn id="2152" nodeType="clickEffect" fill="hold">
                      <p:stCondLst>
                        <p:cond delay="indefinite"/>
                      </p:stCondLst>
                      <p:childTnLst>
                        <p:par>
                          <p:cTn id="2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6" dur="50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7" nodeType="clickEffect" fill="hold">
                      <p:stCondLst>
                        <p:cond delay="indefinite"/>
                      </p:stCondLst>
                      <p:childTnLst>
                        <p:par>
                          <p:cTn id="2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1" dur="500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Vragen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3. 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Wat zijn optimale omstandigheden voor inzet 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van contactfungiciden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Droog gewas met zon en beetje wind bij niet 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te lage temperaturen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4. Welke 2 factoren bepalen het risico van een 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geslaagde schimmel-infectie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Infectiedruk en het weer (rv en temp. hoog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0" name="Tijdelijke aanduiding voor dianumm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9F5D4D-CE1A-4C23-A8D3-99AF9D9807D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2" dur="indefinite" restart="never" nodeType="tmRoot">
          <p:childTnLst>
            <p:seq>
              <p:cTn id="2163" dur="indefinite" nodeType="mainSeq">
                <p:childTnLst>
                  <p:par>
                    <p:cTn id="2164" nodeType="clickEffect" fill="hold">
                      <p:stCondLst>
                        <p:cond delay="indefinite"/>
                      </p:stCondLst>
                      <p:childTnLst>
                        <p:par>
                          <p:cTn id="2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8" dur="1000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9" dur="10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0" dur="10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1" nodeType="clickEffect" fill="hold">
                      <p:stCondLst>
                        <p:cond delay="indefinite"/>
                      </p:stCondLst>
                      <p:childTnLst>
                        <p:par>
                          <p:cTn id="2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5" dur="1000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6" dur="1000" fill="hold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7" dur="1000" fill="hold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Milieu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Emissi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erdampin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Grondwater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Waterorganism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Drif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2 %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Zie berekening in het boek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3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5156E2-392F-4697-87E1-06DAE406CA4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8" dur="indefinite" restart="never" nodeType="tmRoot">
          <p:childTnLst>
            <p:seq>
              <p:cTn id="2179" dur="indefinite" nodeType="mainSeq">
                <p:childTnLst>
                  <p:par>
                    <p:cTn id="2180" nodeType="clickEffect" fill="hold">
                      <p:stCondLst>
                        <p:cond delay="indefinite"/>
                      </p:stCondLst>
                      <p:childTnLst>
                        <p:par>
                          <p:cTn id="2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4" dur="10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5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6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7" nodeType="clickEffect" fill="hold">
                      <p:stCondLst>
                        <p:cond delay="indefinite"/>
                      </p:stCondLst>
                      <p:childTnLst>
                        <p:par>
                          <p:cTn id="2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1" dur="10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2" dur="10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3" dur="10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6" dur="10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7" dur="10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8" dur="10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1" dur="1000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2" dur="10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3" dur="10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4" nodeType="clickEffect" fill="hold">
                      <p:stCondLst>
                        <p:cond delay="indefinite"/>
                      </p:stCondLst>
                      <p:childTnLst>
                        <p:par>
                          <p:cTn id="2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8" dur="1000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9" dur="10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0" dur="10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1" nodeType="clickEffect" fill="hold">
                      <p:stCondLst>
                        <p:cond delay="indefinite"/>
                      </p:stCondLst>
                      <p:childTnLst>
                        <p:par>
                          <p:cTn id="2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5" dur="1000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6" dur="1000" fill="hold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7" dur="1000" fill="hold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0" dur="1000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1" dur="1000" fill="hold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2" dur="1000" fill="hold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90c226"/>
                </a:solidFill>
                <a:latin typeface="Sassoon-Primary"/>
              </a:rPr>
              <a:t>Emissie</a:t>
            </a:r>
            <a:br>
              <a:rPr sz="4000"/>
            </a:b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Sassoon-Primary"/>
              </a:rPr>
              <a:t>Te kleine druppels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Sassoon-Primary"/>
              </a:rPr>
              <a:t>(</a:t>
            </a:r>
            <a:r>
              <a:rPr b="0" lang="nl-NL" sz="2000" spc="-1" strike="noStrike">
                <a:solidFill>
                  <a:srgbClr val="404040"/>
                </a:solidFill>
                <a:latin typeface="Sassoon-Primary"/>
              </a:rPr>
              <a:t>kleiner dan 30 µm) zijn gevoelig voor emissie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Sassoon-Primary"/>
              </a:rPr>
              <a:t>Ze verdampen snel en kunnen gaan zweven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Sassoon-Primary"/>
              </a:rPr>
              <a:t>Ze komen uiteindelijk op de bovenzijde van het blad terecht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Sassoon-Primary"/>
              </a:rPr>
              <a:t>Ook kunnen ze te weinig actieve stof bevatten voor een goede werking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6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519982-3649-453A-A03F-E87B4BD2FE5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3" dur="indefinite" restart="never" nodeType="tmRoot">
          <p:childTnLst>
            <p:seq>
              <p:cTn id="2224" dur="indefinite" nodeType="mainSeq">
                <p:childTnLst>
                  <p:par>
                    <p:cTn id="2225" nodeType="clickEffect" fill="hold">
                      <p:stCondLst>
                        <p:cond delay="indefinite"/>
                      </p:stCondLst>
                      <p:childTnLst>
                        <p:par>
                          <p:cTn id="2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9" dur="10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0" dur="1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1" dur="1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2" nodeType="clickEffect" fill="hold">
                      <p:stCondLst>
                        <p:cond delay="indefinite"/>
                      </p:stCondLst>
                      <p:childTnLst>
                        <p:par>
                          <p:cTn id="2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6" dur="100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7" dur="1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8" dur="1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1" dur="10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2" dur="10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3" dur="10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4" nodeType="clickEffect" fill="hold">
                      <p:stCondLst>
                        <p:cond delay="indefinite"/>
                      </p:stCondLst>
                      <p:childTnLst>
                        <p:par>
                          <p:cTn id="2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8" dur="1000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9" dur="10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0" dur="10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3" dur="1000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4" dur="1000" fill="hold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5" dur="1000" fill="hold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90c226"/>
                </a:solidFill>
                <a:latin typeface="Sassoon-Primary"/>
              </a:rPr>
              <a:t>Emissieroutes 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6858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Sassoon-Primary"/>
              </a:rPr>
              <a:t>naar oppervlaktewater en grondwater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Sassoon-Primary"/>
              </a:rPr>
              <a:t>via de bodem (drainwater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Sassoon-Primary"/>
              </a:rPr>
              <a:t>middelen die vanuit de lucht in het oppervlaktewater terechtkom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Sassoon-Primary"/>
              </a:rPr>
              <a:t>via recirculatiewater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Sassoon-Primary"/>
              </a:rPr>
              <a:t> first flush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Sassoon-Primary"/>
              </a:rPr>
              <a:t>via condenswater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Sassoon-Primary"/>
              </a:rPr>
              <a:t>Welke emissieroute het meest voorkomt,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Sassoon-Primary"/>
              </a:rPr>
              <a:t> </a:t>
            </a:r>
            <a:r>
              <a:rPr b="0" lang="nl-NL" sz="2000" spc="-1" strike="noStrike">
                <a:solidFill>
                  <a:srgbClr val="404040"/>
                </a:solidFill>
                <a:latin typeface="Sassoon-Primary"/>
              </a:rPr>
              <a:t>hangt af van de gebruikte techniek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9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BC5B8B-2389-4EDC-96B1-2B7157C51F5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6" dur="indefinite" restart="never" nodeType="tmRoot">
          <p:childTnLst>
            <p:seq>
              <p:cTn id="2257" dur="indefinite" nodeType="mainSeq">
                <p:childTnLst>
                  <p:par>
                    <p:cTn id="2258" nodeType="clickEffect" fill="hold">
                      <p:stCondLst>
                        <p:cond delay="indefinite"/>
                      </p:stCondLst>
                      <p:childTnLst>
                        <p:par>
                          <p:cTn id="2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2" dur="10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3" dur="1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4" dur="1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5" nodeType="clickEffect" fill="hold">
                      <p:stCondLst>
                        <p:cond delay="indefinite"/>
                      </p:stCondLst>
                      <p:childTnLst>
                        <p:par>
                          <p:cTn id="2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9" dur="10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0" dur="1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1" dur="1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4" dur="100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5" dur="10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6" dur="10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9" dur="1000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0" dur="10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1" dur="10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4" dur="1000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5" dur="10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6" dur="10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7" nodeType="clickEffect" fill="hold">
                      <p:stCondLst>
                        <p:cond delay="indefinite"/>
                      </p:stCondLst>
                      <p:childTnLst>
                        <p:par>
                          <p:cTn id="2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1" dur="1000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2" dur="1000" fill="hold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3" dur="1000" fill="hold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4" nodeType="clickEffect" fill="hold">
                      <p:stCondLst>
                        <p:cond delay="indefinite"/>
                      </p:stCondLst>
                      <p:childTnLst>
                        <p:par>
                          <p:cTn id="2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8" dur="1000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9" dur="1000" fill="hold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0" dur="1000" fill="hold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Sassoon-Primary"/>
              </a:rPr>
              <a:t>Emissieroutes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179280" y="1623960"/>
            <a:ext cx="68407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Sassoon-Primary"/>
              </a:rPr>
              <a:t>Bij emissie komt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35480" indent="-28296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900" spc="-1" strike="noStrike">
                <a:solidFill>
                  <a:srgbClr val="404040"/>
                </a:solidFill>
                <a:latin typeface="Sassoon-Primary"/>
              </a:rPr>
              <a:t>het toegepaste gewasbeschermingsmiddel niet terecht op de plaats waar het moet komen.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735480" indent="-28296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900" spc="-1" strike="noStrike">
                <a:solidFill>
                  <a:srgbClr val="404040"/>
                </a:solidFill>
                <a:latin typeface="Sassoon-Primary"/>
              </a:rPr>
              <a:t>Het middel gaat verloren en kan mens en milieu bedreigen.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Sassoon-Primary"/>
              </a:rPr>
              <a:t>Emissie van gewasbeschermingsmiddelen naar het milieu kan via verschillende routes plaatsvinden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35480" indent="-28296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900" spc="-1" strike="noStrike">
                <a:solidFill>
                  <a:srgbClr val="404040"/>
                </a:solidFill>
                <a:latin typeface="Sassoon-Primary"/>
              </a:rPr>
              <a:t>naar lucht 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2" marL="1131480" indent="-226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700" spc="-1" strike="noStrike">
                <a:solidFill>
                  <a:srgbClr val="404040"/>
                </a:solidFill>
                <a:latin typeface="Sassoon-Primary"/>
              </a:rPr>
              <a:t>kleine druppels die naar buiten waaien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2" marL="1131480" indent="-226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700" spc="-1" strike="noStrike">
                <a:solidFill>
                  <a:srgbClr val="404040"/>
                </a:solidFill>
                <a:latin typeface="Sassoon-Primary"/>
              </a:rPr>
              <a:t>verdamping van het middel van het gewas of kasdek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2" marL="1131480" indent="-226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700" spc="-1" strike="noStrike">
                <a:solidFill>
                  <a:srgbClr val="404040"/>
                </a:solidFill>
                <a:latin typeface="Sassoon-Primary"/>
              </a:rPr>
              <a:t>gasvormige middelen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1" marL="735480" indent="-28296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900" spc="-1" strike="noStrike">
                <a:solidFill>
                  <a:srgbClr val="404040"/>
                </a:solidFill>
                <a:latin typeface="Sassoon-Primary"/>
              </a:rPr>
              <a:t>naar bodem 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2" marL="1131480" indent="-226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700" spc="-1" strike="noStrike">
                <a:solidFill>
                  <a:srgbClr val="404040"/>
                </a:solidFill>
                <a:latin typeface="Sassoon-Primary"/>
              </a:rPr>
              <a:t>middelen die van de plant afdruipen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2" marL="1131480" indent="-226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700" spc="-1" strike="noStrike">
                <a:solidFill>
                  <a:srgbClr val="404040"/>
                </a:solidFill>
                <a:latin typeface="Sassoon-Primary"/>
              </a:rPr>
              <a:t>middelen die naast het gewas op de grond terechtkomen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2" marL="1131480" indent="-226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700" spc="-1" strike="noStrike">
                <a:solidFill>
                  <a:srgbClr val="404040"/>
                </a:solidFill>
                <a:latin typeface="Sassoon-Primary"/>
              </a:rPr>
              <a:t>middelen die aan de bodem worden toegediend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2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CEA5B2-2A72-4284-927F-3028E468C0E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1" dur="indefinite" restart="never" nodeType="tmRoot">
          <p:childTnLst>
            <p:seq>
              <p:cTn id="2302" dur="indefinite" nodeType="mainSeq">
                <p:childTnLst>
                  <p:par>
                    <p:cTn id="2303" nodeType="clickEffect" fill="hold">
                      <p:stCondLst>
                        <p:cond delay="indefinite"/>
                      </p:stCondLst>
                      <p:childTnLst>
                        <p:par>
                          <p:cTn id="2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7" dur="10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8" dur="10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9" dur="10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0" nodeType="clickEffect" fill="hold">
                      <p:stCondLst>
                        <p:cond delay="indefinite"/>
                      </p:stCondLst>
                      <p:childTnLst>
                        <p:par>
                          <p:cTn id="2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4" dur="1000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5" dur="10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6" dur="10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9" dur="1000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0" dur="10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1" dur="10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2" nodeType="clickEffect" fill="hold">
                      <p:stCondLst>
                        <p:cond delay="indefinite"/>
                      </p:stCondLst>
                      <p:childTnLst>
                        <p:par>
                          <p:cTn id="2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6" dur="1000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7" dur="1000" fill="hold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8" dur="1000" fill="hold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9" nodeType="clickEffect" fill="hold">
                      <p:stCondLst>
                        <p:cond delay="indefinite"/>
                      </p:stCondLst>
                      <p:childTnLst>
                        <p:par>
                          <p:cTn id="2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3" dur="1000"/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4" dur="1000" fill="hold"/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5" dur="1000" fill="hold"/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8" dur="1000"/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9" dur="1000" fill="hold"/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0" dur="1000" fill="hold"/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3" dur="1000"/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4" dur="1000" fill="hold"/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5" dur="1000" fill="hold"/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8" dur="1000"/>
                                        <p:tgtEl>
                                          <p:spTgt spid="4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9" dur="1000" fill="hold"/>
                                        <p:tgtEl>
                                          <p:spTgt spid="4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0" dur="1000" fill="hold"/>
                                        <p:tgtEl>
                                          <p:spTgt spid="4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1" nodeType="clickEffect" fill="hold">
                      <p:stCondLst>
                        <p:cond delay="indefinite"/>
                      </p:stCondLst>
                      <p:childTnLst>
                        <p:par>
                          <p:cTn id="2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5" dur="1000"/>
                                        <p:tgtEl>
                                          <p:spTgt spid="4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6" dur="1000" fill="hold"/>
                                        <p:tgtEl>
                                          <p:spTgt spid="4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7" dur="1000" fill="hold"/>
                                        <p:tgtEl>
                                          <p:spTgt spid="4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0" dur="1000"/>
                                        <p:tgtEl>
                                          <p:spTgt spid="4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1" dur="1000" fill="hold"/>
                                        <p:tgtEl>
                                          <p:spTgt spid="4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2" dur="1000" fill="hold"/>
                                        <p:tgtEl>
                                          <p:spTgt spid="4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5" dur="1000"/>
                                        <p:tgtEl>
                                          <p:spTgt spid="4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6" dur="1000" fill="hold"/>
                                        <p:tgtEl>
                                          <p:spTgt spid="4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7" dur="1000" fill="hold"/>
                                        <p:tgtEl>
                                          <p:spTgt spid="4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0" dur="1000"/>
                                        <p:tgtEl>
                                          <p:spTgt spid="4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1" dur="1000" fill="hold"/>
                                        <p:tgtEl>
                                          <p:spTgt spid="4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2" dur="1000" fill="hold"/>
                                        <p:tgtEl>
                                          <p:spTgt spid="4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Wetgeving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609120" y="1895400"/>
            <a:ext cx="63486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Activiteiten beslui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Openteelt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Teeltvrije zone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puitvrije zone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nti-driftdopp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Kantdopp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Hoogte spuitboo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Toegestane windkrach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Doel 90% minder drif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5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B0621D-AA7A-4288-ABDD-AD2FA9B085E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3" dur="indefinite" restart="never" nodeType="tmRoot">
          <p:childTnLst>
            <p:seq>
              <p:cTn id="2374" dur="indefinite" nodeType="mainSeq">
                <p:childTnLst>
                  <p:par>
                    <p:cTn id="2375" nodeType="clickEffect" fill="hold">
                      <p:stCondLst>
                        <p:cond delay="indefinite"/>
                      </p:stCondLst>
                      <p:childTnLst>
                        <p:par>
                          <p:cTn id="2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9" dur="10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0" dur="10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1" dur="10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2" nodeType="clickEffect" fill="hold">
                      <p:stCondLst>
                        <p:cond delay="indefinite"/>
                      </p:stCondLst>
                      <p:childTnLst>
                        <p:par>
                          <p:cTn id="2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6" dur="1000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7" dur="10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8" dur="10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9" nodeType="clickEffect" fill="hold">
                      <p:stCondLst>
                        <p:cond delay="indefinite"/>
                      </p:stCondLst>
                      <p:childTnLst>
                        <p:par>
                          <p:cTn id="2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3" dur="1000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4" dur="1000" fill="hold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5" dur="1000" fill="hold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8" dur="1000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9" dur="1000" fill="hold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0" dur="1000" fill="hold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3" dur="1000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4" dur="1000" fill="hold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5" dur="1000" fill="hold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8" dur="1000"/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9" dur="1000" fill="hold"/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0" dur="1000" fill="hold"/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3" dur="1000"/>
                                        <p:tgtEl>
                                          <p:spTgt spid="4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4" dur="1000" fill="hold"/>
                                        <p:tgtEl>
                                          <p:spTgt spid="4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5" dur="1000" fill="hold"/>
                                        <p:tgtEl>
                                          <p:spTgt spid="4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8" dur="1000"/>
                                        <p:tgtEl>
                                          <p:spTgt spid="4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9" dur="1000" fill="hold"/>
                                        <p:tgtEl>
                                          <p:spTgt spid="4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0" dur="1000" fill="hold"/>
                                        <p:tgtEl>
                                          <p:spTgt spid="4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1" nodeType="clickEffect" fill="hold">
                      <p:stCondLst>
                        <p:cond delay="indefinite"/>
                      </p:stCondLst>
                      <p:childTnLst>
                        <p:par>
                          <p:cTn id="2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5" dur="1000"/>
                                        <p:tgtEl>
                                          <p:spTgt spid="4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6" dur="1000" fill="hold"/>
                                        <p:tgtEl>
                                          <p:spTgt spid="4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7" dur="1000" fill="hold"/>
                                        <p:tgtEl>
                                          <p:spTgt spid="4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Welke afbraakprocessen?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7200" y="1881360"/>
            <a:ext cx="685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Afbraak DT-50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Degradation time = halfwaarde tijd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eer dan 60 dagen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Persistent of moeilijk afbreekbaar middel zoals bodemherbicid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Adapti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oedsel micro-organism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8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813B3A-8016-4517-B154-44A9CD25A36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8" dur="indefinite" restart="never" nodeType="tmRoot">
          <p:childTnLst>
            <p:seq>
              <p:cTn id="2429" dur="indefinite" nodeType="mainSeq">
                <p:childTnLst>
                  <p:par>
                    <p:cTn id="2430" nodeType="clickEffect" fill="hold">
                      <p:stCondLst>
                        <p:cond delay="indefinite"/>
                      </p:stCondLst>
                      <p:childTnLst>
                        <p:par>
                          <p:cTn id="2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4" dur="10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5" dur="10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6" dur="10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7" nodeType="clickEffect" fill="hold">
                      <p:stCondLst>
                        <p:cond delay="indefinite"/>
                      </p:stCondLst>
                      <p:childTnLst>
                        <p:par>
                          <p:cTn id="2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1" dur="10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2" dur="10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3" dur="10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4" nodeType="clickEffect" fill="hold">
                      <p:stCondLst>
                        <p:cond delay="indefinite"/>
                      </p:stCondLst>
                      <p:childTnLst>
                        <p:par>
                          <p:cTn id="2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8" dur="100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9" dur="10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0" dur="10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3" dur="1000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4" dur="10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5" dur="10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6" nodeType="clickEffect" fill="hold">
                      <p:stCondLst>
                        <p:cond delay="indefinite"/>
                      </p:stCondLst>
                      <p:childTnLst>
                        <p:par>
                          <p:cTn id="2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0" dur="1000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1" dur="10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2" dur="10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3" nodeType="clickEffect" fill="hold">
                      <p:stCondLst>
                        <p:cond delay="indefinite"/>
                      </p:stCondLst>
                      <p:childTnLst>
                        <p:par>
                          <p:cTn id="2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7" dur="1000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8" dur="1000" fill="hold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9" dur="1000" fill="hold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Welke afbraakprocessen?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585360" y="1628280"/>
            <a:ext cx="6348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Accumulati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Ophoping persistente middel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oedselketen raakt verstoord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Uitspoeling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Langzaam afgebrok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Geen binding Klei-Humus-Complex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EC-Drinkwaternorm 0,1 microgram/L /middel. Max 0,5 van alle middelen tezam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Afspoeling van middelen naar riool of oppervlaktewater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1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CD1DB6-F492-4232-B2CA-7D5EDC7E0F9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0" dur="indefinite" restart="never" nodeType="tmRoot">
          <p:childTnLst>
            <p:seq>
              <p:cTn id="2471" dur="indefinite" nodeType="mainSeq">
                <p:childTnLst>
                  <p:par>
                    <p:cTn id="2472" nodeType="clickEffect" fill="hold">
                      <p:stCondLst>
                        <p:cond delay="indefinite"/>
                      </p:stCondLst>
                      <p:childTnLst>
                        <p:par>
                          <p:cTn id="2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6" dur="10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7" dur="10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8" dur="10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9" nodeType="clickEffect" fill="hold">
                      <p:stCondLst>
                        <p:cond delay="indefinite"/>
                      </p:stCondLst>
                      <p:childTnLst>
                        <p:par>
                          <p:cTn id="2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3" dur="1000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4" dur="10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5" dur="10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8" dur="1000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9" dur="10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0" dur="10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1" nodeType="clickEffect" fill="hold">
                      <p:stCondLst>
                        <p:cond delay="indefinite"/>
                      </p:stCondLst>
                      <p:childTnLst>
                        <p:par>
                          <p:cTn id="2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5" dur="1000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6" dur="1000" fill="hold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7" dur="1000" fill="hold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8" nodeType="clickEffect" fill="hold">
                      <p:stCondLst>
                        <p:cond delay="indefinite"/>
                      </p:stCondLst>
                      <p:childTnLst>
                        <p:par>
                          <p:cTn id="2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2" dur="1000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3" dur="1000" fill="hold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4" dur="1000" fill="hold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7" dur="1000"/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8" dur="1000" fill="hold"/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9" dur="1000" fill="hold"/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2" dur="1000"/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3" dur="1000" fill="hold"/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4" dur="1000" fill="hold"/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5" nodeType="clickEffect" fill="hold">
                      <p:stCondLst>
                        <p:cond delay="indefinite"/>
                      </p:stCondLst>
                      <p:childTnLst>
                        <p:par>
                          <p:cTn id="2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9" dur="1000"/>
                                        <p:tgtEl>
                                          <p:spTgt spid="4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0" dur="1000" fill="hold"/>
                                        <p:tgtEl>
                                          <p:spTgt spid="4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1" dur="1000" fill="hold"/>
                                        <p:tgtEl>
                                          <p:spTgt spid="4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Uitvloeier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68000" y="1773000"/>
            <a:ext cx="677844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Blad heeft een waslaag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Beschermd tegen uitdrogen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druppels blijven groo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Door uitvloeier loopt druppel uit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betere bedekking en minder actieve stof nodi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Droog weer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waslaag dikker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Groeizaam weer met hoge temp en RV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waslaag dunner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GEWIS weegt weerbericht mee in dosi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92d050"/>
                </a:solidFill>
                <a:latin typeface="Trebuchet MS"/>
              </a:rPr>
              <a:t>http://www.opticrop.nl/default.asp?id=17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8ED5FB-EDD9-4AE1-9E19-7F86C415F34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Welke afbraakprocessen?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539640" y="1700280"/>
            <a:ext cx="70567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Verdamping van middel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Droge neerslag, sterk verdund met regenwater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Op de grond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In oppervlaktewater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Onder glas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Condensatie per m</a:t>
            </a:r>
            <a:r>
              <a:rPr b="0" lang="nl-NL" sz="2000" spc="-1" strike="noStrike" baseline="30000">
                <a:solidFill>
                  <a:srgbClr val="404040"/>
                </a:solidFill>
                <a:latin typeface="Trebuchet MS"/>
              </a:rPr>
              <a:t>2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glas =0,5 liter per dag opvangen als first flush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Drift </a:t>
            </a:r>
            <a:r>
              <a:rPr b="0" lang="nl-NL" sz="24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door wind verwaaien afh. van druk en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wind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4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833210-629B-4692-8AA4-D149AA016A7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2" dur="indefinite" restart="never" nodeType="tmRoot">
          <p:childTnLst>
            <p:seq>
              <p:cTn id="2523" dur="indefinite" nodeType="mainSeq">
                <p:childTnLst>
                  <p:par>
                    <p:cTn id="2524" nodeType="clickEffect" fill="hold">
                      <p:stCondLst>
                        <p:cond delay="indefinite"/>
                      </p:stCondLst>
                      <p:childTnLst>
                        <p:par>
                          <p:cTn id="2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8" dur="10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9" dur="10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0" dur="10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1" nodeType="clickEffect" fill="hold">
                      <p:stCondLst>
                        <p:cond delay="indefinite"/>
                      </p:stCondLst>
                      <p:childTnLst>
                        <p:par>
                          <p:cTn id="2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5" dur="10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6" dur="10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7" dur="10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0" dur="1000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1" dur="10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2" dur="10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5" dur="1000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6" dur="1000" fill="hold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7" dur="1000" fill="hold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8" nodeType="clickEffect" fill="hold">
                      <p:stCondLst>
                        <p:cond delay="indefinite"/>
                      </p:stCondLst>
                      <p:childTnLst>
                        <p:par>
                          <p:cTn id="2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2" dur="1000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3" dur="1000" fill="hold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4" dur="1000" fill="hold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5" nodeType="clickEffect" fill="hold">
                      <p:stCondLst>
                        <p:cond delay="indefinite"/>
                      </p:stCondLst>
                      <p:childTnLst>
                        <p:par>
                          <p:cTn id="2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9" dur="1000"/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0" dur="1000" fill="hold"/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1" dur="1000" fill="hold"/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2" nodeType="clickEffect" fill="hold">
                      <p:stCondLst>
                        <p:cond delay="indefinite"/>
                      </p:stCondLst>
                      <p:childTnLst>
                        <p:par>
                          <p:cTn id="2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6" dur="1000"/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7" dur="1000" fill="hold"/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8" dur="1000" fill="hold"/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Vragen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533160" y="1521000"/>
            <a:ext cx="65005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. Hoe kunnen gewasbeschermingsmiddelen in het 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milieu terecht komen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Verdamping, uitspoeling, afspoeling en drift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2. Wat geeft de DT waarde aan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De halfwaarde tijd in dag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3. Wat betekent accumulatie van een middel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Ophoping middel in voedselket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4. Wat is first flush?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Eerste water wat op kasdek valt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7" name="Tijdelijke aanduiding voor dianumm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83F881-8428-4EC4-9A31-83E676D0D8D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9" dur="indefinite" restart="never" nodeType="tmRoot">
          <p:childTnLst>
            <p:seq>
              <p:cTn id="2570" dur="indefinite" nodeType="mainSeq">
                <p:childTnLst>
                  <p:par>
                    <p:cTn id="2571" nodeType="clickEffect" fill="hold">
                      <p:stCondLst>
                        <p:cond delay="indefinite"/>
                      </p:stCondLst>
                      <p:childTnLst>
                        <p:par>
                          <p:cTn id="2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5" dur="500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6" nodeType="clickEffect" fill="hold">
                      <p:stCondLst>
                        <p:cond delay="indefinite"/>
                      </p:stCondLst>
                      <p:childTnLst>
                        <p:par>
                          <p:cTn id="2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0" dur="500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1" nodeType="clickEffect" fill="hold">
                      <p:stCondLst>
                        <p:cond delay="indefinite"/>
                      </p:stCondLst>
                      <p:childTnLst>
                        <p:par>
                          <p:cTn id="2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5" dur="500"/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6" nodeType="clickEffect" fill="hold">
                      <p:stCondLst>
                        <p:cond delay="indefinite"/>
                      </p:stCondLst>
                      <p:childTnLst>
                        <p:par>
                          <p:cTn id="2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0" dur="500"/>
                                        <p:tgtEl>
                                          <p:spTgt spid="4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Toelating middel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0" y="1519200"/>
            <a:ext cx="770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CTGB gewasbeschermingsmiddelen en biociden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lvl="1" marL="713160" indent="-2743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Volksgezondheidsaspect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1097280" indent="-2192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900" spc="-1" strike="noStrike">
                <a:solidFill>
                  <a:srgbClr val="404040"/>
                </a:solidFill>
                <a:latin typeface="Trebuchet MS"/>
              </a:rPr>
              <a:t>giftigheid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713160" indent="-2743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Milieu-aspect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1097280" indent="-2192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900" spc="-1" strike="noStrike">
                <a:solidFill>
                  <a:srgbClr val="404040"/>
                </a:solidFill>
                <a:latin typeface="Trebuchet MS"/>
              </a:rPr>
              <a:t>Mobiliteit (uitspoeling, verdamping, absorptie)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2" marL="1097280" indent="-2192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900" spc="-1" strike="noStrike">
                <a:solidFill>
                  <a:srgbClr val="404040"/>
                </a:solidFill>
                <a:latin typeface="Trebuchet MS"/>
              </a:rPr>
              <a:t>Persistentie (afbraak) DT of halfwaardetijd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2" marL="1097280" indent="-2192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900" spc="-1" strike="noStrike">
                <a:solidFill>
                  <a:srgbClr val="404040"/>
                </a:solidFill>
                <a:latin typeface="Trebuchet MS"/>
              </a:rPr>
              <a:t>Giftigheid waterorganismen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3" marL="1536120" indent="-2192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nl-NL" sz="1700" spc="-1" strike="noStrike">
                <a:solidFill>
                  <a:srgbClr val="404040"/>
                </a:solidFill>
                <a:latin typeface="Trebuchet MS"/>
              </a:rPr>
              <a:t>LD 50 waarde = letale dosis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3" marL="1536120" indent="-2192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nl-NL" sz="1700" spc="-1" strike="noStrike">
                <a:solidFill>
                  <a:srgbClr val="404040"/>
                </a:solidFill>
                <a:latin typeface="Trebuchet MS"/>
              </a:rPr>
              <a:t>LC-50 – lethale concentratie &lt; minder dan1% LC 50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3" marL="1536120" indent="-2192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nl-NL" sz="1700" spc="-1" strike="noStrike">
                <a:solidFill>
                  <a:srgbClr val="404040"/>
                </a:solidFill>
                <a:latin typeface="Trebuchet MS"/>
              </a:rPr>
              <a:t>EC-50 waarde =effectconcentratie door 50% – binnen 14 dagen reactie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0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398A86-944A-4CA9-8184-D99AB06EA6E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1" dur="indefinite" restart="never" nodeType="tmRoot">
          <p:childTnLst>
            <p:seq>
              <p:cTn id="2592" dur="indefinite" nodeType="mainSeq">
                <p:childTnLst>
                  <p:par>
                    <p:cTn id="2593" nodeType="clickEffect" fill="hold">
                      <p:stCondLst>
                        <p:cond delay="indefinite"/>
                      </p:stCondLst>
                      <p:childTnLst>
                        <p:par>
                          <p:cTn id="2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7" dur="10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8" dur="10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9" dur="10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0" nodeType="clickEffect" fill="hold">
                      <p:stCondLst>
                        <p:cond delay="indefinite"/>
                      </p:stCondLst>
                      <p:childTnLst>
                        <p:par>
                          <p:cTn id="2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4" dur="10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5" dur="10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6" dur="10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9" dur="100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0" dur="10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1" dur="10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2" nodeType="clickEffect" fill="hold">
                      <p:stCondLst>
                        <p:cond delay="indefinite"/>
                      </p:stCondLst>
                      <p:childTnLst>
                        <p:par>
                          <p:cTn id="2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6" dur="1000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7" dur="1000" fill="hold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8" dur="1000" fill="hold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1" dur="1000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2" dur="1000" fill="hold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3" dur="1000" fill="hold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6" dur="1000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7" dur="1000" fill="hold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8" dur="1000" fill="hold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1" dur="1000"/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2" dur="1000" fill="hold"/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3" dur="1000" fill="hold"/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4" nodeType="clickEffect" fill="hold">
                      <p:stCondLst>
                        <p:cond delay="indefinite"/>
                      </p:stCondLst>
                      <p:childTnLst>
                        <p:par>
                          <p:cTn id="2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8" dur="1000"/>
                                        <p:tgtEl>
                                          <p:spTgt spid="4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9" dur="1000" fill="hold"/>
                                        <p:tgtEl>
                                          <p:spTgt spid="4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0" dur="1000" fill="hold"/>
                                        <p:tgtEl>
                                          <p:spTgt spid="4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3" dur="1000"/>
                                        <p:tgtEl>
                                          <p:spTgt spid="4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4" dur="1000" fill="hold"/>
                                        <p:tgtEl>
                                          <p:spTgt spid="4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5" dur="1000" fill="hold"/>
                                        <p:tgtEl>
                                          <p:spTgt spid="4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8" dur="1000"/>
                                        <p:tgtEl>
                                          <p:spTgt spid="4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9" dur="1000" fill="hold"/>
                                        <p:tgtEl>
                                          <p:spTgt spid="4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0" dur="1000" fill="hold"/>
                                        <p:tgtEl>
                                          <p:spTgt spid="4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EU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395280" y="1557360"/>
            <a:ext cx="741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Toelating voor 10 jr. in EU land op annex A lijst </a:t>
            </a:r>
            <a:r>
              <a:rPr b="0" lang="nl-NL" sz="22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 andere landen mogen het middel ook toelaten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Dossier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cheikundige informatie (ws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Natuurkundige informatie (vlampunt etc.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Gebruik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Giftigheid voor de mens (acuut, chronisch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Ecotoxicologische gegevens milieu (bijen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3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4D3924-8C9F-45B4-A348-9703B3D865C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1" dur="indefinite" restart="never" nodeType="tmRoot">
          <p:childTnLst>
            <p:seq>
              <p:cTn id="2652" dur="indefinite" nodeType="mainSeq">
                <p:childTnLst>
                  <p:par>
                    <p:cTn id="2653" nodeType="clickEffect" fill="hold">
                      <p:stCondLst>
                        <p:cond delay="indefinite"/>
                      </p:stCondLst>
                      <p:childTnLst>
                        <p:par>
                          <p:cTn id="2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7" dur="10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8" dur="10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9" dur="10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0" nodeType="clickEffect" fill="hold">
                      <p:stCondLst>
                        <p:cond delay="indefinite"/>
                      </p:stCondLst>
                      <p:childTnLst>
                        <p:par>
                          <p:cTn id="2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4" dur="100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5" dur="1000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6" dur="1000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7" nodeType="clickEffect" fill="hold">
                      <p:stCondLst>
                        <p:cond delay="indefinite"/>
                      </p:stCondLst>
                      <p:childTnLst>
                        <p:par>
                          <p:cTn id="2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1" dur="1000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2" dur="1000" fill="hold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3" dur="1000" fill="hold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6" dur="1000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7" dur="1000" fill="hold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8" dur="1000" fill="hold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1" dur="1000"/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2" dur="1000" fill="hold"/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3" dur="1000" fill="hold"/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6" dur="1000"/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7" dur="1000" fill="hold"/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8" dur="1000" fill="hold"/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1" dur="1000"/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2" dur="1000" fill="hold"/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3" dur="1000" fill="hold"/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Ecotoxicologische gegevens </a:t>
            </a:r>
            <a:r>
              <a:rPr b="0" lang="nl-NL" sz="3000" spc="-1" strike="noStrike">
                <a:solidFill>
                  <a:srgbClr val="90c226"/>
                </a:solidFill>
                <a:latin typeface="Trebuchet MS"/>
              </a:rPr>
              <a:t>(giftigheid van het milieu)</a:t>
            </a:r>
            <a:endParaRPr b="0" lang="en-US" sz="3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630360" y="2045880"/>
            <a:ext cx="6348240" cy="38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CMR stoffen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Carcinogeen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kankerverwekkend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Mutageen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DNA veranderend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Reproductietoxisch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voortplantin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Trebuchet MS"/>
              </a:rPr>
              <a:t>https://zoek.officielebekendmakingen.nl/stcrt-2014-6.html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H en P zinn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Hazzard = gevaar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Precaution = voorzor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6" name="Tijdelijke aanduiding voor dianumm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FE3FAC-D571-4493-B511-17B7E8DCA75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4" dur="indefinite" restart="never" nodeType="tmRoot">
          <p:childTnLst>
            <p:seq>
              <p:cTn id="2695" dur="indefinite" nodeType="mainSeq">
                <p:childTnLst>
                  <p:par>
                    <p:cTn id="2696" nodeType="clickEffect" fill="hold">
                      <p:stCondLst>
                        <p:cond delay="indefinite"/>
                      </p:stCondLst>
                      <p:childTnLst>
                        <p:par>
                          <p:cTn id="2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0" dur="10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1" dur="10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2" dur="10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3" nodeType="clickEffect" fill="hold">
                      <p:stCondLst>
                        <p:cond delay="indefinite"/>
                      </p:stCondLst>
                      <p:childTnLst>
                        <p:par>
                          <p:cTn id="2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7" dur="1000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8" dur="10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9" dur="10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2" dur="1000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3" dur="10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4" dur="10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7" dur="1000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8" dur="10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9" dur="10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2" dur="1000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3" dur="1000" fill="hold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4" dur="1000" fill="hold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5" nodeType="clickEffect" fill="hold">
                      <p:stCondLst>
                        <p:cond delay="indefinite"/>
                      </p:stCondLst>
                      <p:childTnLst>
                        <p:par>
                          <p:cTn id="2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9" dur="1000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0" dur="1000" fill="hold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1" dur="1000" fill="hold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2" nodeType="clickEffect" fill="hold">
                      <p:stCondLst>
                        <p:cond delay="indefinite"/>
                      </p:stCondLst>
                      <p:childTnLst>
                        <p:par>
                          <p:cTn id="2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6" dur="1000"/>
                                        <p:tgtEl>
                                          <p:spTgt spid="4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7" dur="1000" fill="hold"/>
                                        <p:tgtEl>
                                          <p:spTgt spid="4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8" dur="1000" fill="hold"/>
                                        <p:tgtEl>
                                          <p:spTgt spid="4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1" dur="1000"/>
                                        <p:tgtEl>
                                          <p:spTgt spid="4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2" dur="1000" fill="hold"/>
                                        <p:tgtEl>
                                          <p:spTgt spid="4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3" dur="1000" fill="hold"/>
                                        <p:tgtEl>
                                          <p:spTgt spid="4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Milieu meetl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353520" y="1844640"/>
            <a:ext cx="7170840" cy="45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CLM 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(Centrum Landbouw en Milieu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Norm maximaal 100 mbp </a:t>
            </a:r>
            <a:r>
              <a:rPr b="0" lang="nl-NL" sz="1400" spc="-1" strike="noStrike">
                <a:solidFill>
                  <a:srgbClr val="404040"/>
                </a:solidFill>
                <a:latin typeface="Trebuchet MS"/>
              </a:rPr>
              <a:t>(milieu belastingspunten)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 per toepassin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Uitspoel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Persisten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Norm maximaal 10 mbp  per toepassin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waterorganism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Open teelt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Gesloten teelt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92d050"/>
                </a:solidFill>
                <a:latin typeface="Trebuchet MS"/>
              </a:rPr>
              <a:t>https://www.milieumeetlat.nl/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9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BE7241-3FCA-440E-92E7-FB86AC18FAC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4" dur="indefinite" restart="never" nodeType="tmRoot">
          <p:childTnLst>
            <p:seq>
              <p:cTn id="2745" dur="indefinite" nodeType="mainSeq">
                <p:childTnLst>
                  <p:par>
                    <p:cTn id="2746" nodeType="clickEffect" fill="hold">
                      <p:stCondLst>
                        <p:cond delay="indefinite"/>
                      </p:stCondLst>
                      <p:childTnLst>
                        <p:par>
                          <p:cTn id="2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0" dur="100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1" dur="10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2" dur="10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3" nodeType="clickEffect" fill="hold">
                      <p:stCondLst>
                        <p:cond delay="indefinite"/>
                      </p:stCondLst>
                      <p:childTnLst>
                        <p:par>
                          <p:cTn id="2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7" dur="1000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8" dur="1000" fill="hold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9" dur="1000" fill="hold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0" nodeType="clickEffect" fill="hold">
                      <p:stCondLst>
                        <p:cond delay="indefinite"/>
                      </p:stCondLst>
                      <p:childTnLst>
                        <p:par>
                          <p:cTn id="2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4" dur="1000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5" dur="1000" fill="hold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6" dur="1000" fill="hold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9" dur="1000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0" dur="1000" fill="hold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1" dur="1000" fill="hold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2" nodeType="clickEffect" fill="hold">
                      <p:stCondLst>
                        <p:cond delay="indefinite"/>
                      </p:stCondLst>
                      <p:childTnLst>
                        <p:par>
                          <p:cTn id="2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6" dur="1000"/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7" dur="1000" fill="hold"/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8" dur="1000" fill="hold"/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9" nodeType="clickEffect" fill="hold">
                      <p:stCondLst>
                        <p:cond delay="indefinite"/>
                      </p:stCondLst>
                      <p:childTnLst>
                        <p:par>
                          <p:cTn id="2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3" dur="1000"/>
                                        <p:tgtEl>
                                          <p:spTgt spid="4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4" dur="1000" fill="hold"/>
                                        <p:tgtEl>
                                          <p:spTgt spid="4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5" dur="1000" fill="hold"/>
                                        <p:tgtEl>
                                          <p:spTgt spid="4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6" nodeType="clickEffect" fill="hold">
                      <p:stCondLst>
                        <p:cond delay="indefinite"/>
                      </p:stCondLst>
                      <p:childTnLst>
                        <p:par>
                          <p:cTn id="2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0" dur="1000"/>
                                        <p:tgtEl>
                                          <p:spTgt spid="4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1" dur="1000" fill="hold"/>
                                        <p:tgtEl>
                                          <p:spTgt spid="4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2" dur="1000" fill="hold"/>
                                        <p:tgtEl>
                                          <p:spTgt spid="4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5" dur="1000"/>
                                        <p:tgtEl>
                                          <p:spTgt spid="4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6" dur="1000" fill="hold"/>
                                        <p:tgtEl>
                                          <p:spTgt spid="4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7" dur="1000" fill="hold"/>
                                        <p:tgtEl>
                                          <p:spTgt spid="4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0" dur="1000"/>
                                        <p:tgtEl>
                                          <p:spTgt spid="4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1" dur="1000" fill="hold"/>
                                        <p:tgtEl>
                                          <p:spTgt spid="4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2" dur="1000" fill="hold"/>
                                        <p:tgtEl>
                                          <p:spTgt spid="4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Derdentoelating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353880" y="1488960"/>
            <a:ext cx="6346800" cy="38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Voor kleine gewassen kan een toelating worden georganiseerd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EU zones </a:t>
            </a:r>
            <a:r>
              <a:rPr b="0" lang="nl-NL" sz="22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Annex-A lijs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2" name="Tijdelijke aanduiding voor dianumm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8A41AB-FA64-4776-B059-6A8D7798944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33" name="Picture 2" descr=""/>
          <p:cNvPicPr/>
          <p:nvPr/>
        </p:nvPicPr>
        <p:blipFill>
          <a:blip r:embed="rId1"/>
          <a:stretch/>
        </p:blipFill>
        <p:spPr>
          <a:xfrm>
            <a:off x="2614680" y="2344680"/>
            <a:ext cx="4343400" cy="32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3" dur="indefinite" restart="never" nodeType="tmRoot">
          <p:childTnLst>
            <p:seq>
              <p:cTn id="2804" dur="indefinite" nodeType="mainSeq">
                <p:childTnLst>
                  <p:par>
                    <p:cTn id="2805" nodeType="clickEffect" fill="hold">
                      <p:stCondLst>
                        <p:cond delay="indefinite"/>
                      </p:stCondLst>
                      <p:childTnLst>
                        <p:par>
                          <p:cTn id="2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9" dur="10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0" dur="10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1" dur="10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2" nodeType="clickEffect" fill="hold">
                      <p:stCondLst>
                        <p:cond delay="indefinite"/>
                      </p:stCondLst>
                      <p:childTnLst>
                        <p:par>
                          <p:cTn id="2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6" dur="1000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7" dur="10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8" dur="10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1" dur="1000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2" dur="1000" fill="hold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3" dur="1000" fill="hold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4" nodeType="clickEffect" fill="hold">
                      <p:stCondLst>
                        <p:cond delay="indefinite"/>
                      </p:stCondLst>
                      <p:childTnLst>
                        <p:par>
                          <p:cTn id="2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8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9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0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Neonicotinoiden; </a:t>
            </a:r>
            <a:r>
              <a:rPr b="0" lang="nl-NL" sz="2400" spc="-1" strike="noStrike">
                <a:solidFill>
                  <a:srgbClr val="90c226"/>
                </a:solidFill>
                <a:latin typeface="Trebuchet MS"/>
              </a:rPr>
              <a:t>imidacloprid, thiamethoxam, clothianidine</a:t>
            </a: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609120" y="2525760"/>
            <a:ext cx="63486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Chemische stof afgeleid van nicotin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Bieden tabaksplant bescherming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Gaucho als zaadbehandeling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Admire als systemisch insecticid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Doden insecten </a:t>
            </a:r>
            <a:r>
              <a:rPr b="0" lang="nl-NL" sz="22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 aantal vogelsoorten daalt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Bijensterfte of toch de varroamijt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6" name="Tijdelijke aanduiding voor dianumm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E61F98-F8B7-43B1-A992-D0E18AB5573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1" dur="indefinite" restart="never" nodeType="tmRoot">
          <p:childTnLst>
            <p:seq>
              <p:cTn id="2832" dur="indefinite" nodeType="mainSeq">
                <p:childTnLst>
                  <p:par>
                    <p:cTn id="2833" nodeType="clickEffect" fill="hold">
                      <p:stCondLst>
                        <p:cond delay="indefinite"/>
                      </p:stCondLst>
                      <p:childTnLst>
                        <p:par>
                          <p:cTn id="2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7" dur="10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8" dur="10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9" dur="10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2" dur="1000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3" dur="1000" fill="hold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4" dur="1000" fill="hold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7" dur="10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8" dur="1000" fill="hold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9" dur="1000" fill="hold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2" dur="1000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3" dur="1000" fill="hold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4" dur="1000" fill="hold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5" nodeType="clickEffect" fill="hold">
                      <p:stCondLst>
                        <p:cond delay="indefinite"/>
                      </p:stCondLst>
                      <p:childTnLst>
                        <p:par>
                          <p:cTn id="2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9" dur="1000"/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0" dur="1000" fill="hold"/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1" dur="1000" fill="hold"/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4" dur="1000"/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5" dur="1000" fill="hold"/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6" dur="1000" fill="hold"/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90c226"/>
                </a:solidFill>
                <a:latin typeface="Trebuchet MS"/>
              </a:rPr>
              <a:t>Vragen 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9640" y="1397160"/>
            <a:ext cx="8229600" cy="50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Wat betekent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Mutage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DNA veranderd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Reproductietoxisch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Gevaar voor voortplanting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Carcinoge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kankerverwekkend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Persistenti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afbraaksnelheid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9" name="Tijdelijke aanduiding voor dianumm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261EEB-20C6-4B9D-BD9F-711CF164EB9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7" dur="indefinite" restart="never" nodeType="tmRoot">
          <p:childTnLst>
            <p:seq>
              <p:cTn id="2868" dur="indefinite" nodeType="mainSeq">
                <p:childTnLst>
                  <p:par>
                    <p:cTn id="2869" nodeType="clickEffect" fill="hold">
                      <p:stCondLst>
                        <p:cond delay="indefinite"/>
                      </p:stCondLst>
                      <p:childTnLst>
                        <p:par>
                          <p:cTn id="2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3" nodeType="clickEffect" fill="hold">
                      <p:stCondLst>
                        <p:cond delay="indefinite"/>
                      </p:stCondLst>
                      <p:childTnLst>
                        <p:par>
                          <p:cTn id="2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7" nodeType="clickEffect" fill="hold">
                      <p:stCondLst>
                        <p:cond delay="indefinite"/>
                      </p:stCondLst>
                      <p:childTnLst>
                        <p:par>
                          <p:cTn id="2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1" nodeType="clickEffect" fill="hold">
                      <p:stCondLst>
                        <p:cond delay="indefinite"/>
                      </p:stCondLst>
                      <p:childTnLst>
                        <p:par>
                          <p:cTn id="2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Vragen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395280" y="162864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2. 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Wat is een derdentoelating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Toelating voor middelen met al een toelating in 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groot gewas dat ook in kleine gewassen wordt 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toegelat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3. Gelden voor toelating middelen in Nederland en 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Spanje dezelfde regels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Nee, elk land heeft zijn eigen toelatingseisen. Bij 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beoordeling wordt gelet op 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klimaatomstandigheden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2" name="Tijdelijke aanduiding voor dianumm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C1DA44-85E5-4232-A306-64E49139D0B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5" dur="indefinite" restart="never" nodeType="tmRoot">
          <p:childTnLst>
            <p:seq>
              <p:cTn id="2886" dur="indefinite" nodeType="mainSeq">
                <p:childTnLst>
                  <p:par>
                    <p:cTn id="2887" nodeType="clickEffect" fill="hold">
                      <p:stCondLst>
                        <p:cond delay="indefinite"/>
                      </p:stCondLst>
                      <p:childTnLst>
                        <p:par>
                          <p:cTn id="2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1" nodeType="clickEffect" fill="hold">
                      <p:stCondLst>
                        <p:cond delay="indefinite"/>
                      </p:stCondLst>
                      <p:childTnLst>
                        <p:par>
                          <p:cTn id="2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Vragen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609120" y="1628640"/>
            <a:ext cx="63486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1.Wat is de functie van een uitvloeier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Druppel laten uitvloeien voor een betere bladbedekking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2. Wat wordt bedoeld met de formulering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De vorm van het midd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3. Onder welke weersomstandigheden hebben planten een dunnere waslaag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Groeizaam weer met hoge Rv en hoge temp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3FBB5F-7EA8-40F2-85F1-00C32A0F6E3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Milieu meetl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Vergelijkt effecten verschillende middel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Uitspoeling grondwater afh. Org stof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Giftigheid bodemleven (wormen, etc) DT waarde en LC waard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Giftigheid waterleven (standaard 1% drift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92d050"/>
                </a:solidFill>
                <a:latin typeface="Trebuchet MS"/>
              </a:rPr>
              <a:t>https://www.milieumeetlat.nl</a:t>
            </a:r>
            <a:r>
              <a:rPr b="1" lang="nl-NL" sz="2000" spc="-1" strike="noStrike">
                <a:solidFill>
                  <a:srgbClr val="92d050"/>
                </a:solidFill>
                <a:latin typeface="Trebuchet MS"/>
              </a:rPr>
              <a:t>/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5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9C4848-F8CD-41E4-9B92-0C6B3E70273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5" dur="indefinite" restart="never" nodeType="tmRoot">
          <p:childTnLst>
            <p:seq>
              <p:cTn id="2896" dur="indefinite" nodeType="mainSeq">
                <p:childTnLst>
                  <p:par>
                    <p:cTn id="2897" nodeType="clickEffect" fill="hold">
                      <p:stCondLst>
                        <p:cond delay="indefinite"/>
                      </p:stCondLst>
                      <p:childTnLst>
                        <p:par>
                          <p:cTn id="2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1" dur="100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2" dur="10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3" dur="10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4" nodeType="clickEffect" fill="hold">
                      <p:stCondLst>
                        <p:cond delay="indefinite"/>
                      </p:stCondLst>
                      <p:childTnLst>
                        <p:par>
                          <p:cTn id="2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8" dur="1000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9" dur="1000" fill="hold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0" dur="1000" fill="hold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3" dur="1000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4" dur="1000" fill="hold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5" dur="1000" fill="hold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8" dur="1000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9" dur="1000" fill="hold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0" dur="1000" fill="hold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3" dur="1000"/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4" dur="1000" fill="hold"/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5" dur="1000" fill="hold"/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Vergelijk 3 bladluismiddel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466560" y="1844280"/>
            <a:ext cx="8210880" cy="40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92d050"/>
                </a:solidFill>
                <a:latin typeface="Trebuchet MS"/>
              </a:rPr>
              <a:t>https://www.milieumeetlat.nl/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         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waterleven Bodeml grondwater  risico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Decis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510 pt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0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0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B  C  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Calypso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 30 pt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0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1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B  C  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Tepekki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   0 pt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0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0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A  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Dus Decis gaat 5x over wettelijke norm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8" name="Tijdelijke aanduiding voor dianumm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15AD04-89CA-4B22-9245-02306814A4C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6" dur="indefinite" restart="never" nodeType="tmRoot">
          <p:childTnLst>
            <p:seq>
              <p:cTn id="2927" dur="indefinite" nodeType="mainSeq">
                <p:childTnLst>
                  <p:par>
                    <p:cTn id="2928" nodeType="clickEffect" fill="hold">
                      <p:stCondLst>
                        <p:cond delay="indefinite"/>
                      </p:stCondLst>
                      <p:childTnLst>
                        <p:par>
                          <p:cTn id="2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932" dur="2000"/>
                                        <p:tgtEl>
                                          <p:spTgt spid="4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Milieumeetlat kas-teel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684360" y="1930320"/>
            <a:ext cx="6346800" cy="459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Dosering L of Kg / ha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Toepassingswijz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Aantal toepassingen/ seizo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Emissie bij ruimtebehandeling door afluchten tot 40 %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Maximaal toelaatbaar Risico ½ dag na toepassing vaststell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Hoeveelheid waarbij 95 % toetsorganismen geen reactie geef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1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DB3188-3E99-4CD6-A4FE-F3E0EF55405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3" dur="indefinite" restart="never" nodeType="tmRoot">
          <p:childTnLst>
            <p:seq>
              <p:cTn id="2934" dur="indefinite" nodeType="mainSeq">
                <p:childTnLst>
                  <p:par>
                    <p:cTn id="2935" nodeType="clickEffect" fill="hold">
                      <p:stCondLst>
                        <p:cond delay="indefinite"/>
                      </p:stCondLst>
                      <p:childTnLst>
                        <p:par>
                          <p:cTn id="2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9" dur="100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0" dur="1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1" dur="1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2" nodeType="clickEffect" fill="hold">
                      <p:stCondLst>
                        <p:cond delay="indefinite"/>
                      </p:stCondLst>
                      <p:childTnLst>
                        <p:par>
                          <p:cTn id="2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6" dur="1000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7" dur="1000" fill="hold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8" dur="1000" fill="hold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1" dur="1000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2" dur="1000" fill="hold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3" dur="1000" fill="hold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4" nodeType="clickEffect" fill="hold">
                      <p:stCondLst>
                        <p:cond delay="indefinite"/>
                      </p:stCondLst>
                      <p:childTnLst>
                        <p:par>
                          <p:cTn id="2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8" dur="1000"/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9" dur="1000" fill="hold"/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0" dur="1000" fill="hold"/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1" nodeType="clickEffect" fill="hold">
                      <p:stCondLst>
                        <p:cond delay="indefinite"/>
                      </p:stCondLst>
                      <p:childTnLst>
                        <p:par>
                          <p:cTn id="2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5" dur="1000"/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6" dur="1000" fill="hold"/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7" dur="1000" fill="hold"/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8" nodeType="clickEffect" fill="hold">
                      <p:stCondLst>
                        <p:cond delay="indefinite"/>
                      </p:stCondLst>
                      <p:childTnLst>
                        <p:par>
                          <p:cTn id="2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2" dur="1000"/>
                                        <p:tgtEl>
                                          <p:spTgt spid="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3" dur="1000" fill="hold"/>
                                        <p:tgtEl>
                                          <p:spTgt spid="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4" dur="1000" fill="hold"/>
                                        <p:tgtEl>
                                          <p:spTgt spid="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Vragen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68000" y="1483920"/>
            <a:ext cx="69944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. 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Waar zijn de milieu belastingspunten in de 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milieumeetlat van afgeleid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Van de mate van uitspoeling naar grondwater en 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giftigheid bodem en waterlev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2. Wat geeft de MTR van een middel aan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Hoeveel middel waarbij 95% van organismen na 12 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uur geen reactie laat zien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3. Wanneer is emissie naar de lucht het grootst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Ruimtebehandeling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4" name="Tijdelijke aanduiding voor dianumm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03E637-7F70-475F-A35A-729F2F826C4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5" dur="indefinite" restart="never" nodeType="tmRoot">
          <p:childTnLst>
            <p:seq>
              <p:cTn id="2976" dur="indefinite" nodeType="mainSeq">
                <p:childTnLst>
                  <p:par>
                    <p:cTn id="2977" nodeType="clickEffect" fill="hold">
                      <p:stCondLst>
                        <p:cond delay="indefinite"/>
                      </p:stCondLst>
                      <p:childTnLst>
                        <p:par>
                          <p:cTn id="2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1" nodeType="clickEffect" fill="hold">
                      <p:stCondLst>
                        <p:cond delay="indefinite"/>
                      </p:stCondLst>
                      <p:childTnLst>
                        <p:par>
                          <p:cTn id="2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5" nodeType="clickEffect" fill="hold">
                      <p:stCondLst>
                        <p:cond delay="indefinite"/>
                      </p:stCondLst>
                      <p:childTnLst>
                        <p:par>
                          <p:cTn id="2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Gewasbeschermingsmiddelen en resistenti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609120" y="1929960"/>
            <a:ext cx="6348600" cy="43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Hoe ontstaat resistentie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Genetische verandering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Werking midd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Monogene / polygene resistenti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Aantal toepassingen, doseringen en persistenti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Middelen hebben een werking dichtbij de natuurlijke werking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Daardoor soms minder gevoelige individu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Genetische eigenschap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Kunnen onkruiden ook resistent worden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ff0000"/>
                </a:solidFill>
                <a:latin typeface="Trebuchet MS"/>
              </a:rPr>
              <a:t>Ja, denk aan brandnetel bij glyfosaa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9" dur="indefinite" restart="never" nodeType="tmRoot">
          <p:childTnLst>
            <p:seq>
              <p:cTn id="2990" dur="indefinite" nodeType="mainSeq">
                <p:childTnLst>
                  <p:par>
                    <p:cTn id="2991" nodeType="clickEffect" fill="hold">
                      <p:stCondLst>
                        <p:cond delay="indefinite"/>
                      </p:stCondLst>
                      <p:childTnLst>
                        <p:par>
                          <p:cTn id="2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5" dur="500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8" dur="500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1" dur="500"/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4" dur="500"/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5" nodeType="clickEffect" fill="hold">
                      <p:stCondLst>
                        <p:cond delay="indefinite"/>
                      </p:stCondLst>
                      <p:childTnLst>
                        <p:par>
                          <p:cTn id="3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9" dur="1000"/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0" dur="1000" fill="hold"/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1" dur="1000" fill="hold"/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2" nodeType="clickEffect" fill="hold">
                      <p:stCondLst>
                        <p:cond delay="indefinite"/>
                      </p:stCondLst>
                      <p:childTnLst>
                        <p:par>
                          <p:cTn id="3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6" dur="1000"/>
                                        <p:tgtEl>
                                          <p:spTgt spid="4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7" dur="1000" fill="hold"/>
                                        <p:tgtEl>
                                          <p:spTgt spid="4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8" dur="1000" fill="hold"/>
                                        <p:tgtEl>
                                          <p:spTgt spid="4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1" dur="1000"/>
                                        <p:tgtEl>
                                          <p:spTgt spid="4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2" dur="1000" fill="hold"/>
                                        <p:tgtEl>
                                          <p:spTgt spid="4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3" dur="1000" fill="hold"/>
                                        <p:tgtEl>
                                          <p:spTgt spid="4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4" nodeType="clickEffect" fill="hold">
                      <p:stCondLst>
                        <p:cond delay="indefinite"/>
                      </p:stCondLst>
                      <p:childTnLst>
                        <p:par>
                          <p:cTn id="30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8" dur="1000"/>
                                        <p:tgtEl>
                                          <p:spTgt spid="4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9" dur="1000" fill="hold"/>
                                        <p:tgtEl>
                                          <p:spTgt spid="4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0" dur="1000" fill="hold"/>
                                        <p:tgtEl>
                                          <p:spTgt spid="4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1" nodeType="clickEffect" fill="hold">
                      <p:stCondLst>
                        <p:cond delay="indefinite"/>
                      </p:stCondLst>
                      <p:childTnLst>
                        <p:par>
                          <p:cTn id="3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5" dur="1000"/>
                                        <p:tgtEl>
                                          <p:spTgt spid="4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6" dur="1000" fill="hold"/>
                                        <p:tgtEl>
                                          <p:spTgt spid="4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7" dur="1000" fill="hold"/>
                                        <p:tgtEl>
                                          <p:spTgt spid="4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Resistentie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179280" y="1557360"/>
            <a:ext cx="70567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Resistentie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Insecten  - binnen een jaar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Schimmel – binnen enkele maand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Onkruiden- binnen enkele jar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Werking van het midd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Breedwerkend vb tegen energieoverdracht en aanmaak eiwitten. Dus grijpen in op verschillende levensprocessen in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minder gevoelig voor resistenti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ystemische grijpen vaak in één proces i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8" dur="indefinite" restart="never" nodeType="tmRoot">
          <p:childTnLst>
            <p:seq>
              <p:cTn id="3039" dur="indefinite" nodeType="mainSeq">
                <p:childTnLst>
                  <p:par>
                    <p:cTn id="3040" nodeType="clickEffect" fill="hold">
                      <p:stCondLst>
                        <p:cond delay="indefinite"/>
                      </p:stCondLst>
                      <p:childTnLst>
                        <p:par>
                          <p:cTn id="3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4" dur="1000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5" dur="10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6" dur="10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7" nodeType="clickEffect" fill="hold">
                      <p:stCondLst>
                        <p:cond delay="indefinite"/>
                      </p:stCondLst>
                      <p:childTnLst>
                        <p:par>
                          <p:cTn id="3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1" dur="1000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2" dur="1000" fill="hold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3" dur="1000" fill="hold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6" dur="1000"/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7" dur="1000" fill="hold"/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8" dur="1000" fill="hold"/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1" dur="1000"/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2" dur="1000" fill="hold"/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3" dur="1000" fill="hold"/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4" nodeType="clickEffect" fill="hold">
                      <p:stCondLst>
                        <p:cond delay="indefinite"/>
                      </p:stCondLst>
                      <p:childTnLst>
                        <p:par>
                          <p:cTn id="3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8" dur="1000"/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9" dur="1000" fill="hold"/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0" dur="1000" fill="hold"/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1" nodeType="clickEffect" fill="hold">
                      <p:stCondLst>
                        <p:cond delay="indefinite"/>
                      </p:stCondLst>
                      <p:childTnLst>
                        <p:par>
                          <p:cTn id="3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5" dur="1000"/>
                                        <p:tgtEl>
                                          <p:spTgt spid="4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6" dur="1000" fill="hold"/>
                                        <p:tgtEl>
                                          <p:spTgt spid="4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7" dur="1000" fill="hold"/>
                                        <p:tgtEl>
                                          <p:spTgt spid="4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0" dur="1000"/>
                                        <p:tgtEl>
                                          <p:spTgt spid="4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1" dur="1000" fill="hold"/>
                                        <p:tgtEl>
                                          <p:spTgt spid="4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2" dur="1000" fill="hold"/>
                                        <p:tgtEl>
                                          <p:spTgt spid="4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5" dur="1000"/>
                                        <p:tgtEl>
                                          <p:spTgt spid="4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6" dur="1000" fill="hold"/>
                                        <p:tgtEl>
                                          <p:spTgt spid="4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7" dur="1000" fill="hold"/>
                                        <p:tgtEl>
                                          <p:spTgt spid="4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90c226"/>
                </a:solidFill>
                <a:latin typeface="Trebuchet MS"/>
              </a:rPr>
              <a:t>Komkommerbontvirus (CGMMV)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533160" y="2349360"/>
            <a:ext cx="65005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Al 10 resistente rasse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Immuun; geen aantasting door de ziekt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Hoge resistentie = beide ouderlijnen zijn resistent. Bij hoge ziektedruk soms enige symptom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Intermediaire resistentie= 1 ouderlijn is resistent. Meer schade en symptomen bij ziektedruk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8" dur="indefinite" restart="never" nodeType="tmRoot">
          <p:childTnLst>
            <p:seq>
              <p:cTn id="3089" dur="indefinite" nodeType="mainSeq">
                <p:childTnLst>
                  <p:par>
                    <p:cTn id="3090" nodeType="clickEffect" fill="hold">
                      <p:stCondLst>
                        <p:cond delay="indefinite"/>
                      </p:stCondLst>
                      <p:childTnLst>
                        <p:par>
                          <p:cTn id="30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4" dur="1000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5" dur="100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6" dur="100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7" nodeType="clickEffect" fill="hold">
                      <p:stCondLst>
                        <p:cond delay="indefinite"/>
                      </p:stCondLst>
                      <p:childTnLst>
                        <p:par>
                          <p:cTn id="3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1" dur="1000"/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2" dur="1000" fill="hold"/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3" dur="1000" fill="hold"/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6" dur="1000"/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7" dur="1000" fill="hold"/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8" dur="1000" fill="hold"/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1" dur="1000"/>
                                        <p:tgtEl>
                                          <p:spTgt spid="4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2" dur="1000" fill="hold"/>
                                        <p:tgtEl>
                                          <p:spTgt spid="4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3" dur="1000" fill="hold"/>
                                        <p:tgtEl>
                                          <p:spTgt spid="4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Resistenti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68360" y="1628640"/>
            <a:ext cx="85075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Monogene resistenti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Resistentie berustend op 1 gen of 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1 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eigenschap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polygene resistenti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Meer dan 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éé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n g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oorbeeld, volledige resistentie bij 3 gen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uurt lang voordat alle nakomelingen dit hebb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4" dur="indefinite" restart="never" nodeType="tmRoot">
          <p:childTnLst>
            <p:seq>
              <p:cTn id="3115" dur="indefinite" nodeType="mainSeq">
                <p:childTnLst>
                  <p:par>
                    <p:cTn id="3116" nodeType="clickEffect" fill="hold">
                      <p:stCondLst>
                        <p:cond delay="indefinite"/>
                      </p:stCondLst>
                      <p:childTnLst>
                        <p:par>
                          <p:cTn id="3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0" dur="100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1" dur="1000" fill="hold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2" dur="1000" fill="hold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3" nodeType="clickEffect" fill="hold">
                      <p:stCondLst>
                        <p:cond delay="indefinite"/>
                      </p:stCondLst>
                      <p:childTnLst>
                        <p:par>
                          <p:cTn id="3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7" dur="1000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8" dur="1000" fill="hold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9" dur="1000" fill="hold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0" nodeType="clickEffect" fill="hold">
                      <p:stCondLst>
                        <p:cond delay="indefinite"/>
                      </p:stCondLst>
                      <p:childTnLst>
                        <p:par>
                          <p:cTn id="3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4" dur="1000"/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5" dur="1000" fill="hold"/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6" dur="1000" fill="hold"/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7" nodeType="clickEffect" fill="hold">
                      <p:stCondLst>
                        <p:cond delay="indefinite"/>
                      </p:stCondLst>
                      <p:childTnLst>
                        <p:par>
                          <p:cTn id="3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1" dur="1000"/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2" dur="1000" fill="hold"/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3" dur="1000" fill="hold"/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6" dur="1000"/>
                                        <p:tgtEl>
                                          <p:spTgt spid="4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7" dur="1000" fill="hold"/>
                                        <p:tgtEl>
                                          <p:spTgt spid="4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8" dur="1000" fill="hold"/>
                                        <p:tgtEl>
                                          <p:spTgt spid="4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1" dur="1000"/>
                                        <p:tgtEl>
                                          <p:spTgt spid="4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2" dur="1000" fill="hold"/>
                                        <p:tgtEl>
                                          <p:spTgt spid="4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3" dur="1000" fill="hold"/>
                                        <p:tgtEl>
                                          <p:spTgt spid="4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Resistenti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108000" y="1773360"/>
            <a:ext cx="71280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Aantal toepassingen, doseringen en persistentie van het midd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Elke toepassing selecteer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Hoge dosering versnel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ooral bij monogene resisten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ij polygene resistentie stapsgewijze opbouw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Persistente middelen (bodemherbiciden</a:t>
            </a:r>
            <a:r>
              <a:rPr b="0" lang="nl-NL" sz="1600" spc="-1" strike="noStrike">
                <a:solidFill>
                  <a:srgbClr val="404040"/>
                </a:solidFill>
                <a:latin typeface="Trebuchet MS"/>
              </a:rPr>
              <a:t>)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Lang aanwezig, dus doden lang de gevoelige en niet de ongevoelig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4" dur="indefinite" restart="never" nodeType="tmRoot">
          <p:childTnLst>
            <p:seq>
              <p:cTn id="3155" dur="indefinite" nodeType="mainSeq">
                <p:childTnLst>
                  <p:par>
                    <p:cTn id="3156" nodeType="clickEffect" fill="hold">
                      <p:stCondLst>
                        <p:cond delay="indefinite"/>
                      </p:stCondLst>
                      <p:childTnLst>
                        <p:par>
                          <p:cTn id="3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0" dur="1000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1" dur="1000" fill="hold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2" dur="1000" fill="hold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3" nodeType="clickEffect" fill="hold">
                      <p:stCondLst>
                        <p:cond delay="indefinite"/>
                      </p:stCondLst>
                      <p:childTnLst>
                        <p:par>
                          <p:cTn id="3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7" dur="1000"/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8" dur="1000" fill="hold"/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9" dur="1000" fill="hold"/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2" dur="1000"/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3" dur="1000" fill="hold"/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4" dur="1000" fill="hold"/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5" nodeType="clickEffect" fill="hold">
                      <p:stCondLst>
                        <p:cond delay="indefinite"/>
                      </p:stCondLst>
                      <p:childTnLst>
                        <p:par>
                          <p:cTn id="3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9" dur="1000"/>
                                        <p:tgtEl>
                                          <p:spTgt spid="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0" dur="1000" fill="hold"/>
                                        <p:tgtEl>
                                          <p:spTgt spid="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1" dur="1000" fill="hold"/>
                                        <p:tgtEl>
                                          <p:spTgt spid="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4" dur="1000"/>
                                        <p:tgtEl>
                                          <p:spTgt spid="4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5" dur="1000" fill="hold"/>
                                        <p:tgtEl>
                                          <p:spTgt spid="4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6" dur="1000" fill="hold"/>
                                        <p:tgtEl>
                                          <p:spTgt spid="4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7" nodeType="clickEffect" fill="hold">
                      <p:stCondLst>
                        <p:cond delay="indefinite"/>
                      </p:stCondLst>
                      <p:childTnLst>
                        <p:par>
                          <p:cTn id="3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1" dur="1000"/>
                                        <p:tgtEl>
                                          <p:spTgt spid="4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2" dur="1000" fill="hold"/>
                                        <p:tgtEl>
                                          <p:spTgt spid="4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3" dur="1000" fill="hold"/>
                                        <p:tgtEl>
                                          <p:spTgt spid="4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4" nodeType="clickEffect" fill="hold">
                      <p:stCondLst>
                        <p:cond delay="indefinite"/>
                      </p:stCondLst>
                      <p:childTnLst>
                        <p:par>
                          <p:cTn id="3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8" dur="1000"/>
                                        <p:tgtEl>
                                          <p:spTgt spid="4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9" dur="1000" fill="hold"/>
                                        <p:tgtEl>
                                          <p:spTgt spid="4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0" dur="1000" fill="hold"/>
                                        <p:tgtEl>
                                          <p:spTgt spid="4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Selectiedruk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609120" y="1773000"/>
            <a:ext cx="6348600" cy="38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Soort middel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Hoogte dosering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Aantal toepassingen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Hoge selectiedruk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Veelvuldig moeilijk afbreekbaar in hoge dosering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Lage selectiedruk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Snel afbreekbaar, incidentele toepassing, lage dosering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1" dur="indefinite" restart="never" nodeType="tmRoot">
          <p:childTnLst>
            <p:seq>
              <p:cTn id="3202" dur="indefinite" nodeType="mainSeq">
                <p:childTnLst>
                  <p:par>
                    <p:cTn id="3203" nodeType="clickEffect" fill="hold">
                      <p:stCondLst>
                        <p:cond delay="indefinite"/>
                      </p:stCondLst>
                      <p:childTnLst>
                        <p:par>
                          <p:cTn id="3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7" dur="10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8" dur="10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9" dur="10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0" nodeType="clickEffect" fill="hold">
                      <p:stCondLst>
                        <p:cond delay="indefinite"/>
                      </p:stCondLst>
                      <p:childTnLst>
                        <p:par>
                          <p:cTn id="3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4" dur="1000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5" dur="1000" fill="hold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6" dur="1000" fill="hold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7" nodeType="clickEffect" fill="hold">
                      <p:stCondLst>
                        <p:cond delay="indefinite"/>
                      </p:stCondLst>
                      <p:childTnLst>
                        <p:par>
                          <p:cTn id="3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1" dur="1000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2" dur="1000" fill="hold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3" dur="1000" fill="hold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4" nodeType="clickEffect" fill="hold">
                      <p:stCondLst>
                        <p:cond delay="indefinite"/>
                      </p:stCondLst>
                      <p:childTnLst>
                        <p:par>
                          <p:cTn id="3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8" dur="1000"/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9" dur="1000" fill="hold"/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0" dur="1000" fill="hold"/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3" dur="1000"/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4" dur="1000" fill="hold"/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5" dur="1000" fill="hold"/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6" nodeType="clickEffect" fill="hold">
                      <p:stCondLst>
                        <p:cond delay="indefinite"/>
                      </p:stCondLst>
                      <p:childTnLst>
                        <p:par>
                          <p:cTn id="3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0" dur="1000"/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1" dur="1000" fill="hold"/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2" dur="1000" fill="hold"/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5" dur="1000"/>
                                        <p:tgtEl>
                                          <p:spTgt spid="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6" dur="1000" fill="hold"/>
                                        <p:tgtEl>
                                          <p:spTgt spid="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7" dur="1000" fill="hold"/>
                                        <p:tgtEl>
                                          <p:spTgt spid="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Formulering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96840" y="1488600"/>
            <a:ext cx="75708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Zoals door de fabrikant samengesteld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Poeder en korrels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Spuitpoeder (werkzame stof met kalk als vulstof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uspensie – residu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Kan stuiven bij het klaarmak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Wateroplosbare verpakkingen mogelijk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chuimt bij klaarmak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Middelen met hoge concentratie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Stuifpoeder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Beperkt – lage concentratie werkzame stof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eel residu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8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400C53-5BFE-44F7-BFF1-5D140EE5A52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Systemische middel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Moderne middelen vaak systemisch. Werken maar op 1 proce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Transport in plant dus vooral curatief toepassen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Niet-systemische middelen preventief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9" name="Tijdelijke aanduiding voor dianumm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4AC410-927E-46AE-9F1D-163782A8278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8" dur="indefinite" restart="never" nodeType="tmRoot">
          <p:childTnLst>
            <p:seq>
              <p:cTn id="3249" dur="indefinite" nodeType="mainSeq">
                <p:childTnLst>
                  <p:par>
                    <p:cTn id="3250" nodeType="clickEffect" fill="hold">
                      <p:stCondLst>
                        <p:cond delay="indefinite"/>
                      </p:stCondLst>
                      <p:childTnLst>
                        <p:par>
                          <p:cTn id="3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4" dur="1000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5" dur="10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6" dur="10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7" nodeType="clickEffect" fill="hold">
                      <p:stCondLst>
                        <p:cond delay="indefinite"/>
                      </p:stCondLst>
                      <p:childTnLst>
                        <p:par>
                          <p:cTn id="3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1" dur="1000"/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2" dur="1000" fill="hold"/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3" dur="1000" fill="hold"/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4" nodeType="clickEffect" fill="hold">
                      <p:stCondLst>
                        <p:cond delay="indefinite"/>
                      </p:stCondLst>
                      <p:childTnLst>
                        <p:par>
                          <p:cTn id="3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8" dur="1000"/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9" dur="1000" fill="hold"/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0" dur="1000" fill="hold"/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Vragen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57200" y="1150920"/>
            <a:ext cx="656280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. 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Wat is verschil tussen monogene en polygene 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resistentie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Monogeen berust op 1 gen of eigenschap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2. Welke resistentie kan zich het snelst 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ontwikkelen?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monoge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3. Welke factoren bepalen de selectiedruk van 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een middel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Het middel, dosering, persistentie en aantal 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toepassingen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2" name="Tijdelijke aanduiding voor dianumm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2FC63D-1A83-4545-86DC-DFAEFDE1106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1" dur="indefinite" restart="never" nodeType="tmRoot">
          <p:childTnLst>
            <p:seq>
              <p:cTn id="3272" dur="indefinite" nodeType="mainSeq">
                <p:childTnLst>
                  <p:par>
                    <p:cTn id="3273" nodeType="clickEffect" fill="hold">
                      <p:stCondLst>
                        <p:cond delay="indefinite"/>
                      </p:stCondLst>
                      <p:childTnLst>
                        <p:par>
                          <p:cTn id="3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7" nodeType="clickEffect" fill="hold">
                      <p:stCondLst>
                        <p:cond delay="indefinite"/>
                      </p:stCondLst>
                      <p:childTnLst>
                        <p:par>
                          <p:cTn id="3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1" nodeType="clickEffect" fill="hold">
                      <p:stCondLst>
                        <p:cond delay="indefinite"/>
                      </p:stCondLst>
                      <p:childTnLst>
                        <p:par>
                          <p:cTn id="3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63482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Kruisresistenti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250560" y="1197000"/>
            <a:ext cx="7931160" cy="47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Middelen uit dezelfde chemisch groep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Lijken op elkaar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Werken meestal volgens het zelfde princip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Melde en nachtschad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Atrazin, Sencor, Goltix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 u="sng">
                <a:solidFill>
                  <a:srgbClr val="404040"/>
                </a:solidFill>
                <a:uFillTx/>
                <a:latin typeface="Trebuchet MS"/>
              </a:rPr>
              <a:t>Insecticiden  - choline-esterase remmer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Insect maakt meer choline-esterase waardoor andere choline estraseremmers ook niet meer help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Zelfde werking ook in andere chemische groep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Metabolische resistentie: </a:t>
            </a:r>
            <a:r>
              <a:rPr b="0" lang="nl-NL" sz="1700" spc="-1" strike="noStrike">
                <a:solidFill>
                  <a:srgbClr val="404040"/>
                </a:solidFill>
                <a:latin typeface="Trebuchet MS"/>
              </a:rPr>
              <a:t>(grijpt in dezelfde </a:t>
            </a:r>
            <a:r>
              <a:rPr b="0" lang="nl-NL" sz="17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7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7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7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7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7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7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700" spc="-1" strike="noStrike">
                <a:solidFill>
                  <a:srgbClr val="404040"/>
                </a:solidFill>
                <a:latin typeface="Trebuchet MS"/>
              </a:rPr>
              <a:t>stofwisselingsproces, maar komen uit verschillende </a:t>
            </a:r>
            <a:r>
              <a:rPr b="0" lang="nl-NL" sz="17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7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7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7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700" spc="-1" strike="noStrike">
                <a:solidFill>
                  <a:srgbClr val="404040"/>
                </a:solidFill>
                <a:latin typeface="Trebuchet MS"/>
              </a:rPr>
              <a:t>chemische groepen)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5" dur="indefinite" restart="never" nodeType="tmRoot">
          <p:childTnLst>
            <p:seq>
              <p:cTn id="3286" dur="indefinite" nodeType="mainSeq">
                <p:childTnLst>
                  <p:par>
                    <p:cTn id="3287" nodeType="clickEffect" fill="hold">
                      <p:stCondLst>
                        <p:cond delay="indefinite"/>
                      </p:stCondLst>
                      <p:childTnLst>
                        <p:par>
                          <p:cTn id="3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1" dur="1000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2" dur="10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3" dur="10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4" nodeType="clickEffect" fill="hold">
                      <p:stCondLst>
                        <p:cond delay="indefinite"/>
                      </p:stCondLst>
                      <p:childTnLst>
                        <p:par>
                          <p:cTn id="3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8" dur="1000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9" dur="1000" fill="hold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0" dur="1000" fill="hold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3" dur="1000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4" dur="1000" fill="hold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5" dur="1000" fill="hold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6" nodeType="clickEffect" fill="hold">
                      <p:stCondLst>
                        <p:cond delay="indefinite"/>
                      </p:stCondLst>
                      <p:childTnLst>
                        <p:par>
                          <p:cTn id="3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0" dur="1000"/>
                                        <p:tgtEl>
                                          <p:spTgt spid="4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1" dur="1000" fill="hold"/>
                                        <p:tgtEl>
                                          <p:spTgt spid="4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2" dur="1000" fill="hold"/>
                                        <p:tgtEl>
                                          <p:spTgt spid="4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5" dur="1000"/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6" dur="1000" fill="hold"/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7" dur="1000" fill="hold"/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8" nodeType="clickEffect" fill="hold">
                      <p:stCondLst>
                        <p:cond delay="indefinite"/>
                      </p:stCondLst>
                      <p:childTnLst>
                        <p:par>
                          <p:cTn id="3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2" dur="1000"/>
                                        <p:tgtEl>
                                          <p:spTgt spid="4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3" dur="1000" fill="hold"/>
                                        <p:tgtEl>
                                          <p:spTgt spid="4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4" dur="1000" fill="hold"/>
                                        <p:tgtEl>
                                          <p:spTgt spid="4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5" nodeType="clickEffect" fill="hold">
                      <p:stCondLst>
                        <p:cond delay="indefinite"/>
                      </p:stCondLst>
                      <p:childTnLst>
                        <p:par>
                          <p:cTn id="3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9" dur="1000"/>
                                        <p:tgtEl>
                                          <p:spTgt spid="4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0" dur="1000" fill="hold"/>
                                        <p:tgtEl>
                                          <p:spTgt spid="4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1" dur="1000" fill="hold"/>
                                        <p:tgtEl>
                                          <p:spTgt spid="4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2" nodeType="clickEffect" fill="hold">
                      <p:stCondLst>
                        <p:cond delay="indefinite"/>
                      </p:stCondLst>
                      <p:childTnLst>
                        <p:par>
                          <p:cTn id="3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6" dur="1000"/>
                                        <p:tgtEl>
                                          <p:spTgt spid="4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7" dur="1000" fill="hold"/>
                                        <p:tgtEl>
                                          <p:spTgt spid="4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8" dur="1000" fill="hold"/>
                                        <p:tgtEl>
                                          <p:spTgt spid="4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1" dur="1000"/>
                                        <p:tgtEl>
                                          <p:spTgt spid="4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2" dur="1000" fill="hold"/>
                                        <p:tgtEl>
                                          <p:spTgt spid="4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3" dur="1000" fill="hold"/>
                                        <p:tgtEl>
                                          <p:spTgt spid="4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Vragen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1. Wat is kruisresistentie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Alle middelen uit een groep werken niet 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meer omdat ze werken via zelfde principe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2. Wat is metabolische resistentie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Insecticiden die uit verschillende groepen 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komen maar volgens zelfde principe werken 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slaan niet meer aan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7" name="Tijdelijke aanduiding voor dianumm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81A32B-FA1C-4266-A115-5D2453195AA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4" dur="indefinite" restart="never" nodeType="tmRoot">
          <p:childTnLst>
            <p:seq>
              <p:cTn id="3345" dur="indefinite" nodeType="mainSeq">
                <p:childTnLst>
                  <p:par>
                    <p:cTn id="3346" nodeType="clickEffect" fill="hold">
                      <p:stCondLst>
                        <p:cond delay="indefinite"/>
                      </p:stCondLst>
                      <p:childTnLst>
                        <p:par>
                          <p:cTn id="3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0" dur="1000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1" dur="1000" fill="hold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2" dur="1000" fill="hold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3" nodeType="clickEffect" fill="hold">
                      <p:stCondLst>
                        <p:cond delay="indefinite"/>
                      </p:stCondLst>
                      <p:childTnLst>
                        <p:par>
                          <p:cTn id="3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7" dur="1000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8" dur="1000" fill="hold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9" dur="1000" fill="hold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Algemene maatregel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Wat kun je doen tegen resistentie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Zo min mogelijk chemische middel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geïntegreer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Resistentie rassen,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estrijdingsdrempel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Insleep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iologisch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echanisch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0" dur="indefinite" restart="never" nodeType="tmRoot">
          <p:childTnLst>
            <p:seq>
              <p:cTn id="3361" dur="indefinite" nodeType="mainSeq">
                <p:childTnLst>
                  <p:par>
                    <p:cTn id="3362" nodeType="clickEffect" fill="hold">
                      <p:stCondLst>
                        <p:cond delay="indefinite"/>
                      </p:stCondLst>
                      <p:childTnLst>
                        <p:par>
                          <p:cTn id="3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6" dur="500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7" nodeType="clickEffect" fill="hold">
                      <p:stCondLst>
                        <p:cond delay="indefinite"/>
                      </p:stCondLst>
                      <p:childTnLst>
                        <p:par>
                          <p:cTn id="3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1" dur="500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2" nodeType="clickEffect" fill="hold">
                      <p:stCondLst>
                        <p:cond delay="indefinite"/>
                      </p:stCondLst>
                      <p:childTnLst>
                        <p:par>
                          <p:cTn id="3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6" dur="500"/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7" nodeType="clickEffect" fill="hold">
                      <p:stCondLst>
                        <p:cond delay="indefinite"/>
                      </p:stCondLst>
                      <p:childTnLst>
                        <p:par>
                          <p:cTn id="3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1" dur="500"/>
                                        <p:tgtEl>
                                          <p:spTgt spid="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4" dur="500"/>
                                        <p:tgtEl>
                                          <p:spTgt spid="4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5" nodeType="clickEffect" fill="hold">
                      <p:stCondLst>
                        <p:cond delay="indefinite"/>
                      </p:stCondLst>
                      <p:childTnLst>
                        <p:par>
                          <p:cTn id="3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9" dur="500"/>
                                        <p:tgtEl>
                                          <p:spTgt spid="4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0" nodeType="clickEffect" fill="hold">
                      <p:stCondLst>
                        <p:cond delay="indefinite"/>
                      </p:stCondLst>
                      <p:childTnLst>
                        <p:par>
                          <p:cTn id="3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4" dur="500"/>
                                        <p:tgtEl>
                                          <p:spTgt spid="4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Algemene maatregel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68360" y="2060640"/>
            <a:ext cx="669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Meng middelen met ander werkings-mechanisme vb. selectief systemisch met breedwerkend preventief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Wissel middelen uit andere chemische groepen af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Zo mogelijk vruchtwisseling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5" dur="indefinite" restart="never" nodeType="tmRoot">
          <p:childTnLst>
            <p:seq>
              <p:cTn id="3396" dur="indefinite" nodeType="mainSeq">
                <p:childTnLst>
                  <p:par>
                    <p:cTn id="3397" nodeType="clickEffect" fill="hold">
                      <p:stCondLst>
                        <p:cond delay="indefinite"/>
                      </p:stCondLst>
                      <p:childTnLst>
                        <p:par>
                          <p:cTn id="3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1" dur="1000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2" dur="10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3" dur="10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4" nodeType="clickEffect" fill="hold">
                      <p:stCondLst>
                        <p:cond delay="indefinite"/>
                      </p:stCondLst>
                      <p:childTnLst>
                        <p:par>
                          <p:cTn id="3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8" dur="1000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9" dur="1000" fill="hold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0" dur="1000" fill="hold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1" nodeType="clickEffect" fill="hold">
                      <p:stCondLst>
                        <p:cond delay="indefinite"/>
                      </p:stCondLst>
                      <p:childTnLst>
                        <p:par>
                          <p:cTn id="3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5" dur="1000"/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6" dur="1000" fill="hold"/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7" dur="1000" fill="hold"/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Anti-resistentie strategieë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638280" y="1903320"/>
            <a:ext cx="6348240" cy="38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Monitoring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Fabrikan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Werk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anvullende adviezen bij resisten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Toch bruikbaa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erminderde fitness; resistente stam minder gevoelig dan oorspronkelijke stam. </a:t>
            </a:r>
            <a:r>
              <a:rPr b="0" lang="nl-NL" sz="1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middel beperkt inzetten </a:t>
            </a:r>
            <a:r>
              <a:rPr b="0" lang="nl-NL" sz="1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resistente stam wordt weggeconcurreerd door oorspronkelijke sta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tabLst>
                <a:tab algn="l" pos="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8" dur="indefinite" restart="never" nodeType="tmRoot">
          <p:childTnLst>
            <p:seq>
              <p:cTn id="3419" dur="indefinite" nodeType="mainSeq">
                <p:childTnLst>
                  <p:par>
                    <p:cTn id="3420" nodeType="clickEffect" fill="hold">
                      <p:stCondLst>
                        <p:cond delay="indefinite"/>
                      </p:stCondLst>
                      <p:childTnLst>
                        <p:par>
                          <p:cTn id="3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4" dur="1000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5" dur="10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6" dur="10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7" nodeType="clickEffect" fill="hold">
                      <p:stCondLst>
                        <p:cond delay="indefinite"/>
                      </p:stCondLst>
                      <p:childTnLst>
                        <p:par>
                          <p:cTn id="3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1" dur="1000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2" dur="1000" fill="hold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3" dur="1000" fill="hold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4" nodeType="clickEffect" fill="hold">
                      <p:stCondLst>
                        <p:cond delay="indefinite"/>
                      </p:stCondLst>
                      <p:childTnLst>
                        <p:par>
                          <p:cTn id="3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8" dur="1000"/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9" dur="1000" fill="hold"/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0" dur="1000" fill="hold"/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3" dur="1000"/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4" dur="1000" fill="hold"/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5" dur="1000" fill="hold"/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8" dur="1000"/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9" dur="1000" fill="hold"/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0" dur="1000" fill="hold"/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1" nodeType="clickEffect" fill="hold">
                      <p:stCondLst>
                        <p:cond delay="indefinite"/>
                      </p:stCondLst>
                      <p:childTnLst>
                        <p:par>
                          <p:cTn id="3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5" dur="1000"/>
                                        <p:tgtEl>
                                          <p:spTgt spid="4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6" dur="1000" fill="hold"/>
                                        <p:tgtEl>
                                          <p:spTgt spid="4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7" dur="1000" fill="hold"/>
                                        <p:tgtEl>
                                          <p:spTgt spid="4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Resistentie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0" y="1600200"/>
            <a:ext cx="730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http://www.irac-online.org/modes-of-action/ insecten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http://www.frac.info/ schimmel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http://www.hracglobal.com/pages/classificationofherbicidesiteofaction.aspx onkruid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6" name="Tijdelijke aanduiding voor dianumm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EEE9C0-9718-4E27-8A26-311A912C379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Onkruidresistentie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900000" y="2160360"/>
            <a:ext cx="63468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Bijv. Duis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Fotosynthese 1 en 2 remmer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ACC remmer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ALS remmer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etsynthese remmer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9" name="Tijdelijke aanduiding voor dianumm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89B958-191C-48CE-ABA4-F75A40CE5C4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8" dur="indefinite" restart="never" nodeType="tmRoot">
          <p:childTnLst>
            <p:seq>
              <p:cTn id="3459" dur="indefinite" nodeType="mainSeq">
                <p:childTnLst>
                  <p:par>
                    <p:cTn id="3460" nodeType="clickEffect" fill="hold">
                      <p:stCondLst>
                        <p:cond delay="indefinite"/>
                      </p:stCondLst>
                      <p:childTnLst>
                        <p:par>
                          <p:cTn id="3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4" dur="1000"/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5" dur="1000" fill="hold"/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6" dur="1000" fill="hold"/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9" dur="1000"/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0" dur="1000" fill="hold"/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1" dur="1000" fill="hold"/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4" dur="1000"/>
                                        <p:tgtEl>
                                          <p:spTgt spid="4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5" dur="1000" fill="hold"/>
                                        <p:tgtEl>
                                          <p:spTgt spid="4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6" dur="1000" fill="hold"/>
                                        <p:tgtEl>
                                          <p:spTgt spid="4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9" dur="1000"/>
                                        <p:tgtEl>
                                          <p:spTgt spid="4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0" dur="1000" fill="hold"/>
                                        <p:tgtEl>
                                          <p:spTgt spid="4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1" dur="1000" fill="hold"/>
                                        <p:tgtEl>
                                          <p:spTgt spid="4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Schimmel resistenties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755280" y="212544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Schimmels in graan en aardappel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strobilurinen,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Phenilamiden,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Succinate dehydrogenase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2" name="Tijdelijke aanduiding voor dianumm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7B9159-AB5A-456B-828F-BC257BC5B11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2" dur="indefinite" restart="never" nodeType="tmRoot">
          <p:childTnLst>
            <p:seq>
              <p:cTn id="3483" dur="indefinite" nodeType="mainSeq">
                <p:childTnLst>
                  <p:par>
                    <p:cTn id="3484" nodeType="clickEffect" fill="hold">
                      <p:stCondLst>
                        <p:cond delay="indefinite"/>
                      </p:stCondLst>
                      <p:childTnLst>
                        <p:par>
                          <p:cTn id="3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8" dur="1000"/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9" dur="1000" fill="hold"/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0" dur="1000" fill="hold"/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3" dur="1000"/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4" dur="1000" fill="hold"/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5" dur="1000" fill="hold"/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8" dur="1000"/>
                                        <p:tgtEl>
                                          <p:spTgt spid="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9" dur="1000" fill="hold"/>
                                        <p:tgtEl>
                                          <p:spTgt spid="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0" dur="1000" fill="hold"/>
                                        <p:tgtEl>
                                          <p:spTgt spid="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Formulering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104840"/>
            <a:ext cx="65628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Keuze werkzame stof, formulering en eventueel hulpstoffen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Daarna toedien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puit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Druppel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trooien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Nevelen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Roken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tuiven Gassen (LVM Fog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Quick dip of phyto drip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https://youtu.be/ISDN8SiNoMY 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1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C4717B-415A-4BA1-8374-275E8B23139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2" name="Picture 4" descr=""/>
          <p:cNvPicPr/>
          <p:nvPr/>
        </p:nvPicPr>
        <p:blipFill>
          <a:blip r:embed="rId1"/>
          <a:stretch/>
        </p:blipFill>
        <p:spPr>
          <a:xfrm>
            <a:off x="3683160" y="1916280"/>
            <a:ext cx="2995560" cy="22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rebuchet MS"/>
              </a:rPr>
              <a:t>Toch Resistentie?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609120" y="1700280"/>
            <a:ext cx="63486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Is het wel resistentie?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Verkeerd midd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Verkeerde dosis of toevoeging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Gespoten op het verkeerde momen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Verkeerde spuittechniek of apparatuur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Controle registratie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Contact met leverancier middel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Proefbespuiting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Alarm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1" dur="indefinite" restart="never" nodeType="tmRoot">
          <p:childTnLst>
            <p:seq>
              <p:cTn id="3502" dur="indefinite" nodeType="mainSeq">
                <p:childTnLst>
                  <p:par>
                    <p:cTn id="3503" nodeType="clickEffect" fill="hold">
                      <p:stCondLst>
                        <p:cond delay="indefinite"/>
                      </p:stCondLst>
                      <p:childTnLst>
                        <p:par>
                          <p:cTn id="3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7" dur="1000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8" dur="1000" fill="hold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9" dur="1000" fill="hold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0" nodeType="clickEffect" fill="hold">
                      <p:stCondLst>
                        <p:cond delay="indefinite"/>
                      </p:stCondLst>
                      <p:childTnLst>
                        <p:par>
                          <p:cTn id="3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4" dur="1000"/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5" dur="1000" fill="hold"/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6" dur="1000" fill="hold"/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9" dur="1000"/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0" dur="1000" fill="hold"/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1" dur="1000" fill="hold"/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4" dur="1000"/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5" dur="1000" fill="hold"/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6" dur="1000" fill="hold"/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9" dur="1000"/>
                                        <p:tgtEl>
                                          <p:spTgt spid="4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0" dur="1000" fill="hold"/>
                                        <p:tgtEl>
                                          <p:spTgt spid="4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1" dur="1000" fill="hold"/>
                                        <p:tgtEl>
                                          <p:spTgt spid="4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2" nodeType="clickEffect" fill="hold">
                      <p:stCondLst>
                        <p:cond delay="indefinite"/>
                      </p:stCondLst>
                      <p:childTnLst>
                        <p:par>
                          <p:cTn id="3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6" dur="1000"/>
                                        <p:tgtEl>
                                          <p:spTgt spid="4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7" dur="1000" fill="hold"/>
                                        <p:tgtEl>
                                          <p:spTgt spid="4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8" dur="1000" fill="hold"/>
                                        <p:tgtEl>
                                          <p:spTgt spid="4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9" nodeType="clickEffect" fill="hold">
                      <p:stCondLst>
                        <p:cond delay="indefinite"/>
                      </p:stCondLst>
                      <p:childTnLst>
                        <p:par>
                          <p:cTn id="3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3" dur="1000"/>
                                        <p:tgtEl>
                                          <p:spTgt spid="4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4" dur="1000" fill="hold"/>
                                        <p:tgtEl>
                                          <p:spTgt spid="4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5" dur="1000" fill="hold"/>
                                        <p:tgtEl>
                                          <p:spTgt spid="4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6" nodeType="clickEffect" fill="hold">
                      <p:stCondLst>
                        <p:cond delay="indefinite"/>
                      </p:stCondLst>
                      <p:childTnLst>
                        <p:par>
                          <p:cTn id="3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0" dur="1000"/>
                                        <p:tgtEl>
                                          <p:spTgt spid="4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1" dur="1000" fill="hold"/>
                                        <p:tgtEl>
                                          <p:spTgt spid="4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2" dur="1000" fill="hold"/>
                                        <p:tgtEl>
                                          <p:spTgt spid="4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3" nodeType="clickEffect" fill="hold">
                      <p:stCondLst>
                        <p:cond delay="indefinite"/>
                      </p:stCondLst>
                      <p:childTnLst>
                        <p:par>
                          <p:cTn id="3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7" dur="1000"/>
                                        <p:tgtEl>
                                          <p:spTgt spid="4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8" dur="1000" fill="hold"/>
                                        <p:tgtEl>
                                          <p:spTgt spid="4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9" dur="1000" fill="hold"/>
                                        <p:tgtEl>
                                          <p:spTgt spid="4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Resistentie mechanism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632880" y="1341360"/>
            <a:ext cx="6348600" cy="43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Ontgiftiging vindt sneller en doeltreffender plaats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Er is iets veranderd op de plaats van werking(het aangrijpingspunt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neemt minder middel op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verlaagde penetrati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past zijn gedrag aan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Scheidt het middel uit of slaat het op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Het middel wordt geïnactiveerd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0" dur="indefinite" restart="never" nodeType="tmRoot">
          <p:childTnLst>
            <p:seq>
              <p:cTn id="3561" dur="indefinite" nodeType="mainSeq">
                <p:childTnLst>
                  <p:par>
                    <p:cTn id="3562" nodeType="clickEffect" fill="hold">
                      <p:stCondLst>
                        <p:cond delay="indefinite"/>
                      </p:stCondLst>
                      <p:childTnLst>
                        <p:par>
                          <p:cTn id="3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6" dur="10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7" dur="10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8" dur="10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9" nodeType="clickEffect" fill="hold">
                      <p:stCondLst>
                        <p:cond delay="indefinite"/>
                      </p:stCondLst>
                      <p:childTnLst>
                        <p:par>
                          <p:cTn id="3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3" dur="1000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4" dur="1000" fill="hold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5" dur="1000" fill="hold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6" nodeType="clickEffect" fill="hold">
                      <p:stCondLst>
                        <p:cond delay="indefinite"/>
                      </p:stCondLst>
                      <p:childTnLst>
                        <p:par>
                          <p:cTn id="3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0" dur="1000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1" dur="1000" fill="hold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2" dur="1000" fill="hold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5" dur="1000"/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6" dur="1000" fill="hold"/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7" dur="1000" fill="hold"/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8" nodeType="clickEffect" fill="hold">
                      <p:stCondLst>
                        <p:cond delay="indefinite"/>
                      </p:stCondLst>
                      <p:childTnLst>
                        <p:par>
                          <p:cTn id="3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2" dur="1000"/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3" dur="1000" fill="hold"/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4" dur="1000" fill="hold"/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5" nodeType="clickEffect" fill="hold">
                      <p:stCondLst>
                        <p:cond delay="indefinite"/>
                      </p:stCondLst>
                      <p:childTnLst>
                        <p:par>
                          <p:cTn id="3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9" dur="1000"/>
                                        <p:tgtEl>
                                          <p:spTgt spid="4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0" dur="1000" fill="hold"/>
                                        <p:tgtEl>
                                          <p:spTgt spid="4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1" dur="1000" fill="hold"/>
                                        <p:tgtEl>
                                          <p:spTgt spid="4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2" nodeType="clickEffect" fill="hold">
                      <p:stCondLst>
                        <p:cond delay="indefinite"/>
                      </p:stCondLst>
                      <p:childTnLst>
                        <p:par>
                          <p:cTn id="3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6" dur="1000"/>
                                        <p:tgtEl>
                                          <p:spTgt spid="4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7" dur="1000" fill="hold"/>
                                        <p:tgtEl>
                                          <p:spTgt spid="4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8" dur="1000" fill="hold"/>
                                        <p:tgtEl>
                                          <p:spTgt spid="4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Ontstaan resistenti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609480" y="1700280"/>
            <a:ext cx="684216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Biologisch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Erfelijke eigenschapp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Populatiedynamiek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Levenscyclu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anier van voortplan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antal nakomelin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Overleving in ongunstige omstandighed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anier en snelheid van verspreid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9" dur="indefinite" restart="never" nodeType="tmRoot">
          <p:childTnLst>
            <p:seq>
              <p:cTn id="3610" dur="indefinite" nodeType="mainSeq">
                <p:childTnLst>
                  <p:par>
                    <p:cTn id="3611" nodeType="clickEffect" fill="hold">
                      <p:stCondLst>
                        <p:cond delay="indefinite"/>
                      </p:stCondLst>
                      <p:childTnLst>
                        <p:par>
                          <p:cTn id="3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5" dur="1000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6" dur="10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7" dur="10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8" nodeType="clickEffect" fill="hold">
                      <p:stCondLst>
                        <p:cond delay="indefinite"/>
                      </p:stCondLst>
                      <p:childTnLst>
                        <p:par>
                          <p:cTn id="3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2" dur="1000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3" dur="1000" fill="hold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4" dur="1000" fill="hold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7" dur="1000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8" dur="1000" fill="hold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9" dur="1000" fill="hold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0" nodeType="clickEffect" fill="hold">
                      <p:stCondLst>
                        <p:cond delay="indefinite"/>
                      </p:stCondLst>
                      <p:childTnLst>
                        <p:par>
                          <p:cTn id="3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4" dur="1000"/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5" dur="1000" fill="hold"/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6" dur="1000" fill="hold"/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9" dur="1000"/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0" dur="1000" fill="hold"/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1" dur="1000" fill="hold"/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4" dur="1000"/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5" dur="1000" fill="hold"/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6" dur="1000" fill="hold"/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9" dur="1000"/>
                                        <p:tgtEl>
                                          <p:spTgt spid="4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0" dur="1000" fill="hold"/>
                                        <p:tgtEl>
                                          <p:spTgt spid="4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1" dur="1000" fill="hold"/>
                                        <p:tgtEl>
                                          <p:spTgt spid="4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4" dur="1000"/>
                                        <p:tgtEl>
                                          <p:spTgt spid="4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5" dur="1000" fill="hold"/>
                                        <p:tgtEl>
                                          <p:spTgt spid="4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6" dur="1000" fill="hold"/>
                                        <p:tgtEl>
                                          <p:spTgt spid="4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2T12:18:29Z</dcterms:created>
  <dc:creator>A. Bok</dc:creator>
  <dc:description/>
  <dc:language>en-US</dc:language>
  <cp:lastModifiedBy>Douwe Jan de Jong</cp:lastModifiedBy>
  <dcterms:modified xsi:type="dcterms:W3CDTF">2018-10-10T07:27:16Z</dcterms:modified>
  <cp:revision>111</cp:revision>
  <dc:subject/>
  <dc:title>Hoofdstuk 3</dc:title>
</cp:coreProperties>
</file>