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1576-894E-40AE-A6A7-F1EC415A4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3FCE-DB3F-4019-92DF-FE190A905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9079-4614-4900-B94C-1276842D3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667F-7996-4C31-A674-5905CAC92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5FC73-5639-433A-82D9-A8F7F8EBA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B0223-BF02-4A75-BAAD-6BCB78EFF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8B3BC-378E-4DB6-BBAC-C2F49BBE7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024C4-DF63-49D6-8504-4D89CA9FE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FC512-D8B8-41DB-BB6D-D95618787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A5AEE-EAD3-4786-9D72-F0942852B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D110B-DF34-42A5-9A8D-AB3B1CD4A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3BAE-2852-454F-BD0F-189502017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AF581-8809-42E3-BD05-1857BDC90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40988-1207-4E2E-8C4B-3E39CC8E9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6718C-514E-4220-A7C8-AB05EB7B3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5AED3-200B-4838-A2DA-AA91A9024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40C5E-A16C-4277-AF20-07730401F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8BDE-5C87-42BE-977A-83A9B466B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E234-7ACF-4E5F-9F11-533018C88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3D0D-AFDB-4B1E-894A-D845C921B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E169-957E-4E18-AB35-1FBEA339B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F5B3-312A-44B8-B6BE-884E697BB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A27E-0EC6-4C1B-8BF7-57D4A6730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3F6B-FBDC-40B1-9BB0-9A78F869E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B2F36-8520-41A0-959B-963EF476453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43C62-E495-4F29-A5CB-24E473511CC2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1219320" y="121932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DE PASSÉ COMPOS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kstvak 1"/>
          <p:cNvSpPr/>
          <p:nvPr/>
        </p:nvSpPr>
        <p:spPr>
          <a:xfrm>
            <a:off x="2700360" y="328464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de voltooid tegenwoordige tij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17680" y="963720"/>
            <a:ext cx="8596080" cy="42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ffff"/>
                </a:solidFill>
                <a:latin typeface="Times New Roman"/>
              </a:rPr>
              <a:t>OEFENING 1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1066680" y="1600200"/>
            <a:ext cx="64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Opdracht: zet de volgende zinnen in de passé composé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1219320" y="2895480"/>
            <a:ext cx="6705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’habite à Ly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Nous achetons un beau vél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ean et sa soeur  donnent un cadea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Elle va à l’éco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Vous participez au match de foo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43000" y="864720"/>
            <a:ext cx="7772400" cy="6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ffff"/>
                </a:solidFill>
                <a:latin typeface="Times New Roman"/>
              </a:rPr>
              <a:t>ANTWOORDEN OEF. 1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990720" y="1905120"/>
            <a:ext cx="67816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’ai habité à Ly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Nous avons acheté un beau vél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ean et sa soeur ont donné un cadea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Elle est allée à l’éco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Vous avez participé au match de foot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3505320" y="685800"/>
            <a:ext cx="160020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ffff"/>
                </a:solidFill>
                <a:latin typeface="Times New Roman"/>
              </a:rPr>
              <a:t>PC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762120" y="1905120"/>
            <a:ext cx="160020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ffff"/>
                </a:solidFill>
                <a:latin typeface="Times New Roman"/>
              </a:rPr>
              <a:t>PV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762120" y="3581280"/>
            <a:ext cx="16002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ffff"/>
                </a:solidFill>
                <a:latin typeface="Times New Roman"/>
              </a:rPr>
              <a:t>ÊT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2743200" y="3581280"/>
            <a:ext cx="16002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ffff"/>
                </a:solidFill>
                <a:latin typeface="Times New Roman"/>
              </a:rPr>
              <a:t>AVOI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6477120" y="3124080"/>
            <a:ext cx="83808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ffff"/>
                </a:solidFill>
                <a:latin typeface="Times New Roman"/>
              </a:rPr>
              <a:t>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6019920" y="4952880"/>
            <a:ext cx="1828800" cy="1134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ffff"/>
                </a:solidFill>
                <a:latin typeface="Times New Roman"/>
              </a:rPr>
              <a:t>+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ffff"/>
                </a:solidFill>
                <a:latin typeface="Times New Roman"/>
              </a:rPr>
              <a:t>onregelmatige vorm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762120" y="4572000"/>
            <a:ext cx="16002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ffff"/>
                </a:solidFill>
                <a:latin typeface="Times New Roman"/>
              </a:rPr>
              <a:t>“</a:t>
            </a:r>
            <a:r>
              <a:rPr b="0" lang="nl-NL" sz="2800" spc="-1" strike="noStrike">
                <a:solidFill>
                  <a:srgbClr val="00ffff"/>
                </a:solidFill>
                <a:latin typeface="Times New Roman"/>
              </a:rPr>
              <a:t>gaan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Text Box 12"/>
          <p:cNvSpPr/>
          <p:nvPr/>
        </p:nvSpPr>
        <p:spPr>
          <a:xfrm>
            <a:off x="2743200" y="4572000"/>
            <a:ext cx="16002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ffff"/>
                </a:solidFill>
                <a:latin typeface="Times New Roman"/>
              </a:rPr>
              <a:t>Re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84" name="AutoShape 15"/>
          <p:cNvCxnSpPr>
            <a:stCxn id="177" idx="3"/>
            <a:endCxn id="176" idx="2"/>
          </p:cNvCxnSpPr>
          <p:nvPr/>
        </p:nvCxnSpPr>
        <p:spPr>
          <a:xfrm flipV="1">
            <a:off x="2361960" y="1456560"/>
            <a:ext cx="1943640" cy="83412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85" name="AutoShape 19"/>
          <p:cNvCxnSpPr>
            <a:endCxn id="177" idx="3"/>
          </p:cNvCxnSpPr>
          <p:nvPr/>
        </p:nvCxnSpPr>
        <p:spPr>
          <a:xfrm flipH="1">
            <a:off x="2361600" y="2214360"/>
            <a:ext cx="3734280" cy="766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86" name="AutoShape 21"/>
          <p:cNvCxnSpPr>
            <a:stCxn id="177" idx="3"/>
            <a:endCxn id="177" idx="3"/>
          </p:cNvCxnSpPr>
          <p:nvPr/>
        </p:nvCxnSpPr>
        <p:spPr>
          <a:xfrm>
            <a:off x="2361960" y="2290320"/>
            <a:ext cx="108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87" name="AutoShape 24"/>
          <p:cNvCxnSpPr>
            <a:stCxn id="176" idx="2"/>
          </p:cNvCxnSpPr>
          <p:nvPr/>
        </p:nvCxnSpPr>
        <p:spPr>
          <a:xfrm>
            <a:off x="4305240" y="1457280"/>
            <a:ext cx="1791360" cy="75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28"/>
          <p:cNvCxnSpPr/>
          <p:nvPr/>
        </p:nvCxnSpPr>
        <p:spPr>
          <a:xfrm flipH="1">
            <a:off x="2361600" y="1447560"/>
            <a:ext cx="1943640" cy="8341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29"/>
          <p:cNvCxnSpPr>
            <a:stCxn id="176" idx="2"/>
          </p:cNvCxnSpPr>
          <p:nvPr/>
        </p:nvCxnSpPr>
        <p:spPr>
          <a:xfrm>
            <a:off x="4304880" y="1456920"/>
            <a:ext cx="1715400" cy="832680"/>
          </a:xfrm>
          <a:prstGeom prst="straightConnector1">
            <a:avLst/>
          </a:prstGeom>
          <a:ln w="0">
            <a:noFill/>
          </a:ln>
        </p:spPr>
      </p:cxnSp>
      <p:sp>
        <p:nvSpPr>
          <p:cNvPr id="190" name="Text Box 31"/>
          <p:cNvSpPr/>
          <p:nvPr/>
        </p:nvSpPr>
        <p:spPr>
          <a:xfrm>
            <a:off x="6095880" y="1905120"/>
            <a:ext cx="144792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ffff"/>
                </a:solidFill>
                <a:latin typeface="Times New Roman"/>
              </a:rPr>
              <a:t>V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32"/>
          <p:cNvSpPr/>
          <p:nvPr/>
        </p:nvSpPr>
        <p:spPr>
          <a:xfrm>
            <a:off x="7543800" y="3124080"/>
            <a:ext cx="1143000" cy="1067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ffff"/>
                </a:solidFill>
                <a:latin typeface="Times New Roman"/>
              </a:rPr>
              <a:t>Eventueel extra uitgangen bij êt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609480" y="76212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1066680" y="129528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De Passé Composé bestaat ui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1066680" y="2362320"/>
            <a:ext cx="789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Een vorm van AVOIR of ÊTRE (=hulpwerkwoord)(= p.vorm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1066680" y="33526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1066680" y="42670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Een voltooid deelwoor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1233000"/>
            <a:ext cx="7772400" cy="74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AVOIR - ÊTR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447920" y="25142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Wanneer gebruik je avoir en wanneer gebruik je être als hulpwerkwoor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17680" y="721800"/>
            <a:ext cx="8596080" cy="74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AVOIR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838080" y="198108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AVOIR gebruik je bij heel veel werkwoorden. Als je in het Nederlands een werkwoord met HEBBEN vervoegt, is dat in het Frans meestal net z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914400" y="350532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914400" y="3657600"/>
            <a:ext cx="73152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VOORBEEL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Wij hebben deelgenomen.  Nous avons particip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Ze hebben gespeeld: Ils ont joué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ij hebt gepraat: Tu as parlé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844200"/>
            <a:ext cx="7772400" cy="74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ÊTRE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914400" y="1654200"/>
            <a:ext cx="769608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ÊTRE gebruik je bij werkwoorden die een “gaan” uitdrukken, zoal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aller – venir = gaan – kom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entrer – sortir = binnenkomen – uitga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arriver – partir = aankomen – vertrekk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descendre – monter = naar beneden gaan – naar boven ga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naître – mourir = geboren worden – sterv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rentrer – retourner = naar huis gaan – terugker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rester – tomber = blijven - vall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457200" y="6094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Zoals je ziet worden deze werkwoorden in het Nederlands ook vervoegd met het hulpwerkwoord ZIJ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533520" y="1981080"/>
            <a:ext cx="7696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VOORBEEL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Gaan: Wij zijn gegaan – Nous sommes allé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Blijven: Hij is gebleven – Il est rest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Aankomen: U bent aangekomen – Vous êtes arrivé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HET VOLTOOID DEELWOORD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762120" y="2590920"/>
            <a:ext cx="68580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Het voltooid deelwoord van de Franse </a:t>
            </a: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regelmatige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werkwoorden op –er eindigt op é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- er wordt </a:t>
            </a: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é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dus:  donner wordt donné = gegev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HET VOLTOOID DEELWOORD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609480" y="2362320"/>
            <a:ext cx="73152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Hieronder staat het voltooid deelwoord van enkele Franse </a:t>
            </a: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onregelmatige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werkwoorde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avoir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– eu 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= gehad, gekreg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être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– été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= gewee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faire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– fait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= gemaakt, geda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7467480" cy="140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DE UITGANGEN VAN HET VOLTOOID DEELWOORD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533520" y="23623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BIJ AVOIR: Hier verandert het voltooid deelwoord NIET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533520" y="30481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BIJ ÊTRE: Hier bepaalt het </a:t>
            </a: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ONDERWERP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de uitgang!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684360" y="3716280"/>
            <a:ext cx="7162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e suis allé(e)  Tu es allé(e)  Il est allé  Elle est allé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Nous sommes allé(e)s    Vous êtes allé(e)(s)(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Ils sont allés    Elles sont allé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5T08:37:22Z</dcterms:created>
  <dc:creator>Henk Meijer</dc:creator>
  <dc:description/>
  <dc:language>en-US</dc:language>
  <cp:lastModifiedBy>Ariska Smelt-Lambers</cp:lastModifiedBy>
  <dcterms:modified xsi:type="dcterms:W3CDTF">2017-01-17T13:48:53Z</dcterms:modified>
  <cp:revision>26</cp:revision>
  <dc:subject/>
  <dc:title>De PASSÉ COMPOSÉ</dc:title>
</cp:coreProperties>
</file>