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E09-BA17-4F5C-AFA5-1861039F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89E0-6003-401E-9DC3-083D9D77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99F-24E5-4DCB-81CF-91B9C263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1C5-A38E-495E-A747-7E95F460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E906-430B-4E36-975A-77CC24F4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6BE9-3F69-4FEC-B01E-EE8D47F0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BECC-8DD3-445D-9538-0357D477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CE9D-2A64-46CB-9C7E-19D2E964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BE9E-D7B5-46FB-A288-C50E90BE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E1F2-34DD-4562-A8A0-71EA9FB1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E096-FC1B-4B9A-889F-575BEA30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904-3265-4087-93B5-33E8CF32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F952-2377-45C4-95AA-E0D9E75D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A7E8-B141-4666-BCC0-8A2D54B7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2604-CDE3-4679-BDBD-7B352226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094F-0BB0-4474-8CC6-CCC23155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0150-3D8D-47B8-ACD9-90AF71E9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0E60-0ED5-44F6-95C6-13DA19B7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A98-F943-4007-86C0-9CFA05D0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E1A-AEF9-455D-8DCE-0CFD80C1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D2E-313C-4E49-B901-2CC763E5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181-0A6F-4CBC-B295-13A9E657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620-189C-408C-ADEE-7679362F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B1B-9D3F-4BB5-BF42-3A7F2153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4788-BA2E-4D30-A881-12C396863D9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2660-144E-4BFD-AD3A-F756A0D3F55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va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est allée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19920" y="4952880"/>
            <a:ext cx="1828800" cy="113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vor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6212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gaa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74320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AutoShape 15"/>
          <p:cNvCxnSpPr>
            <a:stCxn id="177" idx="3"/>
            <a:endCxn id="176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5" name="AutoShape 19"/>
          <p:cNvCxnSpPr>
            <a:endCxn id="177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6" name="AutoShape 21"/>
          <p:cNvCxnSpPr>
            <a:stCxn id="177" idx="3"/>
            <a:endCxn id="177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7" name="AutoShape 24"/>
          <p:cNvCxnSpPr>
            <a:stCxn id="176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29"/>
          <p:cNvCxnSpPr>
            <a:stCxn id="176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90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7543800" y="3124080"/>
            <a:ext cx="11430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Eventueel extra uitgangen bij êt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nneer gebruik je avoir en wanneer gebruik je être als hulpwerkwo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ÊTR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14400" y="165420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gebruik je bij werkwoorden die een “gaan” uitdrukken, zo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r – venir = gaan – k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trer – sortir = binnenkomen – uit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rriver – partir = aankomen – vertrek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scendre – monter = naar beneden gaan – naar boven 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aître – mourir = geboren worden – ster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ntrer – retourner = naar huis gaan – terugk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ster – tomber = blijven - va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oals je ziet worden deze werkwoorden in het Nederlands ook vervoegd met het hulpwerkwoord ZIJ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9810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aan: Wij zijn gegaan – Nous sommes al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lijven: Hij is gebleven – Il est res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ankomen: U bent aangekomen – Vous êtes arriv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UITGANGEN VAN 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2362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AVOIR: Hier verandert het voltooid deelwoord NI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3048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ÊTRE: Hier bepaalt he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DERWER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de uitgang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3716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suis allé(e)  Tu es allé(e)  Il est allé  Elle est all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sommes allé(e)s    Vous êtes allé(e)(s)(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ls sont allés    Elles sont all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1-17T13:48:53Z</dcterms:modified>
  <cp:revision>26</cp:revision>
  <dc:subject/>
  <dc:title>De PASSÉ COMPOSÉ</dc:title>
</cp:coreProperties>
</file>