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3109-7573-4BC2-B9C1-FF1F943EF2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2D43-D89C-4319-8A85-75D1548EA5D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045F-FBA0-4649-80CD-5711F2AF56B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0EA7-340B-4AD4-9C09-BFE0D3842E6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FEBE-6277-4C28-BF39-7CBA57277CB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DB58-3460-48A7-824C-39D10832BB8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1B2-8E27-47E8-9C5D-C4628E11C70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DA7E-D58C-4814-B067-C6055D92A5F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BED0-B84F-4A1C-B78E-F902955ED9F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51B8-E98F-4B93-92E3-71EDBEC9378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8B04-E385-4770-828D-889AAF715DE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9E28-222F-48B5-A5F2-C5F0375A651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08D-A6FF-485C-B671-832E993A597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E64A-9FFB-4833-84FA-492FBCB1805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39C-92FA-492F-9412-AB4AB4B1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860-4256-4606-B286-D0DFD56E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3D2E-A00A-4195-BDC8-792D51F2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088-E7AB-43AB-B7C4-A0A8C361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5726-5697-420D-99F6-F7C47BE4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6CA0-6179-4898-9188-C10ABA0C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BF3E-F640-44C3-A3C9-A0CCFCB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5DCE-0A51-4592-B709-55614C5D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A66A-7568-4B86-AF7C-3E4F2C28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337D-E15E-4E97-B509-7D3EC37D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AD6B-789E-4EF1-8072-91F30A2C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9D9-3B74-4FAD-ABA8-2433A403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A382-5025-48B1-AE80-D6DBD583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F5A6-D530-4623-B049-82385B98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E86E-95DB-4AB2-BD46-098BAC8D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134B-1DC1-453D-9A31-D65B5BDE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C453-B9A9-4631-8BF5-9AD4431C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A31-5397-4167-9A6B-AEFF80BD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6EA-9538-4CAC-AA5D-CDA38A46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6AC-6847-449A-A5E9-DF5C801A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561-149A-42CA-883C-794214A4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88F-CB2C-4E02-9BC6-A7E4E616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F74-292F-49A4-AE3A-492973F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C2A-7C76-4C38-B5D7-67FB0B65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C432-7F79-4C0D-B638-1DC3484314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2C51-A911-4DE3-8414-6F4A4EE7BE2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698652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Afbeelding 1" descr="De kronkel over wet BIO en wet BIG en waar zij in de wei van onderwijs ..."/>
          <p:cNvPicPr/>
          <p:nvPr/>
        </p:nvPicPr>
        <p:blipFill>
          <a:blip r:embed="rId1"/>
          <a:stretch/>
        </p:blipFill>
        <p:spPr>
          <a:xfrm>
            <a:off x="4886280" y="2583000"/>
            <a:ext cx="26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Wet BIG stelt de volgende voorwaarden, 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niet zelfstandig bevoegd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in opdracht van een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overeenkomstig de aanwijzingen van de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mag een voorbehouden handeling alleen uitvoeren, indien zowel hijzelf als de opdrachtgever , redelijkerwijs mag aannemen, dat hij beschikt over de bekwaamheid om de opdracht naar behoren uit te voe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iet 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op het gebied va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viduele gezondheidszorg, geneesku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niet geneeskundig, die niet op de i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genoemde lijst van voorbehou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voor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erantwoord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e in de gezondheidszorg werkt, is z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antwoordelijk voor eigen hande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ndersteu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oc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sverkla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nsprak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doktersassistente via het civielrec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 geeft de mogelijkheid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adevergo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trafrecht speelt een rol, wanneer de d.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functie een fout heeft gemaakt, waarbij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tient schade heeft ondervo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 is kernbegrip in de gezondheid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zorg. Drie recente wetten, met e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verschillende invalshoeke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GBO: Wet op geneeskundige behandelingsovereenkom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swet Zorginstellingen : Wet op kwaliteit van zorginstelli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BIG: Wet op beroepen in de individuele gezondheidsz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op Beroepen in de Individu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heidsz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waliteit van de beroepsuitoefening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rderen en te bewaken en de patiënt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ermen tegen ondeskundig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zorgvuldig handelen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roepsbeoefen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heeft betrekking op individu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ezondheidszor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der deze zorg wordt versta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oorde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vord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wa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scher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Herstellen van iemands gezondhe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m het doel te bereiken, verbeteren en of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b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telbesche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ratie in het BIG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egdheidsregeling voorbehouden hande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chtre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, die onaanvaardbare risic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gezondheid van de patiënt met z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ebrengen als ze door ondeskun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uitgevoe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oorbehou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andeling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eel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erlos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ndoscopieë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atheteris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Injecteren en punc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narc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unstmatige fertilisat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Stegenvergru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Gebruik van radioactieve stoffen en ioniserende str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Cardi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Defibrill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lektronconvul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ndart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los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 eigen gezag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drachtgever, s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catie en beslist om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 zelfsta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 te vo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pleeg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ktersassist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jaardenverzorg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lp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nodig dat het be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.b.v. de WET BIG geregeld is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t zijn opdrachtnem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ndelen altijd in 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n , mag nooit op eigen initiatie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llen zelf geen diag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Voorwaard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heid van de opdrachtne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Deskund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In opdracht van en volgens aanwijzingen van zelfstandig bevoeg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ogelijk tussenkomst van de 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BEKWAAM MAAKT ONBEVOEGD &amp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TRAFBAA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Jannet van den Berg</cp:lastModifiedBy>
  <dcterms:modified xsi:type="dcterms:W3CDTF">2017-01-18T15:26:02Z</dcterms:modified>
  <cp:revision>14</cp:revision>
  <dc:subject/>
  <dc:title>Wet BIG</dc:title>
</cp:coreProperties>
</file>