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2ABF1-5ED0-4E79-9DDE-1C01D665ADB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42F1F-1747-4F0D-9B1A-CC4A68B88993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FE17E-3B81-45F1-9EA7-5E277E227FCE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FFE48-D848-4DEB-BE37-A8C70799D12B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744D6-D11E-48B2-9DF2-38840C18C684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2E88A-F324-4E37-B074-02E4659E5DD4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61264-2B65-4119-908A-1851E4628114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02400-CF4B-4ADE-8F6A-699D14B6E752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4E027-C115-4151-A5AA-81B5CCE17ED5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52483-6CFB-4DF8-9494-E7FF2FAF8A6C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1F0ED-035B-4C9F-A09F-B6F3DC6918B7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6DF8E-2161-4102-A51C-DAD71C9ADFBE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E0329-F60E-459F-BE77-005E0EC22D71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5BE9F-F0B4-4478-B2D8-5FEE54C68DBE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8C28-C5C7-41A5-9C8C-CD4204ED4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7811-8455-4A6B-9250-5EF4839D3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E905-2B1D-417E-ADAF-C495EF924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9B06-CF2D-4644-9C05-479E1F137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CBAA6-20D1-49A7-92C9-3DD0DD86A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826A3-6386-4E8A-8085-8AC591696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EA99C-EB61-466A-887A-F592403F4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95CF3-03A2-4ED1-9378-AA136D0CB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3EB34-0592-4862-8A41-CF34B756E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6ED6D-F021-4DA6-8C67-D4B048C86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4A4F9-80A9-4E32-AF2C-4D8B2453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6E43-F72F-42FD-A5B2-A90D2E70B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D9440-FA57-4C35-91FD-3F8BF08A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7EA75-EF7B-4CFC-9E0D-0A7BC158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0A859-464C-49F2-B783-5B86C489B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E59DA-898C-4036-B4EE-97CE3F9E4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AF616-E88E-4DB6-8357-E847A88A4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08F2-2F0A-4B59-B4BE-D45CBEC12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3692-ED23-4737-A0F3-C17824337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B3FD-6CFD-4B36-80EB-479A7E67F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7F55-5929-4861-B2F7-240279D3B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0689-1CA0-40C4-860D-D89E067D2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2145-030B-4621-AB41-F9B9D1D9B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4679-24E9-488B-885F-0B3406E7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77F16-EEB8-4AA0-9ECB-41530ECD575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BCE97-3276-43DC-97CD-C688912F5785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4200" y="1000080"/>
            <a:ext cx="7772400" cy="18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ccecff"/>
                </a:solidFill>
                <a:latin typeface="Arial"/>
              </a:rPr>
              <a:t>Wet BIG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99680" y="2571840"/>
            <a:ext cx="6986520" cy="31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Afbeelding 1" descr="De kronkel over wet BIO en wet BIG en waar zij in de wei van onderwijs ..."/>
          <p:cNvPicPr/>
          <p:nvPr/>
        </p:nvPicPr>
        <p:blipFill>
          <a:blip r:embed="rId1"/>
          <a:stretch/>
        </p:blipFill>
        <p:spPr>
          <a:xfrm>
            <a:off x="4886280" y="2583000"/>
            <a:ext cx="260028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WET BI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ffffff"/>
                </a:solidFill>
                <a:latin typeface="Arial"/>
              </a:rPr>
              <a:t>Wet BIG stelt de volgende voorwaarden, aa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ffffff"/>
                </a:solidFill>
                <a:latin typeface="Arial"/>
              </a:rPr>
              <a:t>niet zelfstandig bevoegden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ffffff"/>
                </a:solidFill>
                <a:latin typeface="Arial"/>
              </a:rPr>
              <a:t>Degene handelt in opdracht van een zelfst. bevoegd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ffffff"/>
                </a:solidFill>
                <a:latin typeface="Arial"/>
              </a:rPr>
              <a:t>Degene handelt overeenkomstig de aanwijzingen van de zelfst. bevoegd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ffffff"/>
                </a:solidFill>
                <a:latin typeface="Arial"/>
              </a:rPr>
              <a:t>Degene mag een voorbehouden handeling alleen uitvoeren, indien zowel hijzelf als de opdrachtgever , redelijkerwijs mag aannemen, dat hij beschikt over de bekwaamheid om de opdracht naar behoren uit te voere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WET BI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Niet voorbehouden handelinge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andelingen op het gebied van 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dividuele gezondheidszorg, geneeskundi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f niet geneeskundig, die niet op de in 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t genoemde lijst van voorbehou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andelingen voorkom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WET BI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ffff"/>
                </a:solidFill>
                <a:uFillTx/>
                <a:latin typeface="Arial"/>
              </a:rPr>
              <a:t>Verantwoordelijkhei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ie in de gezondheidszorg werkt, is zel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erantwoordelijk voor eigen handel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Ondersteun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Protocoll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kwaamheidsverklarin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WET BI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Aansprakelijkhei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 de doktersassistente via het civielrecht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eze geeft de mogelijkheid 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chadevergoed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et strafrecht speelt een rol, wanneer de d.a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 functie een fout heeft gemaakt, waarbij 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patient schade heeft ondervond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WET BI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Kwaliteit is kernbegrip in de gezondheids-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zorg. Drie recente wetten, met el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verschillende invalshoeken: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WGBO: Wet op geneeskundige behandelingsovereenkoms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Kwaliteitswet Zorginstellingen : Wet op kwaliteit van zorginstelling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Wet BIG: Wet op beroepen in de individuele gezondheidszor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WET BI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t op Beroepen in de Individue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zondheidsz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ffff"/>
                </a:solidFill>
                <a:uFillTx/>
                <a:latin typeface="Arial"/>
              </a:rPr>
              <a:t>Doel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e kwaliteit van de beroepsuitoefening 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vorderen en te bewaken en de patiënt 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schermen tegen ondeskundig 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nzorgvuldig handelen v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roepsbeoefena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WET BI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Wet heeft betrekking op individue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gezondheidszorg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Onder deze zorg wordt verstaan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Beoordel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Bevorder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Bewak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Bescherm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Herstellen van iemands gezondhei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WET BI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m het doel te bereiken, verbeteren en of 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aarborge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Titelbescher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Registratie in het BIG regi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voegdheidsregeling voorbehouden handelin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Tuchtrec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WET BI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behouden handelinge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andelingen, die onaanvaardbare risico’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 de gezondheid van de patiënt met zi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eebrengen als ze door ondeskundi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orden uitgevoer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WET BI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Voorbehoud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handelingen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Heelkundige handeling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Verloskundige handeling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Endoscopieë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Katheteriser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Injecteren en punct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narco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Kunstmatige fertilisati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Stegenvergruiz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Gebruik van radioactieve stoffen en ioniserende stral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Cardioversi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Defibriller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Elektronconvulsi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Wet BI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Zelfstandig bevoeg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Ar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Tandarts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Verloskundi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Op eigen gezag 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opdrachtgever, stel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indicatie en beslist om 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behandeling zelfstandi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uit te voer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Niet zelfstandig bevoeg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Verpleegkundi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Doktersassisten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Bejaardenverzorgen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Helpen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Niet nodig dat het beroe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o.b.v. de WET BIG geregeld is 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het zijn opdrachtnem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Handelen altijd in opdrach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van , mag nooit op eigen initiatief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stellen zelf geen diagno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WET BI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ffffff"/>
                </a:solidFill>
                <a:latin typeface="Arial"/>
              </a:rPr>
              <a:t>Voorwaarde: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bekwaamheid van de opdrachtnem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Deskundi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Bekwaa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In opdracht van en volgens aanwijzingen van zelfstandig bevoeg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Mogelijk tussenkomst van de ar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ONBEKWAAM MAAKT ONBEVOEGD &amp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STRAFBAAR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1:15:47Z</dcterms:created>
  <dc:creator>Rhea</dc:creator>
  <dc:description/>
  <dc:language>en-US</dc:language>
  <cp:lastModifiedBy>Jannet van den Berg</cp:lastModifiedBy>
  <dcterms:modified xsi:type="dcterms:W3CDTF">2017-01-18T15:26:02Z</dcterms:modified>
  <cp:revision>14</cp:revision>
  <dc:subject/>
  <dc:title>Wet BIG</dc:title>
</cp:coreProperties>
</file>