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5623-C390-45A7-8A05-91F1B0FD88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C426-0800-43C8-8AC7-3C8BD36F72F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2564-6BF4-48BC-B247-7DA36ECD15E6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CC58-B1ED-4073-9A74-49ABA67702B9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7E31-433F-4C5E-A1E5-795997FC188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C1F7-8DA2-4595-B64A-FA61F3E4B8B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5568-3390-4FC8-8130-49C999E4D0E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95E2-CA5E-4029-A84F-8107FC8E9061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112D-BF5D-4897-91EF-C590392A243C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2A7C-C413-40E0-A764-B1D80702BED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23AE-6884-4D0C-B04D-6748B145925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EDE8-239D-48F8-BCD3-261C4CA222C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8912-55A9-4A9F-AE62-39DC3D4A64F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3056-0993-4E4B-A1FF-B78714D03D5B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EC9-B91E-484E-A17B-C072B5D3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040D-F378-4543-BEB0-415C1DA0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741-3E37-4329-9055-52A504ED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551-7AE6-4994-A3C1-FFDD9EA5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2542-F001-4054-90A4-D1FE4B97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D484-13EE-4B88-925E-BA0F385D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170B-9DCB-4167-B3F5-74C3C9D6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F58C-C5B2-4F2B-9E44-E9C30627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5737-1B20-4B86-B597-9B844A83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351B-AD84-4F4D-80B3-2E7133E7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B8F9-87F6-49C3-AF01-7B2C4933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9AAC-4C56-46B4-A3C6-0B833512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898D-692C-4757-8891-F41ACE42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CCE7-28E8-40C0-BBC7-12AF011B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7613-39B6-4B8F-BA3B-509A0299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0539-5D54-4F82-993A-A46B28DD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3033-E308-45D4-96C5-E69BED84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7D2-AAE4-447D-A004-2A0334DC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84D-520F-4583-994A-C4403FF2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125-17F1-4BBC-B0FB-EEB2FE3B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68CA-B54D-4726-BDE7-8A74193E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572-47E6-4111-90BE-0B9D747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03A-3500-43A5-A4EF-E6524E4A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B0E0-87A4-4260-83C0-7411BB0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33F6-AD76-475D-A6E7-A04225E78C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645A-4AD8-4533-9F72-C3D3CE420E5E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42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99680" y="2571840"/>
            <a:ext cx="698652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Afbeelding 1" descr="De kronkel over wet BIO en wet BIG en waar zij in de wei van onderwijs ..."/>
          <p:cNvPicPr/>
          <p:nvPr/>
        </p:nvPicPr>
        <p:blipFill>
          <a:blip r:embed="rId1"/>
          <a:stretch/>
        </p:blipFill>
        <p:spPr>
          <a:xfrm>
            <a:off x="4886280" y="2583000"/>
            <a:ext cx="260028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Wet BIG stelt de volgende voorwaarden, aa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niet zelfstandig bevoegde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in opdracht van een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handelt overeenkomstig de aanwijzingen van de zelfst. bevoegd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ffffff"/>
                </a:solidFill>
                <a:latin typeface="Arial"/>
              </a:rPr>
              <a:t>Degene mag een voorbehouden handeling alleen uitvoeren, indien zowel hijzelf als de opdrachtgever , redelijkerwijs mag aannemen, dat hij beschikt over de bekwaamheid om de opdracht naar behoren uit te voere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iet 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op het gebied va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dividuele gezondheidszorg, geneeskundi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f niet geneeskundig, die niet op de in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genoemde lijst van voorbehou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 voorkom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Verantwoord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ie in de gezondheidszorg werkt, is z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antwoordelijk voor eigen handel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Ondersteun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oco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sverklar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Aansprakelijkhei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doktersassistente via het civielrecht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ze geeft de mogelijkheid 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hadevergo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t strafrecht speelt een rol, wanneer de d.a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functie een fout heeft gemaakt, waarbij 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tient schade heeft ondervond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 is kernbegrip in de gezondheids-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zorg. Drie recente wetten, met el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verschillende invalshoeken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GBO: Wet op geneeskundige behandelingsovereenkom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Kwaliteitswet Zorginstellingen : Wet op kwaliteit van zorginstelling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BIG: Wet op beroepen in de individuele gezondheidszor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op Beroepen in de Individue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zondheidsz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 kwaliteit van de beroepsuitoefening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rderen en te bewaken en de patiënt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ermen tegen ondeskundig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zorgvuldig handelen v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roepsbeoefen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Wet heeft betrekking op individue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ezondheidszor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der deze zorg wordt verstaa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oordel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vord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wak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scher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Herstellen van iemands gezondhei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m het doel te bereiken, verbeteren en of 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arbor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itelbesche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egistratie in het BIG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voegdheidsregeling voorbehouden hande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Tuchtre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houden handelin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ndelingen, die onaanvaardbare risico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de gezondheid van de patiënt met z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ebrengen als ze door ondeskund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orden uitgevoe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oorbehoud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andelinge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Heel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Verloskundige handelin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ndoscopieë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atheteris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Injecteren en punc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narco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Kunstmatige fertilisat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Stegenvergruiz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Gebruik van radioactieve stoffen en ioniserende stra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Cardiover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Defibrille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ffff"/>
                </a:solidFill>
                <a:latin typeface="Arial"/>
              </a:rPr>
              <a:t>Elektronconvulsi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Tandarts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los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 eigen gezag 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pdrachtgever, ste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indicatie en beslist om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handeling zelfstand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uit te voe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zelfstandig bevoeg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erpleegkund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Doktersassist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Bejaardenverzorg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lpen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Niet nodig dat het beroe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o.b.v. de WET BIG geregeld is 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et zijn opdrachtnem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Handelen altijd in opdrach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van , mag nooit op eigen initiatief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stellen zelf geen diagno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WET BI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ffffff"/>
                </a:solidFill>
                <a:latin typeface="Arial"/>
              </a:rPr>
              <a:t>Voorwaard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heid van de opdrachtnem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Deskundi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ekwaa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In opdracht van en volgens aanwijzingen van zelfstandig bevoeg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ogelijk tussenkomst van de 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NBEKWAAM MAAKT ONBEVOEGD &amp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TRAFBAAR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Jannet van den Berg</cp:lastModifiedBy>
  <dcterms:modified xsi:type="dcterms:W3CDTF">2017-01-18T15:26:02Z</dcterms:modified>
  <cp:revision>14</cp:revision>
  <dc:subject/>
  <dc:title>Wet BIG</dc:title>
</cp:coreProperties>
</file>