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76B6-6320-49DD-AAF2-C193687DAF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D190-7B80-41BA-A19D-D5531938F2BA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20A4-8375-476D-81FA-94F69056EE21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4E17-8D2B-45F2-970F-D78C1CD41F64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2AB6-B4AA-44D3-AD16-B3F29DFEDD4A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8178-21DB-4863-8AD6-981DF97AA797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F5DC-23F9-4A71-8C03-F3617449B8DF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617E-041E-432A-97D8-DF8E103EB5DE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7515-4397-4679-85BA-87A2EC1A3E8D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0FE0-4760-4A43-B317-348887D59505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4A12-F6D9-4EB8-B1D0-2913BCB8F206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9EE1-004E-4B6A-8D0D-1054E9DF15A7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29B6-3268-4187-8EDB-2C12AB34C63A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F24C-62B0-4275-885E-BEBE2215C1FB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44B2-EAB5-49A5-93F2-3AF2A34B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360E-6FF9-41F3-B0C9-F47DF122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BED1-39E5-4DCC-96CF-0E60DB68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5BD4-464D-450F-9C89-D4C07BE1E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4372-D30D-4519-BA4C-2FFF21989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FCD7-9D6F-4644-A54B-BDE80342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FBEA-C03E-429C-911E-A52E44EE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ABE6-56AF-41BC-A088-63B863C2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7271-49E9-44B8-A0E2-512D2951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8EDC-16C1-4E7B-805C-453C03D9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4FED-31B7-4B85-AF8D-145619B8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D7C5-E1D6-408A-8078-CCD5B6F3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BCB1-75AD-446A-87A5-DC02AD69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F2B1-3AE4-4BB1-848C-64E4A4D7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D6E2-5F09-47C1-BA3E-CD612838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38F9-66EB-4B05-8402-568EBE1A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1116-2739-4D24-A7A5-9EDA3898C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3264-D70C-49E1-89EE-08FB92D9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00BC-5F24-4C9F-823D-11C6D958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353A-6C44-4B8D-BC12-207C0714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CA65-04F0-4049-B6E2-C1D5A952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0201-47B1-48BB-B55C-AED88657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2167-60E6-4AE0-AA69-8E30317A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FE49-9B4C-472F-AEFD-30488854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806B-A64B-441A-A847-1D6C9E9FE80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F18B-DF54-4A37-B7C4-E0AA730E6B43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4200" y="100008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99680" y="2571840"/>
            <a:ext cx="6986520" cy="31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Afbeelding 1" descr="De kronkel over wet BIO en wet BIG en waar zij in de wei van onderwijs ..."/>
          <p:cNvPicPr/>
          <p:nvPr/>
        </p:nvPicPr>
        <p:blipFill>
          <a:blip r:embed="rId1"/>
          <a:stretch/>
        </p:blipFill>
        <p:spPr>
          <a:xfrm>
            <a:off x="4886280" y="2583000"/>
            <a:ext cx="26002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Arial"/>
              </a:rPr>
              <a:t>Wet BIG stelt de volgende voorwaarden, a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Arial"/>
              </a:rPr>
              <a:t>niet zelfstandig bevoegden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Arial"/>
              </a:rPr>
              <a:t>Degene handelt in opdracht van een zelfst. bevoegd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Arial"/>
              </a:rPr>
              <a:t>Degene handelt overeenkomstig de aanwijzingen van de zelfst. bevoegd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Arial"/>
              </a:rPr>
              <a:t>Degene mag een voorbehouden handeling alleen uitvoeren, indien zowel hijzelf als de opdrachtgever , redelijkerwijs mag aannemen, dat hij beschikt over de bekwaamheid om de opdracht naar behoren uit te voere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iet voorbehouden handeling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andelingen op het gebied van 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dividuele gezondheidszorg, geneeskundi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f niet geneeskundig, die niet op de in 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t genoemde lijst van voorbehou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andelingen voorkom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Verantwoordelijkhei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ie in de gezondheidszorg werkt, is z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antwoordelijk voor eigen handel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Ondersteun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rotocol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kwaamheidsverklar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Aansprakelijkhei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de doktersassistente via het civielrech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ze geeft de mogelijkheid 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chadevergoe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t strafrecht speelt een rol, wanneer de d.a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functie een fout heeft gemaakt, waarbij 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atient schade heeft ondervond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Kwaliteit is kernbegrip in de gezondheids-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zorg. Drie recente wetten, met el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verschillende invalshoeken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WGBO: Wet op geneeskundige behandelingsovereenkom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Kwaliteitswet Zorginstellingen : Wet op kwaliteit van zorginstelling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Wet BIG: Wet op beroepen in de individuele gezondheidszor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t op Beroepen in de Individue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zondheidsz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Doel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kwaliteit van de beroepsuitoefening 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vorderen en te bewaken en de patiënt 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schermen tegen ondeskundig 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zorgvuldig handelen v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roepsbeoefena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Wet heeft betrekking op individue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ezondheidszor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nder deze zorg wordt verstaa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oordel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vorder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wak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scher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Herstellen van iemands gezondhei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m het doel te bereiken, verbeteren en of 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arborg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itelbescher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egistratie in het BIG regi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voegdheidsregeling voorbehouden handel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uchtre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behouden handeling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andelingen, die onaanvaardbare risico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de gezondheid van de patiënt met zi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eebrengen als ze door ondeskundi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orden uitgevoe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Voorbehoud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handelingen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Heelkundige handeling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Verloskundige handeling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Endoscopieë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Katheteriser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Injecteren en punc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narco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Kunstmatige fertilisat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Stegenvergruiz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Gebruik van radioactieve stoffen en ioniserende stra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Cardiovers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Defibriller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Elektronconvuls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Zelfstandig bevoeg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r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Tandarts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rloskund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p eigen gezag 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pdrachtgever, ste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indicatie en beslist om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ehandeling zelfstand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uit te voer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Niet zelfstandig bevoeg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rpleegkund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Doktersassisten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ejaardenverzorgen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Helpen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Niet nodig dat het beroe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.b.v. de WET BIG geregeld is 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het zijn opdrachtnem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Handelen altijd in opdrac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an , mag nooit op eigen initiatief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stellen zelf geen diagno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ffffff"/>
                </a:solidFill>
                <a:latin typeface="Arial"/>
              </a:rPr>
              <a:t>Voorwaarde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kwaamheid van de opdrachtnem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Deskundi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kwaa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In opdracht van en volgens aanwijzingen van zelfstandig bevoeg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ogelijk tussenkomst van de ar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NBEKWAAM MAAKT ONBEVOEGD &amp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STRAFBAAR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Jannet van den Berg</cp:lastModifiedBy>
  <dcterms:modified xsi:type="dcterms:W3CDTF">2017-01-18T15:26:02Z</dcterms:modified>
  <cp:revision>14</cp:revision>
  <dc:subject/>
  <dc:title>Wet BIG</dc:title>
</cp:coreProperties>
</file>