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47D2-F6DC-4D2A-9EB2-2D21D75BDA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AA4F-13FA-47DD-94B0-D0D7B93AE68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5DB7-A73B-4B2A-9011-AD70BC68644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DED3-F987-44C3-B676-DF795EC9D01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055D-CF51-480F-B8AA-766F1CDFF1E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4EB0-3791-4288-A576-3898430503E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7B02-CE1A-457A-8D33-F634F54D028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B541-264F-45CA-A790-B508444BC07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7D17-D8D7-4EC3-92A9-AE1107F6EB9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22CF-416D-4906-A2AA-305F067D3FE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374A-AA63-4B0C-943E-637B6567B55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8459-05BC-4840-A39B-F610C10274C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B9E9-C0C9-4F76-90A6-B815AC7FF28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48F4-B241-4737-AE2E-2E555701C1B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463-EA11-4051-B662-2AEF7B2D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060-F369-4133-8DF4-4EF84240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5B6-E204-4286-9355-3D1F5F2F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895-969D-46CD-A391-E6488D22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A4FE-C0C7-46C4-AC83-8D8A8345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1BCE-BE9D-46ED-8539-DD720ED3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0B2F-4778-4F7D-B1A8-90BBEEC2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0642-4271-40EE-B861-DA3B3660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0B0F-1EF2-432A-A973-14D873A7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E462-B3D5-4975-84AA-B5D8DACF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A539-D223-46B1-A7C8-3A1095E9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04A-1E6F-412C-A1F9-EEE0687D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2B9B-0578-46BA-A28B-B9033074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53DC-AB05-4AF8-8B01-2903A2A1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5FC9-2E18-4A7D-9B52-500EFFCA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1185-0881-4454-A254-396F9156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EFC5-4730-4AA6-BB81-494B0514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54A-3E3E-4E60-BAD1-C5BD9A79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68C-C442-4A27-B70D-A61BE688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E27-929F-46FC-A73F-D56B2945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464-F7E3-4F5B-922E-9FCB9D41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CAC-3851-4EC9-ABF1-58847B9A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9DD-00B9-44F7-9437-E433CA80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85E-F4A8-49A3-86C7-496751B5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E3CE-F3C9-4C57-950D-52E7991F85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49ED-3B7A-4601-A457-BE5C7FDFFC3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698652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Afbeelding 1" descr="De kronkel over wet BIO en wet BIG en waar zij in de wei van onderwijs ..."/>
          <p:cNvPicPr/>
          <p:nvPr/>
        </p:nvPicPr>
        <p:blipFill>
          <a:blip r:embed="rId1"/>
          <a:stretch/>
        </p:blipFill>
        <p:spPr>
          <a:xfrm>
            <a:off x="4886280" y="2583000"/>
            <a:ext cx="26002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Wet BIG stelt de volgende voorwaarden, a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niet zelfstandig bevoegd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in opdracht van een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overeenkomstig de aanwijzingen van de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mag een voorbehouden handeling alleen uitvoeren, indien zowel hijzelf als de opdrachtgever , redelijkerwijs mag aannemen, dat hij beschikt over de bekwaamheid om de opdracht naar behoren uit te voer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iet 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op het gebied va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viduele gezondheidszorg, geneeskund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f niet geneeskundig, die niet op de i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genoemde lijst van voorbehou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voor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Verantwoord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ie in de gezondheidszorg werkt, is z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antwoordelijk voor eigen hande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ndersteu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toco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sverkla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Aansprak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doktersassistente via het civielrec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ze geeft de mogelijkheid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adevergo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strafrecht speelt een rol, wanneer de d.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functie een fout heeft gemaakt, waarbij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tient schade heeft ondervon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 is kernbegrip in de gezondheids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zorg. Drie recente wetten, met e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verschillende invalshoeken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GBO: Wet op geneeskundige behandelingsovereenkom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swet Zorginstellingen : Wet op kwaliteit van zorginstellin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BIG: Wet op beroepen in de individuele gezondheidszor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op Beroepen in de Individu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heidsz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kwaliteit van de beroepsuitoefening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rderen en te bewaken en de patiënt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ermen tegen ondeskundig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zorgvuldig handelen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roepsbeoefen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heeft betrekking op individu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ezondheidszor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der deze zorg wordt verstaa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oordel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vord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wa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scher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Herstellen van iemands gezondhe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m het doel te bereiken, verbeteren en of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bor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telbesche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gistratie in het BIG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egdheidsregeling voorbehouden hande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chtre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, die onaanvaardbare risico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gezondheid van de patiënt met z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ebrengen als ze door ondeskund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uitgevoe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oorbehou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andeling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eel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erlos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ndoscopieë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atheteris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Injecteren en punc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narco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unstmatige fertilisat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Stegenvergruiz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Gebruik van radioactieve stoffen en ioniserende stra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Cardiover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Defibrill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lektronconvul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andart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los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 eigen gezag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drachtgever, st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dicatie en beslist om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 zelfstan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 te vo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pleeg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oktersassist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jaardenverzorg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lp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nodig dat het bero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.b.v. de WET BIG geregeld is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t zijn opdrachtnem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andelen altijd in opdr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an , mag nooit op eigen initiatief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ellen zelf geen diagn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Voorwaard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heid van de opdrachtnem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Deskundi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In opdracht van en volgens aanwijzingen van zelfstandig bevoeg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ogelijk tussenkomst van de 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BEKWAAM MAAKT ONBEVOEGD &amp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TRAFBAA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Jannet van den Berg</cp:lastModifiedBy>
  <dcterms:modified xsi:type="dcterms:W3CDTF">2017-01-18T15:26:02Z</dcterms:modified>
  <cp:revision>14</cp:revision>
  <dc:subject/>
  <dc:title>Wet BIG</dc:title>
</cp:coreProperties>
</file>