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A766-0021-497E-8670-54F0988F96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1E94-6905-4574-B652-7287111EDA0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C3F1-0F06-4B3F-A844-D825ABCF329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C45D-6E2E-495E-A400-F97D3DE71C7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54EA-1812-4555-94E4-475688CC22A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9573-98B8-43BF-8E64-E29CC3B2E36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15A1-7504-4B2C-A059-E53A9C394A5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3333-01C2-4BF6-BE71-2D0C8A302B1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879D-0A71-4A7D-BBBD-D04E7EF1687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0DBC-900B-445A-BC49-48406B936F8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9743-E8C9-4BBC-9EC0-6F218BFB986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4F99-8DC1-4677-BBBC-6DC6911A2AC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09DB-0C61-4AFA-A2E4-1A512A6D771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57CA-21F6-4500-B146-5F034B935EF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30B-BD85-4F5F-A446-44F70536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971-6F96-4B90-9952-B7D132CA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29B-E8B2-405E-8CDB-47C2CCC0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B61-E12A-4C94-8C10-AB64F7E9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4E72-E272-4B99-B3D4-59AED98F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EB1F-7793-4367-9F7B-69858D3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0C48-A34C-4152-A0C2-AD1E6982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42BE-37E6-4E70-AA79-06F97C6E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9832-18E7-4873-9EEA-56666F8D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B307-CAF1-423F-8153-CCA3D4AB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5723-A18A-4756-8CF0-26413816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1BC-DFD3-4CD4-8097-E9EBAF52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A0BB-F653-48C2-BA74-FD324C6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7176-48AA-4585-BD61-4B659A8C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CB2F-07CD-4822-8F36-E4A83BC7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DF9B-55A1-419A-B711-0FB44739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6B7-5C92-4486-9297-A0A4D7C6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0F8-8A83-4D97-A423-566DD5A5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619-A7AF-4621-98AA-C11BF49F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430-7421-485E-8594-A52C5DA0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3102-A54B-444F-AB16-AAFF200F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448-F532-4D6E-BAC4-88554349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C80-3824-48EF-BB0E-0F3841E9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A2C-6D50-47C4-B9BA-E9461FF6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8925-9F20-460D-95DB-967A8142CF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0201-86B6-4498-9D8C-EC75AE6B9D3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698652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Afbeelding 1" descr="De kronkel over wet BIO en wet BIG en waar zij in de wei van onderwijs ..."/>
          <p:cNvPicPr/>
          <p:nvPr/>
        </p:nvPicPr>
        <p:blipFill>
          <a:blip r:embed="rId1"/>
          <a:stretch/>
        </p:blipFill>
        <p:spPr>
          <a:xfrm>
            <a:off x="4886280" y="2583000"/>
            <a:ext cx="26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Wet BIG stelt de volgende voorwaarden, 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niet zelfstandig bevoegd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in opdracht van een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overeenkomstig de aanwijzingen van de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mag een voorbehouden handeling alleen uitvoeren, indien zowel hijzelf als de opdrachtgever , redelijkerwijs mag aannemen, dat hij beschikt over de bekwaamheid om de opdracht naar behoren uit te voe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iet 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op het gebied va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viduele gezondheidszorg, geneesku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niet geneeskundig, die niet op de i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genoemde lijst van voorbehou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voor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erantwoord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e in de gezondheidszorg werkt, is z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antwoordelijk voor eigen hande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ndersteu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oc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sverkla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nsprak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doktersassistente via het civielrec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 geeft de mogelijkheid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adevergo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trafrecht speelt een rol, wanneer de d.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functie een fout heeft gemaakt, waarbij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tient schade heeft ondervo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 is kernbegrip in de gezondheid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zorg. Drie recente wetten, met e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verschillende invalshoeke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GBO: Wet op geneeskundige behandelingsovereenkom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swet Zorginstellingen : Wet op kwaliteit van zorginstelli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BIG: Wet op beroepen in de individuele gezondheidsz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op Beroepen in de Individu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heidsz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waliteit van de beroepsuitoefening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rderen en te bewaken en de patiënt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ermen tegen ondeskundig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zorgvuldig handelen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roepsbeoefen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heeft betrekking op individu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ezondheidszor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der deze zorg wordt versta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oorde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vord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wa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scher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Herstellen van iemands gezondhe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m het doel te bereiken, verbeteren en of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b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telbesche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ratie in het BIG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egdheidsregeling voorbehouden hande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chtre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, die onaanvaardbare risic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gezondheid van de patiënt met z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ebrengen als ze door ondeskun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uitgevoe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oorbehou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andeling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eel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erlos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ndoscopieë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atheteris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Injecteren en punc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narc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unstmatige fertilisat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Stegenvergru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Gebruik van radioactieve stoffen en ioniserende str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Cardi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Defibrill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lektronconvul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ndart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los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 eigen gezag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drachtgever, s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catie en beslist om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 zelfsta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 te vo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pleeg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ktersassist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jaardenverzorg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lp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nodig dat het be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.b.v. de WET BIG geregeld is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t zijn opdrachtnem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ndelen altijd in 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n , mag nooit op eigen initiatie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llen zelf geen diag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Voorwaard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heid van de opdrachtne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Deskund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In opdracht van en volgens aanwijzingen van zelfstandig bevoeg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ogelijk tussenkomst van de 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BEKWAAM MAAKT ONBEVOEGD &amp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TRAFBAA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Jannet van den Berg</cp:lastModifiedBy>
  <dcterms:modified xsi:type="dcterms:W3CDTF">2017-01-18T15:26:02Z</dcterms:modified>
  <cp:revision>14</cp:revision>
  <dc:subject/>
  <dc:title>Wet BIG</dc:title>
</cp:coreProperties>
</file>