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C0FB-5C9D-4996-B86B-CB87FF1FBA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BB7-2842-41D7-A74A-4F4C007F040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474E-EC98-4DBE-A46D-FE586144C4C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761F-84E7-4D29-8E53-143140F4A5C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F09-1B3B-4586-951C-744CFC7AFC4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DC7C-B41D-4853-B9D3-86C415247FA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7D5F-FE6D-45E5-B525-284F7681021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75AA-5B26-447A-8755-BB045E62344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7591-9485-4505-B013-DC2B34E0342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9DA0-FFD8-431F-957B-F84488AD655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9D87-366D-4EE3-B958-038444F81E7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B70B-1270-4405-A605-5DF36CB2786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873C-8022-40A9-84D9-5D4957E41EA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E0F3-42EE-449E-901C-4A4C76786AE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B57-44C7-42E3-9A78-9F21943E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E0D-C382-403C-B9A3-0C204439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F36-CD3F-4B26-9169-372DF665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0E3-AB98-423A-BBCD-4003148B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8A45-C6F4-4CB2-8B84-F5CBA8B1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B29F-C438-4700-89D2-BE1034C9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C7F8-97DE-4986-B969-24EC87EE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89FA-0D66-4135-B63C-3BE1797C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1C0B-84E3-487F-8124-00121E3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1142-791F-465D-906E-24411A44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833E-D4B3-4800-AE98-C6A72556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6B0-23AF-49F1-89BA-16FE72BA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2FBC-6883-467E-BA79-1ED3F5D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9E06-465B-4B98-A09D-2CDF912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BE07-FFED-408A-A4E0-45E387FA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A8E6-496C-48E1-8EBD-8F4E056F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5178-4E69-48B8-BB01-57E3CE12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8A4-F7D4-4BCB-A53F-D72FC41B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81D-9204-429B-9820-22B09F3B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8ED-A188-43CF-B062-F778F5BF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529-0876-4A4A-9EB8-B3356259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D2D-DDD0-46CE-9335-C23BC5F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2E3-4A93-4BA7-8518-D0010E2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F30-DD3B-45E8-A6F9-EF28F793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4C94-ED3E-4100-949F-91CD7A869C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DE26-8466-42A0-9E2C-A42D2593630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698652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Afbeelding 1" descr="De kronkel over wet BIO en wet BIG en waar zij in de wei van onderwijs ..."/>
          <p:cNvPicPr/>
          <p:nvPr/>
        </p:nvPicPr>
        <p:blipFill>
          <a:blip r:embed="rId1"/>
          <a:stretch/>
        </p:blipFill>
        <p:spPr>
          <a:xfrm>
            <a:off x="4886280" y="2583000"/>
            <a:ext cx="26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Wet BIG stelt de volgende voorwaarden, 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niet zelfstandig bevoegd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in opdracht van een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overeenkomstig de aanwijzingen van de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mag een voorbehouden handeling alleen uitvoeren, indien zowel hijzelf als de opdrachtgever , redelijkerwijs mag aannemen, dat hij beschikt over de bekwaamheid om de opdracht naar behoren uit te voe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iet 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op het gebied va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viduele gezondheidszorg, geneesku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niet geneeskundig, die niet op de i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genoemde lijst van voorbehou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voor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erantwoord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e in de gezondheidszorg werkt, is z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antwoordelijk voor eigen hande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ndersteu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oc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sverkla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nsprak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doktersassistente via het civielrec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 geeft de mogelijkheid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adevergo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trafrecht speelt een rol, wanneer de d.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functie een fout heeft gemaakt, waarbij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tient schade heeft ondervo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 is kernbegrip in de gezondheid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zorg. Drie recente wetten, met e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verschillende invalshoeke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GBO: Wet op geneeskundige behandelingsovereenkom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swet Zorginstellingen : Wet op kwaliteit van zorginstelli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BIG: Wet op beroepen in de individuele gezondheidsz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op Beroepen in de Individu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heidsz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waliteit van de beroepsuitoefening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rderen en te bewaken en de patiënt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ermen tegen ondeskundig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zorgvuldig handelen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roepsbeoefen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heeft betrekking op individu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ezondheidszor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der deze zorg wordt versta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oorde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vord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wa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scher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Herstellen van iemands gezondhe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m het doel te bereiken, verbeteren en of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b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telbesche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ratie in het BIG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egdheidsregeling voorbehouden hande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chtre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, die onaanvaardbare risic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gezondheid van de patiënt met z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ebrengen als ze door ondeskun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uitgevoe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oorbehou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andeling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eel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erlos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ndoscopieë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atheteris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Injecteren en punc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narc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unstmatige fertilisat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Stegenvergru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Gebruik van radioactieve stoffen en ioniserende str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Cardi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Defibrill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lektronconvul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ndart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los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 eigen gezag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drachtgever, s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catie en beslist om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 zelfsta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 te vo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pleeg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ktersassist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jaardenverzorg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lp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nodig dat het be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.b.v. de WET BIG geregeld is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t zijn opdrachtnem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ndelen altijd in 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n , mag nooit op eigen initiatie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llen zelf geen diag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Voorwaard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heid van de opdrachtne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Deskund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In opdracht van en volgens aanwijzingen van zelfstandig bevoeg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ogelijk tussenkomst van de 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BEKWAAM MAAKT ONBEVOEGD &amp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TRAFBAA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Jannet van den Berg</cp:lastModifiedBy>
  <dcterms:modified xsi:type="dcterms:W3CDTF">2017-01-18T15:26:02Z</dcterms:modified>
  <cp:revision>14</cp:revision>
  <dc:subject/>
  <dc:title>Wet BIG</dc:title>
</cp:coreProperties>
</file>