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E082-2FA4-4E40-996C-040A933FB0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0D37-3672-46A2-8FBC-F831E9026BD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10EF-0637-426E-AEAC-02C952F14F7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ADD1-90D6-4ED0-912B-3C7776E9AFF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C402-6CBF-436B-B30A-60781B50DB7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2099-8A2A-4DCE-BDD5-B244E19931C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9709-3113-4BA9-A9D3-76AEE2167CF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154A-443B-4AB0-9210-19ECA658650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7235-8AF7-4835-A48E-9746714B726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ADDA-F057-453C-8417-BB0EDAC5723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FC77-F49E-44B8-980F-8BE4C314863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7F33-F983-4A68-A5DF-5182F7A9529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FDED-1416-4078-BE36-AECA76A99AC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A46A-03B9-493F-9220-E26372C5812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4B2-4010-44E0-AB12-808DABE9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E3C-922C-4528-9D08-AAD1E001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2AF-B842-4301-B6BC-56556B63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6FD-44FF-4AF7-B2B5-E8009E19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100D-E17F-48D8-B61D-7E25E87A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B31E-E7FE-4D6A-977E-59922BDC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0D7B-8783-41CD-AAC6-0A7F762B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DBC5-1338-4CD6-A55F-5F669B8C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980E-8CC0-4C51-B5B6-1690D08C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7505-1143-4068-9993-FEF21D09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06AF-A1B0-45AE-B7CC-A488E273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707-10C5-42DC-90A6-21FB5386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29EC-FAAD-4F10-A380-E8592732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E992-626E-41E5-88D9-F69BF982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3E24-5B5D-4112-86CF-31293300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FC4D-AE7D-4B34-BD22-AA66C55D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0D97-4D3C-49C1-B678-48E4EB5A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07B-8DAC-4278-AEDD-7EB4FC13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267-ED10-436B-961F-3486D6EB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704-E47B-4AC3-A053-0E4B91C0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773-F8C1-4902-87B8-2F388347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064-2A62-467F-86C7-4C523FEE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A95-F89C-47C5-82D5-8D265D6F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704-C551-4479-923E-35A3169A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615A-51F2-4493-91DA-C86011DAD8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6657-153B-410B-933E-A5FA9248579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698652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Afbeelding 1" descr="De kronkel over wet BIO en wet BIG en waar zij in de wei van onderwijs ..."/>
          <p:cNvPicPr/>
          <p:nvPr/>
        </p:nvPicPr>
        <p:blipFill>
          <a:blip r:embed="rId1"/>
          <a:stretch/>
        </p:blipFill>
        <p:spPr>
          <a:xfrm>
            <a:off x="4886280" y="2583000"/>
            <a:ext cx="2600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Wet BIG stelt de volgende voorwaarden, a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niet zelfstandig bevoegd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in opdracht van een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overeenkomstig de aanwijzingen van de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mag een voorbehouden handeling alleen uitvoeren, indien zowel hijzelf als de opdrachtgever , redelijkerwijs mag aannemen, dat hij beschikt over de bekwaamheid om de opdracht naar behoren uit te voer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iet 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op het gebied va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viduele gezondheidszorg, geneeskund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 niet geneeskundig, die niet op de i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genoemde lijst van voorbehou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voor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Verantwoord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ie in de gezondheidszorg werkt, is z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antwoordelijk voor eigen hande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ndersteu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oc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sverkla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Aansprak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doktersassistente via het civielrec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 geeft de mogelijkheid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adevergo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trafrecht speelt een rol, wanneer de d.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functie een fout heeft gemaakt, waarbij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tient schade heeft ondervon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 is kernbegrip in de gezondheids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zorg. Drie recente wetten, met e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verschillende invalshoeke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GBO: Wet op geneeskundige behandelingsovereenkom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swet Zorginstellingen : Wet op kwaliteit van zorginstelli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BIG: Wet op beroepen in de individuele gezondheidsz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op Beroepen in de Individu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heidsz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kwaliteit van de beroepsuitoefening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rderen en te bewaken en de patiënt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ermen tegen ondeskundig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zorgvuldig handelen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roepsbeoefen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heeft betrekking op individu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ezondheidszor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der deze zorg wordt verstaa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oordel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vord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wa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scher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Herstellen van iemands gezondhe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m het doel te bereiken, verbeteren en of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b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telbesche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gistratie in het BIG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egdheidsregeling voorbehouden hande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chtre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, die onaanvaardbare risic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gezondheid van de patiënt met z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ebrengen als ze door ondeskund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uitgevoe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oorbehou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andeling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eel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erlos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ndoscopieë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atheteris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Injecteren en punc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narc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unstmatige fertilisat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Stegenvergruiz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Gebruik van radioactieve stoffen en ioniserende stra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Cardiover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Defibrill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lektronconvul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andart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los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 eigen gezag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drachtgever, st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dicatie en beslist om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 zelfstan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 te vo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pleeg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oktersassist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jaardenverzorg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lp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nodig dat het bero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.b.v. de WET BIG geregeld is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t zijn opdrachtnem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andelen altijd in 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an , mag nooit op eigen initiatief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llen zelf geen diagn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Voorwaard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heid van de opdrachtnem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Deskundi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In opdracht van en volgens aanwijzingen van zelfstandig bevoeg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ogelijk tussenkomst van de 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BEKWAAM MAAKT ONBEVOEGD &amp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TRAFBAA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Jannet van den Berg</cp:lastModifiedBy>
  <dcterms:modified xsi:type="dcterms:W3CDTF">2017-01-18T15:26:02Z</dcterms:modified>
  <cp:revision>14</cp:revision>
  <dc:subject/>
  <dc:title>Wet BIG</dc:title>
</cp:coreProperties>
</file>