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ff"/>
                </a:solidFill>
                <a:latin typeface="Arial"/>
              </a:rPr>
              <a:t>Mestboekhoud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99E3-9014-4391-AD0A-1BD82BB131DC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Mestboekhouding op de weegscha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0" name="Picture 4" descr="balans"/>
          <p:cNvPicPr/>
          <p:nvPr/>
        </p:nvPicPr>
        <p:blipFill>
          <a:blip r:embed="rId1"/>
          <a:stretch/>
        </p:blipFill>
        <p:spPr>
          <a:xfrm>
            <a:off x="2268360" y="1628640"/>
            <a:ext cx="4602240" cy="2944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619280" y="4294080"/>
            <a:ext cx="2376360" cy="122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ind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076720" y="4292640"/>
            <a:ext cx="237492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bruiksn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kstofcor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voer, afvoer en begin- en eind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- en eindbalan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5D08-0623-41B1-9C1C-215C76E329D1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hteraccolade 4"/>
          <p:cNvSpPr/>
          <p:nvPr/>
        </p:nvSpPr>
        <p:spPr>
          <a:xfrm>
            <a:off x="2627280" y="231768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kstvak 5"/>
          <p:cNvSpPr/>
          <p:nvPr/>
        </p:nvSpPr>
        <p:spPr>
          <a:xfrm>
            <a:off x="3348000" y="258120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hteraccolade 6"/>
          <p:cNvSpPr/>
          <p:nvPr/>
        </p:nvSpPr>
        <p:spPr>
          <a:xfrm>
            <a:off x="2627280" y="364500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kstvak 7"/>
          <p:cNvSpPr/>
          <p:nvPr/>
        </p:nvSpPr>
        <p:spPr>
          <a:xfrm>
            <a:off x="3470400" y="390852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8"/>
          <p:cNvSpPr/>
          <p:nvPr/>
        </p:nvSpPr>
        <p:spPr>
          <a:xfrm>
            <a:off x="3470400" y="5300640"/>
            <a:ext cx="28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hteraccolade 9"/>
          <p:cNvSpPr/>
          <p:nvPr/>
        </p:nvSpPr>
        <p:spPr>
          <a:xfrm>
            <a:off x="2627280" y="5060880"/>
            <a:ext cx="504720" cy="89388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3880"/>
              <a:gd name="textAreaBottom" fmla="*/ 88092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nor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Hoeveel N en P2O5 kan een veehouder op zijn land kwijt. Dit is afhankelijk van: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antal hectares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oort gro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ouw- of grasla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D7DE-B9E8-483B-85F3-76DD6CBF3543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tikstofcorr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Wat mag er via de ventilatiekoker verdwijnen aan N: emissiearme stallen t.o.v. niet emissiearme stallen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5E6C-79B5-4220-9D4F-4706BF6B2CED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1942920" cy="2190960"/>
          </a:xfrm>
          <a:prstGeom prst="rect">
            <a:avLst/>
          </a:prstGeom>
          <a:ln w="0">
            <a:noFill/>
          </a:ln>
        </p:spPr>
      </p:pic>
      <p:sp>
        <p:nvSpPr>
          <p:cNvPr id="99" name="Wolkvormige toelichting 4"/>
          <p:cNvSpPr/>
          <p:nvPr/>
        </p:nvSpPr>
        <p:spPr>
          <a:xfrm>
            <a:off x="3348000" y="2781360"/>
            <a:ext cx="1511280" cy="647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erekening van de 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balans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bruiksruimt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Stikstofcorrectie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ndbala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A927-6E97-4F0E-B8BB-8366F782A398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03:03Z</dcterms:created>
  <dc:creator>Astrid Damen</dc:creator>
  <dc:description/>
  <dc:language>en-US</dc:language>
  <cp:lastModifiedBy>Herman Peeters</cp:lastModifiedBy>
  <dcterms:modified xsi:type="dcterms:W3CDTF">2018-10-03T09:34:55Z</dcterms:modified>
  <cp:revision>14</cp:revision>
  <dc:subject/>
  <dc:title>‘ BELEEF JE EIGEN GROEI ’</dc:title>
</cp:coreProperties>
</file>