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7B9A-659D-4016-8F7E-BBA191C2E1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8C81-F948-4ADD-84D8-9CAF057C106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FD1-0C18-4D04-8D71-92ACAEA3A29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8AC1-494F-4CC6-A8F3-B7C78A72BBB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4678-9F54-4695-878D-E6C34C15824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A0B-20D8-42C2-BE93-31840244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CDE-F42C-4DD2-8A07-29752C79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635-7DAF-47AC-821B-6F1C1680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6BF-84B5-4BB3-8897-6DC621BB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EB6-DFF5-4CAB-9D87-7FD6CD3C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64A-A8A8-49C4-8ADB-64061C8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D43-6368-4C27-AF10-5105DCCE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AFF-8564-4DCD-B6D4-2983468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036-A6F7-44CD-AA82-0F248D1D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E6B-48F0-45D0-9ADC-7088402A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1CD-4205-4974-B931-D1EE8BFF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A08-379D-4629-AEC5-8800354B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780-F642-4E26-8057-34E81D6F62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alibri Light"/>
              </a:rPr>
              <a:t>Blok 2:</a:t>
            </a:r>
            <a:br>
              <a:rPr sz="3200"/>
            </a:br>
            <a:r>
              <a:rPr b="0" lang="nl-NL" sz="5400" spc="-1" strike="noStrike">
                <a:solidFill>
                  <a:srgbClr val="ffffff"/>
                </a:solidFill>
                <a:latin typeface="Calibri Light"/>
              </a:rPr>
              <a:t>Grammatica zinsdelen</a:t>
            </a:r>
            <a:br>
              <a:rPr sz="3600"/>
            </a:br>
            <a:endParaRPr b="0" lang="en-US" sz="5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Calibri"/>
              </a:rPr>
              <a:t>Persoonsvorm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0000"/>
                </a:solidFill>
                <a:latin typeface="Calibri Light"/>
              </a:rPr>
              <a:t>Wat is een persoonsvorm?</a:t>
            </a:r>
            <a:endParaRPr b="0" lang="en-US" sz="3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676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De persoonsvorm (pv) is altijd een werkwoord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Je kunt de persoonsvorm op de volgende manieren vinden: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Zet de zin in een andere tijd. Het werkwoord dat verandert, is de persoonsvorm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Maak de zin vragend. Het werkwoord dat vooraan komt te staan, is de persoonsvorm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9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0000"/>
                </a:solidFill>
                <a:latin typeface="Calibri Light"/>
              </a:rPr>
              <a:t>De persoonsvorm (pv) zoeken</a:t>
            </a:r>
            <a:endParaRPr b="0" lang="en-US" sz="3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6676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Voorbeeld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De voetbalsupporters verlaten het stadion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Zin in een andere tijd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De voetbalsupporters </a:t>
            </a:r>
            <a:r>
              <a:rPr b="0" i="1" lang="nl-NL" sz="2800" spc="-1" strike="noStrike" u="sng">
                <a:solidFill>
                  <a:srgbClr val="ffffff"/>
                </a:solidFill>
                <a:uFillTx/>
                <a:latin typeface="Calibri"/>
              </a:rPr>
              <a:t>verlieten</a:t>
            </a: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 (pv) het stadion.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Zin vragend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ffffff"/>
                </a:solidFill>
                <a:uFillTx/>
                <a:latin typeface="Calibri"/>
              </a:rPr>
              <a:t>Verlaten</a:t>
            </a: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 (pv) de voetbalsupporters het stadion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Persoonsvorm</a:t>
            </a: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verlat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nl-NL" sz="3000" spc="-1" strike="noStrike">
                <a:solidFill>
                  <a:srgbClr val="ff0000"/>
                </a:solidFill>
                <a:latin typeface="Calibri"/>
              </a:rPr>
              <a:t>Is de persoonsvorm onderstreept?</a:t>
            </a:r>
            <a:endParaRPr b="0" lang="en-US" sz="3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Lotte </a:t>
            </a:r>
            <a:r>
              <a:rPr b="0" lang="nl-NL" sz="2200" spc="-1" strike="noStrike" u="sng">
                <a:solidFill>
                  <a:srgbClr val="ffffff"/>
                </a:solidFill>
                <a:uFillTx/>
                <a:latin typeface="Calibri"/>
              </a:rPr>
              <a:t>vindt</a:t>
            </a: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 een steentj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Komt het werkwoord vooraan te staan als je er een vraagzin van maakt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Calibri"/>
              </a:rPr>
              <a:t>Vindt Lotte een steentj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Calibri"/>
              </a:rPr>
              <a:t>Verandert het werkwoord van vorm als de zin van tijd verandert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45252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Calibri"/>
              </a:rPr>
              <a:t>Lotte vond een steentje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lvl="1" marL="452520">
              <a:lnSpc>
                <a:spcPct val="6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L-vorm 9"/>
          <p:cNvSpPr/>
          <p:nvPr/>
        </p:nvSpPr>
        <p:spPr>
          <a:xfrm rot="19034400">
            <a:off x="7799400" y="4719240"/>
            <a:ext cx="320760" cy="318960"/>
          </a:xfrm>
          <a:custGeom>
            <a:avLst/>
            <a:gdLst/>
            <a:ahLst/>
            <a:rect l="l" t="t" r="r" b="b"/>
            <a:pathLst>
              <a:path w="320675" h="319087">
                <a:moveTo>
                  <a:pt x="0" y="0"/>
                </a:moveTo>
                <a:lnTo>
                  <a:pt x="159544" y="0"/>
                </a:lnTo>
                <a:lnTo>
                  <a:pt x="159544" y="159544"/>
                </a:lnTo>
                <a:lnTo>
                  <a:pt x="320675" y="159544"/>
                </a:lnTo>
                <a:lnTo>
                  <a:pt x="320675" y="319087"/>
                </a:lnTo>
                <a:lnTo>
                  <a:pt x="0" y="31908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-vorm 13"/>
          <p:cNvSpPr/>
          <p:nvPr/>
        </p:nvSpPr>
        <p:spPr>
          <a:xfrm rot="19034400">
            <a:off x="7799400" y="3258720"/>
            <a:ext cx="320760" cy="319320"/>
          </a:xfrm>
          <a:custGeom>
            <a:avLst/>
            <a:gdLst/>
            <a:ahLst/>
            <a:rect l="l" t="t" r="r" b="b"/>
            <a:pathLst>
              <a:path w="320675" h="319087">
                <a:moveTo>
                  <a:pt x="0" y="0"/>
                </a:moveTo>
                <a:lnTo>
                  <a:pt x="159544" y="0"/>
                </a:lnTo>
                <a:lnTo>
                  <a:pt x="159544" y="159544"/>
                </a:lnTo>
                <a:lnTo>
                  <a:pt x="320675" y="159544"/>
                </a:lnTo>
                <a:lnTo>
                  <a:pt x="320675" y="319087"/>
                </a:lnTo>
                <a:lnTo>
                  <a:pt x="0" y="31908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-vorm 15"/>
          <p:cNvSpPr/>
          <p:nvPr/>
        </p:nvSpPr>
        <p:spPr>
          <a:xfrm rot="18672000">
            <a:off x="7592040" y="5601240"/>
            <a:ext cx="1187640" cy="649440"/>
          </a:xfrm>
          <a:custGeom>
            <a:avLst/>
            <a:gdLst/>
            <a:ahLst/>
            <a:rect l="l" t="t" r="r" b="b"/>
            <a:pathLst>
              <a:path w="1187450" h="649288">
                <a:moveTo>
                  <a:pt x="0" y="0"/>
                </a:moveTo>
                <a:lnTo>
                  <a:pt x="324644" y="0"/>
                </a:lnTo>
                <a:lnTo>
                  <a:pt x="324644" y="324644"/>
                </a:lnTo>
                <a:lnTo>
                  <a:pt x="1187450" y="324644"/>
                </a:lnTo>
                <a:lnTo>
                  <a:pt x="1187450" y="649288"/>
                </a:lnTo>
                <a:lnTo>
                  <a:pt x="0" y="649288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nl-NL" sz="3000" spc="-1" strike="noStrike">
                <a:solidFill>
                  <a:srgbClr val="ff0000"/>
                </a:solidFill>
                <a:latin typeface="Calibri"/>
              </a:rPr>
              <a:t>Is de persoonsvorm onderstreept?</a:t>
            </a:r>
            <a:endParaRPr b="0" lang="en-US" sz="3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De visser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Calibri"/>
              </a:rPr>
              <a:t>probeert</a:t>
            </a: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 de verzwakte zeehond te redde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Komt het werkwoord vooraan te staan als je er een vraagzin van maak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Probeert de visser de verzwakte zeehond te redde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Verandert het werkwoord van vorm als je de zin van tijd verander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De visser probeerde de verzwakte zeehond te redde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L-vorm 10"/>
          <p:cNvSpPr/>
          <p:nvPr/>
        </p:nvSpPr>
        <p:spPr>
          <a:xfrm rot="19034400">
            <a:off x="8207280" y="4962240"/>
            <a:ext cx="320760" cy="318960"/>
          </a:xfrm>
          <a:custGeom>
            <a:avLst/>
            <a:gdLst/>
            <a:ahLst/>
            <a:rect l="l" t="t" r="r" b="b"/>
            <a:pathLst>
              <a:path w="320675" h="319088">
                <a:moveTo>
                  <a:pt x="0" y="0"/>
                </a:moveTo>
                <a:lnTo>
                  <a:pt x="159544" y="0"/>
                </a:lnTo>
                <a:lnTo>
                  <a:pt x="159544" y="159544"/>
                </a:lnTo>
                <a:lnTo>
                  <a:pt x="320675" y="159544"/>
                </a:lnTo>
                <a:lnTo>
                  <a:pt x="320675" y="319088"/>
                </a:lnTo>
                <a:lnTo>
                  <a:pt x="0" y="319088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-vorm 11"/>
          <p:cNvSpPr/>
          <p:nvPr/>
        </p:nvSpPr>
        <p:spPr>
          <a:xfrm rot="19034400">
            <a:off x="8208720" y="3288960"/>
            <a:ext cx="322200" cy="318960"/>
          </a:xfrm>
          <a:custGeom>
            <a:avLst/>
            <a:gdLst/>
            <a:ahLst/>
            <a:rect l="l" t="t" r="r" b="b"/>
            <a:pathLst>
              <a:path w="322262" h="319088">
                <a:moveTo>
                  <a:pt x="0" y="0"/>
                </a:moveTo>
                <a:lnTo>
                  <a:pt x="159544" y="0"/>
                </a:lnTo>
                <a:lnTo>
                  <a:pt x="159544" y="159544"/>
                </a:lnTo>
                <a:lnTo>
                  <a:pt x="322262" y="159544"/>
                </a:lnTo>
                <a:lnTo>
                  <a:pt x="322262" y="319088"/>
                </a:lnTo>
                <a:lnTo>
                  <a:pt x="0" y="319088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-vorm 12"/>
          <p:cNvSpPr/>
          <p:nvPr/>
        </p:nvSpPr>
        <p:spPr>
          <a:xfrm rot="18672000">
            <a:off x="7773480" y="5810400"/>
            <a:ext cx="1187280" cy="647640"/>
          </a:xfrm>
          <a:custGeom>
            <a:avLst/>
            <a:gdLst/>
            <a:ahLst/>
            <a:rect l="l" t="t" r="r" b="b"/>
            <a:pathLst>
              <a:path w="1187450" h="647700">
                <a:moveTo>
                  <a:pt x="0" y="0"/>
                </a:moveTo>
                <a:lnTo>
                  <a:pt x="323850" y="0"/>
                </a:lnTo>
                <a:lnTo>
                  <a:pt x="323850" y="323850"/>
                </a:lnTo>
                <a:lnTo>
                  <a:pt x="1187450" y="323850"/>
                </a:lnTo>
                <a:lnTo>
                  <a:pt x="1187450" y="647700"/>
                </a:lnTo>
                <a:lnTo>
                  <a:pt x="0" y="647700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nl-NL" sz="3000" spc="-1" strike="noStrike">
                <a:solidFill>
                  <a:srgbClr val="ff0000"/>
                </a:solidFill>
                <a:latin typeface="Calibri"/>
              </a:rPr>
              <a:t>Is de persoonsvorm onderstreept?</a:t>
            </a:r>
            <a:endParaRPr b="0" lang="en-US" sz="3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Er wordt door de politi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Calibri"/>
              </a:rPr>
              <a:t>gestaakt</a:t>
            </a: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Komt het werkwoord vooraan te staan als je er een vraagzin van maak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Wordt er door de politie gestaak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Verandert het werkwoord van vorm als je de zin van tijd verander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Er werd door de politie gestaak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Verbodssymbool 11"/>
          <p:cNvSpPr/>
          <p:nvPr/>
        </p:nvSpPr>
        <p:spPr>
          <a:xfrm>
            <a:off x="7942320" y="328464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228600"/>
                </a:moveTo>
                <a:cubicBezTo>
                  <a:pt x="0" y="102348"/>
                  <a:pt x="102348" y="0"/>
                  <a:pt x="228600" y="0"/>
                </a:cubicBezTo>
                <a:cubicBezTo>
                  <a:pt x="354852" y="0"/>
                  <a:pt x="457200" y="102348"/>
                  <a:pt x="457200" y="228600"/>
                </a:cubicBezTo>
                <a:cubicBezTo>
                  <a:pt x="457200" y="354852"/>
                  <a:pt x="354852" y="457200"/>
                  <a:pt x="228600" y="457200"/>
                </a:cubicBezTo>
                <a:cubicBezTo>
                  <a:pt x="102348" y="457200"/>
                  <a:pt x="0" y="354852"/>
                  <a:pt x="0" y="228600"/>
                </a:cubicBezTo>
                <a:close/>
                <a:moveTo>
                  <a:pt x="354397" y="296337"/>
                </a:moveTo>
                <a:cubicBezTo>
                  <a:pt x="384310" y="240784"/>
                  <a:pt x="374242" y="172187"/>
                  <a:pt x="329628" y="127572"/>
                </a:cubicBezTo>
                <a:cubicBezTo>
                  <a:pt x="285013" y="82957"/>
                  <a:pt x="216416" y="72889"/>
                  <a:pt x="160863" y="102803"/>
                </a:cubicBezTo>
                <a:lnTo>
                  <a:pt x="354397" y="296337"/>
                </a:lnTo>
                <a:close/>
                <a:moveTo>
                  <a:pt x="102803" y="160863"/>
                </a:moveTo>
                <a:cubicBezTo>
                  <a:pt x="72890" y="216416"/>
                  <a:pt x="82958" y="285013"/>
                  <a:pt x="127572" y="329628"/>
                </a:cubicBezTo>
                <a:cubicBezTo>
                  <a:pt x="172187" y="374243"/>
                  <a:pt x="240784" y="384311"/>
                  <a:pt x="296337" y="354397"/>
                </a:cubicBezTo>
                <a:lnTo>
                  <a:pt x="102803" y="160863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Verbodssymbool 12"/>
          <p:cNvSpPr/>
          <p:nvPr/>
        </p:nvSpPr>
        <p:spPr>
          <a:xfrm>
            <a:off x="7724880" y="5678640"/>
            <a:ext cx="1008000" cy="1012680"/>
          </a:xfrm>
          <a:custGeom>
            <a:avLst/>
            <a:gdLst/>
            <a:ahLst/>
            <a:rect l="l" t="t" r="r" b="b"/>
            <a:pathLst>
              <a:path w="1008063" h="1012825">
                <a:moveTo>
                  <a:pt x="0" y="506413"/>
                </a:moveTo>
                <a:cubicBezTo>
                  <a:pt x="0" y="226729"/>
                  <a:pt x="225663" y="0"/>
                  <a:pt x="504032" y="0"/>
                </a:cubicBezTo>
                <a:cubicBezTo>
                  <a:pt x="782401" y="0"/>
                  <a:pt x="1008064" y="226729"/>
                  <a:pt x="1008064" y="506413"/>
                </a:cubicBezTo>
                <a:cubicBezTo>
                  <a:pt x="1008064" y="786097"/>
                  <a:pt x="782401" y="1012826"/>
                  <a:pt x="504032" y="1012826"/>
                </a:cubicBezTo>
                <a:cubicBezTo>
                  <a:pt x="225663" y="1012826"/>
                  <a:pt x="0" y="786097"/>
                  <a:pt x="0" y="506413"/>
                </a:cubicBezTo>
                <a:close/>
                <a:moveTo>
                  <a:pt x="781361" y="656960"/>
                </a:moveTo>
                <a:cubicBezTo>
                  <a:pt x="847020" y="534171"/>
                  <a:pt x="825427" y="382581"/>
                  <a:pt x="728143" y="283354"/>
                </a:cubicBezTo>
                <a:cubicBezTo>
                  <a:pt x="629727" y="182972"/>
                  <a:pt x="477356" y="160103"/>
                  <a:pt x="354174" y="227225"/>
                </a:cubicBezTo>
                <a:lnTo>
                  <a:pt x="781361" y="656960"/>
                </a:lnTo>
                <a:close/>
                <a:moveTo>
                  <a:pt x="226702" y="355865"/>
                </a:moveTo>
                <a:cubicBezTo>
                  <a:pt x="161043" y="478654"/>
                  <a:pt x="182636" y="630244"/>
                  <a:pt x="279920" y="729471"/>
                </a:cubicBezTo>
                <a:cubicBezTo>
                  <a:pt x="378336" y="829853"/>
                  <a:pt x="530707" y="852722"/>
                  <a:pt x="653889" y="785600"/>
                </a:cubicBezTo>
                <a:lnTo>
                  <a:pt x="226702" y="35586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Verbodssymbool 13"/>
          <p:cNvSpPr/>
          <p:nvPr/>
        </p:nvSpPr>
        <p:spPr>
          <a:xfrm>
            <a:off x="7981920" y="48690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228600"/>
                </a:moveTo>
                <a:cubicBezTo>
                  <a:pt x="0" y="102348"/>
                  <a:pt x="102348" y="0"/>
                  <a:pt x="228600" y="0"/>
                </a:cubicBezTo>
                <a:cubicBezTo>
                  <a:pt x="354852" y="0"/>
                  <a:pt x="457200" y="102348"/>
                  <a:pt x="457200" y="228600"/>
                </a:cubicBezTo>
                <a:cubicBezTo>
                  <a:pt x="457200" y="354852"/>
                  <a:pt x="354852" y="457200"/>
                  <a:pt x="228600" y="457200"/>
                </a:cubicBezTo>
                <a:cubicBezTo>
                  <a:pt x="102348" y="457200"/>
                  <a:pt x="0" y="354852"/>
                  <a:pt x="0" y="228600"/>
                </a:cubicBezTo>
                <a:close/>
                <a:moveTo>
                  <a:pt x="354397" y="296337"/>
                </a:moveTo>
                <a:cubicBezTo>
                  <a:pt x="384310" y="240784"/>
                  <a:pt x="374242" y="172187"/>
                  <a:pt x="329628" y="127572"/>
                </a:cubicBezTo>
                <a:cubicBezTo>
                  <a:pt x="285013" y="82957"/>
                  <a:pt x="216416" y="72889"/>
                  <a:pt x="160863" y="102803"/>
                </a:cubicBezTo>
                <a:lnTo>
                  <a:pt x="354397" y="296337"/>
                </a:lnTo>
                <a:close/>
                <a:moveTo>
                  <a:pt x="102803" y="160863"/>
                </a:moveTo>
                <a:cubicBezTo>
                  <a:pt x="72890" y="216416"/>
                  <a:pt x="82958" y="285013"/>
                  <a:pt x="127572" y="329628"/>
                </a:cubicBezTo>
                <a:cubicBezTo>
                  <a:pt x="172187" y="374243"/>
                  <a:pt x="240784" y="384311"/>
                  <a:pt x="296337" y="354397"/>
                </a:cubicBezTo>
                <a:lnTo>
                  <a:pt x="102803" y="160863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nl-NL" sz="3000" spc="-1" strike="noStrike">
                <a:solidFill>
                  <a:srgbClr val="ff0000"/>
                </a:solidFill>
                <a:latin typeface="Calibri"/>
              </a:rPr>
              <a:t>Wat is de persoonsvorm in de zin?</a:t>
            </a:r>
            <a:br>
              <a:rPr sz="3000"/>
            </a:br>
            <a:r>
              <a:rPr b="0" lang="nl-NL" sz="4400" spc="-1" strike="noStrike">
                <a:solidFill>
                  <a:srgbClr val="ffffff"/>
                </a:solidFill>
                <a:latin typeface="Calibri Ligh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Mijn moeder bakt een taart voor mijn verjaarda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pv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De taart is met roosjes versier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pv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Die taart gaan we met z’n allen opete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pv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kstvak 5"/>
          <p:cNvSpPr/>
          <p:nvPr/>
        </p:nvSpPr>
        <p:spPr>
          <a:xfrm>
            <a:off x="1252080" y="250668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b050"/>
                </a:solidFill>
                <a:latin typeface="Calibri"/>
              </a:rPr>
              <a:t>ba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1251000" y="3906720"/>
            <a:ext cx="4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b050"/>
                </a:solidFill>
                <a:latin typeface="Calibri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kstvak 11"/>
          <p:cNvSpPr/>
          <p:nvPr/>
        </p:nvSpPr>
        <p:spPr>
          <a:xfrm>
            <a:off x="1206360" y="531504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b050"/>
                </a:solidFill>
                <a:latin typeface="Calibri"/>
              </a:rPr>
              <a:t>g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24:49Z</dcterms:created>
  <dc:creator>Raoul</dc:creator>
  <dc:description/>
  <dc:language>en-US</dc:language>
  <cp:lastModifiedBy>Beheerder</cp:lastModifiedBy>
  <dcterms:modified xsi:type="dcterms:W3CDTF">2016-09-08T12:05:19Z</dcterms:modified>
  <cp:revision>37</cp:revision>
  <dc:subject/>
  <dc:title>PowerPoint-presentatie</dc:title>
</cp:coreProperties>
</file>