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358C-08DA-4016-9D9A-74854057C6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FA5D-E921-457E-8F27-678975E9DDF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E364-991B-452C-A8C2-84702694CE7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B31A-3849-4496-95C0-9082EE20E3D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1FC2-EC54-4810-8924-FA34531CD53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FA8A-A67A-48D5-806F-8AC8B90FBA9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9E50-8715-4C7B-B30C-FEF286DD39B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84B4-23F4-4DFF-AA06-BD4C97F2685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F90-373B-4AFD-8AAA-E7F6ED56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789-EC78-4D09-8F06-9319E7F7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C14-1291-4178-B126-711F80F4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5E1-7E1F-4E49-B40E-A6ABF1CB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B452-C412-44F6-963A-60B3E24C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A4CA-A4BD-4159-97C0-DCACA1FB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C0E9-C6A3-40D5-8F70-5D72A052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2402-3055-42A5-91F0-323E4D9B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E9A3-8AD6-4427-A6D9-F073CC84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CD86-0C75-4C59-95FB-BF1FD188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80BD-A57D-47B8-9070-A2AAC3CD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5FB-88D3-4054-B1AC-27E4741F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B264-7AB0-4BDC-ADB0-CCC958E0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A0A3-6709-4AE7-B44E-F8B3490D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B758-A47D-4963-9AAA-69DCA2AE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CE09-F2E2-4CD8-B9C9-C1931355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93B6-3B88-4853-9625-8177E6C2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28CB-9363-460A-8E69-BF18AA07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649D-B54C-4D8C-B4EB-56970B2B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6318D-FA9C-4052-AC86-E3797E2E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C2890-37B2-4017-80E9-DB0EA0C4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B5A10-C643-49C6-9FA4-B65C685A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504-7A7E-4806-9933-CFFEEC0C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3122-7875-4E2C-9C81-B359C039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65B0-BF65-4B01-855C-33FA9E16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19ACA-D6A3-4118-B22C-9317C37F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99A78-435E-446B-B511-A563E2D5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8008E-1B2C-4395-B929-830CD102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1EED-0C68-4C18-B1EE-6BEBA316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4F77D-161E-46F2-93D2-7C1A3435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1CE58-72F6-4FE7-BAB9-CB0651AB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471BE-3DDA-40A0-BAB0-FC01E097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BF8AE-98A7-42BE-8969-1C4AB37B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346-0899-49C9-B978-A8AA3D66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60000-65DC-4660-8E8D-F4135E47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0518C-ECB4-4B66-8FDF-53D57742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FA257-5317-446D-84FA-E8E07B3E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726E4-E0E9-4CC8-BD49-9E75839B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23F15-DD79-4919-A452-49D21FBA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6CCB0-584C-4BC0-8C65-6B204408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43511-1738-4D76-A846-5AB38BDB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9445-C429-4F28-BEA8-C02F8B0A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8B60-B725-41D6-9E8E-8062C6AD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915-C7E4-447A-8B93-894C0CCC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B7B-3DB6-4651-B484-423C61D5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434-58FA-4DFD-9DD0-BE627AD7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67F-15CD-48D7-B7DA-86D2F30D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8EA-FCF2-4BA6-B37A-BDFD129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4306-885C-4B98-A761-9F71183F4774}" type="slidenum">
              <a:rPr b="0" lang="nl-NL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4C9C-45C4-4093-BCE7-31FA725C232B}" type="slidenum">
              <a:rPr b="0" lang="nl-NL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B7BD-042F-4EBC-BEAA-F6EAB6D17EBF}" type="slidenum">
              <a:rPr b="0" lang="nl-NL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B1CE-CD93-4358-BF6A-5F5BD6656DB9}" type="slidenum">
              <a:rPr b="0" lang="nl-NL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ebeb"/>
                </a:solidFill>
                <a:latin typeface="Calibri"/>
              </a:rPr>
              <a:t>Hoofdstuk 1</a:t>
            </a:r>
            <a:br>
              <a:rPr sz="3600"/>
            </a:br>
            <a:r>
              <a:rPr b="0" lang="nl-NL" sz="4000" spc="-1" strike="noStrike">
                <a:solidFill>
                  <a:srgbClr val="ebebeb"/>
                </a:solidFill>
                <a:latin typeface="Calibri"/>
              </a:rPr>
              <a:t>Grammatica zinsdelen</a:t>
            </a:r>
            <a:br>
              <a:rPr sz="4000"/>
            </a:b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1e5155"/>
                </a:solidFill>
                <a:latin typeface="Calibri"/>
              </a:rPr>
              <a:t>ZINSDEL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ebebeb"/>
                </a:solidFill>
                <a:latin typeface="Calibri"/>
              </a:rPr>
              <a:t>Hoe weet ik wat een zinsdeel is?</a:t>
            </a:r>
            <a:endParaRPr b="0" lang="en-US" sz="3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6676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alibri"/>
                <a:ea typeface="Calibri"/>
              </a:rPr>
              <a:t>Zoek eerst de persoonsvorm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alibri"/>
                <a:ea typeface="Calibri"/>
              </a:rPr>
              <a:t>Alles wat voor de persoonsvorm staat of voor de persoonsvorm gezet kan worden, is een zinsdeel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alibri"/>
                <a:ea typeface="Calibri"/>
              </a:rPr>
              <a:t>Verander de volgorde van de zi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  <a:ea typeface="Calibri"/>
              </a:rPr>
              <a:t>Let op! 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Calibri"/>
                <a:ea typeface="Calibri"/>
              </a:rPr>
              <a:t>Het moet wel een goede zin blijven</a:t>
            </a: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ebebeb"/>
                </a:solidFill>
                <a:latin typeface="Calibri"/>
              </a:rPr>
              <a:t>Wat zijn de zinsdelen?</a:t>
            </a:r>
            <a:endParaRPr b="0" lang="en-US" sz="3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6676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Stap 1: Zoek de persoonsvorm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oorbeeld</a:t>
            </a: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: </a:t>
            </a: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Op het strand van Zandvoort is in de nacht van </a:t>
            </a:r>
            <a:br>
              <a:rPr sz="1800"/>
            </a:b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vrijdag op zaterdag een auto aangespoeld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Zin in een andere tijd: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Op het strand van Zandvoort </a:t>
            </a:r>
            <a:r>
              <a:rPr b="0" i="1" lang="nl-NL" sz="1800" spc="-1" strike="noStrike">
                <a:solidFill>
                  <a:srgbClr val="ff0000"/>
                </a:solidFill>
                <a:latin typeface="Calibri"/>
              </a:rPr>
              <a:t>was (pv) 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in de nacht van 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vrijdag op zaterdag een auto aangespoeld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Zin vragend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1800" spc="-1" strike="noStrike">
                <a:solidFill>
                  <a:srgbClr val="ff0000"/>
                </a:solidFill>
                <a:latin typeface="Calibri"/>
              </a:rPr>
              <a:t>Is (pv) 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in de nacht van vrijdag op zaterdag een auto op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het strand van Zandvoort aangespoeld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ebebeb"/>
                </a:solidFill>
                <a:latin typeface="Calibri"/>
              </a:rPr>
              <a:t>Wat zijn de zinsdelen?</a:t>
            </a:r>
            <a:endParaRPr b="0" lang="en-US" sz="3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6676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  <a:ea typeface="Calibri"/>
              </a:rPr>
              <a:t>Stap 2: Verander de volgorde van de zi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Op het strand van Zandvoort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i="1" lang="nl-NL" sz="1800" spc="-1" strike="noStrike">
                <a:solidFill>
                  <a:srgbClr val="ff0000"/>
                </a:solidFill>
                <a:latin typeface="Calibri"/>
                <a:ea typeface="Calibri"/>
              </a:rPr>
              <a:t>is (pv) 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  <a:ea typeface="Calibri"/>
              </a:rPr>
              <a:t>in de nacht van vrijdag op zaterdag een auto aangespoeld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In de nacht van vrijdag op zaterdag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i="1" lang="nl-NL" sz="1800" spc="-1" strike="noStrike">
                <a:solidFill>
                  <a:srgbClr val="ff0000"/>
                </a:solidFill>
                <a:latin typeface="Calibri"/>
                <a:ea typeface="Calibri"/>
              </a:rPr>
              <a:t>is (pv) 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  <a:ea typeface="Calibri"/>
              </a:rPr>
              <a:t>op het strand van Zandvoort een auto aangespoeld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Een auto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i="1" lang="nl-NL" sz="1800" spc="-1" strike="noStrike">
                <a:solidFill>
                  <a:srgbClr val="ff0000"/>
                </a:solidFill>
                <a:latin typeface="Calibri"/>
                <a:ea typeface="Calibri"/>
              </a:rPr>
              <a:t>is (pv</a:t>
            </a:r>
            <a:r>
              <a:rPr b="0" i="1" lang="nl-NL" sz="1800" spc="-1" strike="noStrike">
                <a:solidFill>
                  <a:srgbClr val="0070c0"/>
                </a:solidFill>
                <a:latin typeface="Calibri"/>
                <a:ea typeface="Calibri"/>
              </a:rPr>
              <a:t>)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  <a:ea typeface="Calibri"/>
              </a:rPr>
              <a:t> in de nacht van vrijdag op zaterdag op het strand van Zandvoort aangespoeld</a:t>
            </a:r>
            <a:r>
              <a:rPr b="0" i="1" lang="nl-NL" sz="1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ebebeb"/>
                </a:solidFill>
                <a:latin typeface="Calibri"/>
              </a:rPr>
              <a:t>Wat zijn de zinsdelen?</a:t>
            </a:r>
            <a:endParaRPr b="0" lang="en-US" sz="3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1920" y="159984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  <a:ea typeface="Calibri"/>
              </a:rPr>
              <a:t>Stap 3: Zet streepjes tussen de zinsdele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  <a:ea typeface="Calibri"/>
              </a:rPr>
              <a:t>Op het strand van Zandvoort is in de nacht van vrijdag op zaterdag een auto aangespoeld.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Rechte verbindingslijn 5"/>
          <p:cNvSpPr/>
          <p:nvPr/>
        </p:nvSpPr>
        <p:spPr>
          <a:xfrm flipH="1">
            <a:off x="6858000" y="2868480"/>
            <a:ext cx="76320" cy="30492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hte verbindingslijn 7"/>
          <p:cNvSpPr/>
          <p:nvPr/>
        </p:nvSpPr>
        <p:spPr>
          <a:xfrm flipH="1">
            <a:off x="3333600" y="2895480"/>
            <a:ext cx="76320" cy="30492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hte verbindingslijn 8"/>
          <p:cNvSpPr/>
          <p:nvPr/>
        </p:nvSpPr>
        <p:spPr>
          <a:xfrm flipH="1">
            <a:off x="3504960" y="2876400"/>
            <a:ext cx="75960" cy="30492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hte verbindingslijn 16"/>
          <p:cNvSpPr/>
          <p:nvPr/>
        </p:nvSpPr>
        <p:spPr>
          <a:xfrm flipH="1">
            <a:off x="7734240" y="2855880"/>
            <a:ext cx="76320" cy="30492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ebebeb"/>
                </a:solidFill>
                <a:latin typeface="Calibri"/>
              </a:rPr>
              <a:t>Wat is de persoonsvorm (pv)?</a:t>
            </a:r>
            <a:endParaRPr b="0" lang="en-US" sz="3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6676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Door snoepreclames krijg ik veel zin in snoep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Zin in een andere tijd: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Door snoepreclames </a:t>
            </a:r>
            <a:r>
              <a:rPr b="0" i="1" lang="nl-NL" sz="1800" spc="-1" strike="noStrike">
                <a:solidFill>
                  <a:srgbClr val="0070c0"/>
                </a:solidFill>
                <a:latin typeface="Calibri"/>
              </a:rPr>
              <a:t>kreeg (pv)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 ik veel zin in snoe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Zin vragend: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1800" spc="-1" strike="noStrike">
                <a:solidFill>
                  <a:srgbClr val="0070c0"/>
                </a:solidFill>
                <a:latin typeface="Calibri"/>
              </a:rPr>
              <a:t>Krijg (pv)</a:t>
            </a:r>
            <a:r>
              <a:rPr b="0" i="1" lang="nl-NL" sz="1800" spc="-1" strike="noStrike">
                <a:solidFill>
                  <a:srgbClr val="ffffff"/>
                </a:solidFill>
                <a:latin typeface="Calibri"/>
              </a:rPr>
              <a:t> ik door snoepreclames  veel zin in snoep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ebebeb"/>
                </a:solidFill>
                <a:latin typeface="Calibri"/>
              </a:rPr>
              <a:t>Verander de volgorde van de zin zo veel mogelijk</a:t>
            </a:r>
            <a:endParaRPr b="0" lang="en-US" sz="3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6676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  <a:ea typeface="Calibri"/>
              </a:rPr>
              <a:t>Door snoepreclames </a:t>
            </a:r>
            <a:r>
              <a:rPr b="0" i="1" lang="nl-NL" sz="2400" spc="-1" strike="noStrike">
                <a:solidFill>
                  <a:srgbClr val="0070c0"/>
                </a:solidFill>
                <a:latin typeface="Calibri"/>
                <a:ea typeface="Calibri"/>
              </a:rPr>
              <a:t>krijg </a:t>
            </a:r>
            <a:r>
              <a:rPr b="0" i="1" lang="nl-NL" sz="2400" spc="-1" strike="noStrike">
                <a:solidFill>
                  <a:srgbClr val="ffffff"/>
                </a:solidFill>
                <a:latin typeface="Calibri"/>
                <a:ea typeface="Calibri"/>
              </a:rPr>
              <a:t>ik veel zin in snoep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  <a:ea typeface="Calibri"/>
              </a:rPr>
              <a:t>Ik </a:t>
            </a:r>
            <a:r>
              <a:rPr b="0" i="1" lang="nl-NL" sz="2400" spc="-1" strike="noStrike">
                <a:solidFill>
                  <a:srgbClr val="0070c0"/>
                </a:solidFill>
                <a:latin typeface="Calibri"/>
                <a:ea typeface="Calibri"/>
              </a:rPr>
              <a:t>krijg </a:t>
            </a:r>
            <a:r>
              <a:rPr b="0" i="1" lang="nl-NL" sz="2400" spc="-1" strike="noStrike">
                <a:solidFill>
                  <a:srgbClr val="ffffff"/>
                </a:solidFill>
                <a:latin typeface="Calibri"/>
                <a:ea typeface="Calibri"/>
              </a:rPr>
              <a:t>veel zin in snoep door snoepreclam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  <a:ea typeface="Calibri"/>
              </a:rPr>
              <a:t>Veel zin </a:t>
            </a:r>
            <a:r>
              <a:rPr b="0" i="1" lang="nl-NL" sz="2400" spc="-1" strike="noStrike">
                <a:solidFill>
                  <a:srgbClr val="0070c0"/>
                </a:solidFill>
                <a:latin typeface="Calibri"/>
                <a:ea typeface="Calibri"/>
              </a:rPr>
              <a:t>krijg </a:t>
            </a:r>
            <a:r>
              <a:rPr b="0" i="1" lang="nl-NL" sz="2400" spc="-1" strike="noStrike">
                <a:solidFill>
                  <a:srgbClr val="ffffff"/>
                </a:solidFill>
                <a:latin typeface="Calibri"/>
                <a:ea typeface="Calibri"/>
              </a:rPr>
              <a:t>ik in snoep door snoepreclam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  <a:ea typeface="Calibri"/>
              </a:rPr>
              <a:t>In snoep </a:t>
            </a:r>
            <a:r>
              <a:rPr b="0" i="1" lang="nl-NL" sz="2400" spc="-1" strike="noStrike">
                <a:solidFill>
                  <a:srgbClr val="0070c0"/>
                </a:solidFill>
                <a:latin typeface="Calibri"/>
                <a:ea typeface="Calibri"/>
              </a:rPr>
              <a:t>krijg </a:t>
            </a:r>
            <a:r>
              <a:rPr b="0" i="1" lang="nl-NL" sz="2400" spc="-1" strike="noStrike">
                <a:solidFill>
                  <a:srgbClr val="ffffff"/>
                </a:solidFill>
                <a:latin typeface="Calibri"/>
                <a:ea typeface="Calibri"/>
              </a:rPr>
              <a:t>ik veel zin door snoepreclam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ebebeb"/>
                </a:solidFill>
                <a:latin typeface="Calibri"/>
              </a:rPr>
              <a:t>Zet streepjes tussen de zinsdelen</a:t>
            </a:r>
            <a:endParaRPr b="0" lang="en-US" sz="3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6676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Calibri"/>
                <a:ea typeface="Calibri"/>
              </a:rPr>
              <a:t>Door snoepreclames krijg ik veel zin in snoep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1" name="Picture 2" descr="C:\Users\Bur\Desktop\Noordhoff\ICT\KMF00915.jpg"/>
          <p:cNvPicPr/>
          <p:nvPr/>
        </p:nvPicPr>
        <p:blipFill>
          <a:blip r:embed="rId1"/>
          <a:stretch/>
        </p:blipFill>
        <p:spPr>
          <a:xfrm>
            <a:off x="3262320" y="3048120"/>
            <a:ext cx="2286000" cy="3051000"/>
          </a:xfrm>
          <a:prstGeom prst="rect">
            <a:avLst/>
          </a:prstGeom>
          <a:ln w="0">
            <a:noFill/>
          </a:ln>
        </p:spPr>
      </p:pic>
      <p:sp>
        <p:nvSpPr>
          <p:cNvPr id="262" name="Rechte verbindingslijn 6"/>
          <p:cNvSpPr/>
          <p:nvPr/>
        </p:nvSpPr>
        <p:spPr>
          <a:xfrm flipV="1">
            <a:off x="3776760" y="2590560"/>
            <a:ext cx="75960" cy="2286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hte verbindingslijn 7"/>
          <p:cNvSpPr/>
          <p:nvPr/>
        </p:nvSpPr>
        <p:spPr>
          <a:xfrm flipV="1">
            <a:off x="4419720" y="2585520"/>
            <a:ext cx="75960" cy="2286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hte verbindingslijn 13"/>
          <p:cNvSpPr/>
          <p:nvPr/>
        </p:nvSpPr>
        <p:spPr>
          <a:xfrm flipV="1">
            <a:off x="4700520" y="2584080"/>
            <a:ext cx="76320" cy="2286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hte verbindingslijn 14"/>
          <p:cNvSpPr/>
          <p:nvPr/>
        </p:nvSpPr>
        <p:spPr>
          <a:xfrm flipV="1">
            <a:off x="5649840" y="2585520"/>
            <a:ext cx="76320" cy="2286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kstvak 6"/>
          <p:cNvSpPr/>
          <p:nvPr/>
        </p:nvSpPr>
        <p:spPr>
          <a:xfrm>
            <a:off x="425520" y="6477120"/>
            <a:ext cx="8064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sther</dc:creator>
  <dc:description/>
  <dc:language>en-US</dc:language>
  <cp:lastModifiedBy>Beheerder</cp:lastModifiedBy>
  <dcterms:modified xsi:type="dcterms:W3CDTF">2016-09-08T12:41:19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