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63F-E171-4F17-9923-00EAE948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9FB-3151-4693-89D0-8B9D6F91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F3E-C6FB-4191-9650-C768F6CD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B62-C6C5-4FA7-9294-1EB4D65A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D625-3458-4342-A999-114DD084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ACF8-18BA-4C4A-A864-FFE06287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BF66-CDCA-4F27-A02F-B3B3C449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E079-A79B-4F1B-B13C-77D4E27A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7E9-1BD5-4B2F-A78D-FA874E08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2940-2EC2-4677-927B-A4878494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5D9D-E62F-4CC4-977D-2D73D88F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A94-BEF6-4994-B846-853981F6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8DA-7F69-4955-8933-3516A27F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7B41-7175-49F2-A8D0-CDB1699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E716-76C4-47CC-AD59-7E950353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9DED-C1F2-4850-918C-A80358F5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8730-E6EF-4A2F-A63F-A17100C4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878-8D94-4A75-856B-FB4A0D3D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775-72AE-4899-ADB2-29B730C4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54E-154D-4068-BB35-12CD9B4E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C64-F610-4567-B4BE-C405647F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3D6-AC63-46BF-B597-76DF6CF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A8F-8323-4436-AF98-9574686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168-3505-4D7B-B2AF-05B748D7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A0CD-857F-4A32-BDA3-D6059233B0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F009-1F6B-422F-94F0-5C42604B3FA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a chanté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019920" y="4952880"/>
            <a:ext cx="1828800" cy="186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werkwoorden hebben vaak een onregelmatig voltooid deelwoor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AutoShape 15"/>
          <p:cNvCxnSpPr>
            <a:stCxn id="173" idx="3"/>
            <a:endCxn id="172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9" name="AutoShape 19"/>
          <p:cNvCxnSpPr>
            <a:endCxn id="173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0" name="AutoShape 21"/>
          <p:cNvCxnSpPr>
            <a:stCxn id="173" idx="3"/>
            <a:endCxn id="173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1" name="AutoShape 24"/>
          <p:cNvCxnSpPr>
            <a:stCxn id="172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9"/>
          <p:cNvCxnSpPr>
            <a:stCxn id="172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84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n dit hoofdstuk krijg je alleen werkwoorden die het hulpwerkwoord avoir hebb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ontkenning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Tekstvak 2"/>
          <p:cNvSpPr/>
          <p:nvPr/>
        </p:nvSpPr>
        <p:spPr>
          <a:xfrm>
            <a:off x="1908000" y="2637000"/>
            <a:ext cx="56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een ontkenning staat deze om het hulpwerkwoord(avo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n’ai pas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zinsopbou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kstvak 2"/>
          <p:cNvSpPr/>
          <p:nvPr/>
        </p:nvSpPr>
        <p:spPr>
          <a:xfrm>
            <a:off x="2411280" y="2708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gorde in een Franse zin is anders dan in het Neder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het Frans staan de persoonsvorm en het voltooid deelwoord bij elka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k heb een film gekek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regardé un fil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chante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2-06T19:53:07Z</dcterms:modified>
  <cp:revision>28</cp:revision>
  <dc:subject/>
  <dc:title>De PASSÉ COMPOSÉ</dc:title>
</cp:coreProperties>
</file>