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46D2-9835-48FD-8DC0-079F9223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A1D8-ADB5-44EA-9815-EB1DEE7B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3E75-05CD-43A4-B8CA-B66FD25B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807-6150-4657-940D-7E95C070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C94A-6087-4E81-893F-09F5BDF1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7747-313E-47C3-B09E-6BB8935B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D557-925F-4A88-882B-4838B8E1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54B4-3930-4CA9-BAB0-AAA7DF40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FDAC-AF34-42EE-9C3D-BB6FD8EC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107A-300D-4F40-8118-FA56C7C1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E980-BD94-4F02-BBDD-906C3C51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C30-C50B-47D2-81F5-FCCA35B0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C41D-24CB-4066-A1E8-8BC7C46F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7AD2-B860-4633-98E6-8DDA3779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9DBB-E147-4801-A7D8-E001C436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E6EF-A2DD-47B6-A3AB-60B9DEC0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2A4B-7669-4125-B8D3-828D11E5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363-4F5C-4C46-8BAC-FB38BD37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7458-E505-431C-9664-0FBF3CB5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7E7-8465-4C6A-93F0-582C2F50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5D7-715F-450F-A9D9-91A43024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C78-F288-4BBB-B334-AA48FF78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0434-2A0D-4BD8-BE2A-26A48A87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3639-71EC-4D18-9C78-3C6C7D35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5369-1CBF-4485-BA67-95EC6FB3760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ECB0-8D04-4421-9892-D1A07E2FFC7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a fille a chanté une chan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6019920" y="4952880"/>
            <a:ext cx="1828800" cy="1864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werkwoorden hebben vaak een onregelmatig voltooid deelwoor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8" name="AutoShape 15"/>
          <p:cNvCxnSpPr>
            <a:stCxn id="173" idx="3"/>
            <a:endCxn id="172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79" name="AutoShape 19"/>
          <p:cNvCxnSpPr>
            <a:endCxn id="173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0" name="AutoShape 21"/>
          <p:cNvCxnSpPr>
            <a:stCxn id="173" idx="3"/>
            <a:endCxn id="173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1" name="AutoShape 24"/>
          <p:cNvCxnSpPr>
            <a:stCxn id="172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3" name="AutoShape 29"/>
          <p:cNvCxnSpPr>
            <a:stCxn id="172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84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n dit hoofdstuk krijg je alleen werkwoorden die het hulpwerkwoord avoir hebb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          </a:t>
            </a: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ontkenning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Tekstvak 2"/>
          <p:cNvSpPr/>
          <p:nvPr/>
        </p:nvSpPr>
        <p:spPr>
          <a:xfrm>
            <a:off x="1908000" y="2637000"/>
            <a:ext cx="56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een ontkenning staat deze om het hulpwerkwoord(avoi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n’ai pas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          </a:t>
            </a: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zinsopbouw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kstvak 2"/>
          <p:cNvSpPr/>
          <p:nvPr/>
        </p:nvSpPr>
        <p:spPr>
          <a:xfrm>
            <a:off x="2411280" y="2708280"/>
            <a:ext cx="57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gorde in een Franse zin is anders dan in het Nederl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 het Frans staan de persoonsvorm en het voltooid deelwoord bij elka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k heb een film gekek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regardé un fil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a fille chante une chan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2-06T19:53:07Z</dcterms:modified>
  <cp:revision>28</cp:revision>
  <dc:subject/>
  <dc:title>De PASSÉ COMPOSÉ</dc:title>
</cp:coreProperties>
</file>