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528-C203-4BB3-84BD-A809D27A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88A-9E7C-425C-B87A-38ECB22C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CD9-0AD8-41A5-824C-CD34F61F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8F8-8C3B-41B1-A1A6-AD4C3FAE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F2BC-5755-4BCC-AD23-FEA2E69E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291A-5E55-4C26-8730-8CBD3051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3909-0D54-4A77-8AB0-4309D54C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FE32-2883-4380-9A2D-D05B92F7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3A2C-07AB-4EE6-AB98-57166430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116F-9597-45FC-BD73-2B6D547D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E2FF-713B-4093-B75D-DB2B9BD3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105A-60D6-4691-A4D4-1A837BCF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AC94-5D77-4268-8A93-906AB51D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E8C0-B054-41EE-941E-1C4D9A82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5B07-A84D-41C7-BCD9-CF67183C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2F58-9181-4082-A109-D2FEF9D4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6494-25F3-437E-9F54-09B412BC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6A0-F515-40B2-B520-8DA47FEA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811-313C-4101-B290-24AD1543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310-899A-47DB-9CD5-F6048610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CB6-E28F-4D80-BE54-11C9D71B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989-F1AB-4A90-8D3E-A569297A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8FB-A58B-444F-9770-EB158473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501-B8AD-42AE-A7C1-845DE2D1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7DFE-9389-4969-B90B-7BC16F6D1D6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5B85-24A6-49E5-B898-649C175CEC6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 fille a chanté une chan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019920" y="4952880"/>
            <a:ext cx="1828800" cy="1864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werkwoorden hebben vaak een onregelmatig voltooid deelwoor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8" name="AutoShape 15"/>
          <p:cNvCxnSpPr>
            <a:stCxn id="173" idx="3"/>
            <a:endCxn id="172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9" name="AutoShape 19"/>
          <p:cNvCxnSpPr>
            <a:endCxn id="173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0" name="AutoShape 21"/>
          <p:cNvCxnSpPr>
            <a:stCxn id="173" idx="3"/>
            <a:endCxn id="173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1" name="AutoShape 24"/>
          <p:cNvCxnSpPr>
            <a:stCxn id="172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9"/>
          <p:cNvCxnSpPr>
            <a:stCxn id="172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84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n dit hoofdstuk krijg je alleen werkwoorden die het hulpwerkwoord avoir hebb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ontkenning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Tekstvak 2"/>
          <p:cNvSpPr/>
          <p:nvPr/>
        </p:nvSpPr>
        <p:spPr>
          <a:xfrm>
            <a:off x="1908000" y="2637000"/>
            <a:ext cx="56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een ontkenning staat deze om het hulpwerkwoord(avoi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n’ai pas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zinsopbou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kstvak 2"/>
          <p:cNvSpPr/>
          <p:nvPr/>
        </p:nvSpPr>
        <p:spPr>
          <a:xfrm>
            <a:off x="2411280" y="270828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gorde in een Franse zin is anders dan in het Nederl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het Frans staan de persoonsvorm en het voltooid deelwoord bij elka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k heb een film gekek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regardé un fil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 fille chante une chan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2-06T19:53:07Z</dcterms:modified>
  <cp:revision>28</cp:revision>
  <dc:subject/>
  <dc:title>De PASSÉ COMPOSÉ</dc:title>
</cp:coreProperties>
</file>