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729-DF26-45D2-A89F-D4A61508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5F1-BE69-41B9-87E1-3CFF1689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A88-3195-42F7-973C-443554BB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A8B-6981-412A-A6F2-856A44AE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C159-AC3A-4623-95D8-FDB6A0E2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EFA7-C640-4FEF-BDFB-26EA518B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BBCD-1815-41B4-897B-BC8620D6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17BB-A054-4E45-96EA-4E68C372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64E0-62FF-4B21-8479-5E5EE5AA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35EB-7662-43C6-A9F5-4DD8CEC0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68DC-50E2-4A6F-8663-978A927F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112-AED7-49E9-B77E-A776C3FD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6A85-D9F1-4EF1-A6A3-5FD251F5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3712-BE90-40DC-9A3B-77F54BB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747F-1045-48D9-B280-42E7D884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5479-2EEE-4DA1-B9E9-716C23AF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51BE-F2C6-419A-BDA7-6F441208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323-194F-4B7F-B077-17834552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132-47AF-43E6-A84B-F68AAB95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972-A6AF-4025-85BB-9693D558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BA1-C64C-4BDF-A1B7-C6EA9434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7B8-11E0-4C7A-A822-19FFAF89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AD5-4072-4154-814D-9E78B87E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7F9-0055-420F-A26D-B03DD872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021C-B47A-4329-A119-936E49F1216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3FA0-4E3E-4A11-BF0C-8AA64381F44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 fille a chanté une chan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019920" y="4952880"/>
            <a:ext cx="1828800" cy="186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werkwoorden hebben vaak een onregelmatig voltooid deelwoor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8" name="AutoShape 15"/>
          <p:cNvCxnSpPr>
            <a:stCxn id="173" idx="3"/>
            <a:endCxn id="172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9" name="AutoShape 19"/>
          <p:cNvCxnSpPr>
            <a:endCxn id="173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0" name="AutoShape 21"/>
          <p:cNvCxnSpPr>
            <a:stCxn id="173" idx="3"/>
            <a:endCxn id="173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1" name="AutoShape 24"/>
          <p:cNvCxnSpPr>
            <a:stCxn id="172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9"/>
          <p:cNvCxnSpPr>
            <a:stCxn id="172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84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n dit hoofdstuk krijg je alleen werkwoorden die het hulpwerkwoord avoir hebb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ontkenning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Tekstvak 2"/>
          <p:cNvSpPr/>
          <p:nvPr/>
        </p:nvSpPr>
        <p:spPr>
          <a:xfrm>
            <a:off x="1908000" y="2637000"/>
            <a:ext cx="56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een ontkenning staat deze om het hulpwerkwoord(avoi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n’ai pas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zinsopbou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kstvak 2"/>
          <p:cNvSpPr/>
          <p:nvPr/>
        </p:nvSpPr>
        <p:spPr>
          <a:xfrm>
            <a:off x="2411280" y="27082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gorde in een Franse zin is anders dan in het Nederl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het Frans staan de persoonsvorm en het voltooid deelwoord bij elka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k heb een film gekek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regardé un fil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 fille chante une chan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2-06T19:53:07Z</dcterms:modified>
  <cp:revision>28</cp:revision>
  <dc:subject/>
  <dc:title>De PASSÉ COMPOSÉ</dc:title>
</cp:coreProperties>
</file>