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E52-7A90-4412-8B4B-577111D6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CC6-D9A2-45D4-BB4E-A356C5BF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E93-F485-426A-B089-3D0285CD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AA8-2BE4-49CE-87A6-77F834DB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EEB4-1E00-4A91-8D6A-4A84CF6E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9883-5C9E-4BF1-B0D4-330E2450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5AA0-ED1A-4C73-B1ED-75483397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49FF-A396-497F-80B7-1CC31E58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10C6-E6CC-4DCD-B279-178DF85C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8240-7A60-4D5F-8ADE-A39C00C4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1137-9576-4772-B480-CD08F4B4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4C7-8641-4B78-BDFC-FFFF3C6D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006E-3FEA-4D40-8233-69A07ABC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73C3-7DD3-4041-9479-866E067F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AC36-4E71-45F2-841A-E79AF16F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265E-E293-444C-A9C6-869DB3A6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BB26-4E5F-4FD4-9F15-AA200B89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D47-C029-429B-8C6B-792367E0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533-2BC3-4260-A347-22CBAA59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904-5182-4EC4-A2F7-B011D8C2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169-D65E-4DE7-94B2-E107433B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9F5-9942-4387-A2DE-B9F3BDFF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386-E68D-4F69-AAA2-B65B55DD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802-0342-497C-82C5-62FAD32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D9AD-736F-4414-A11B-D7469DFFF0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0FAB-1F08-4ABA-9BC4-76F11B0B357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a chanté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019920" y="4952880"/>
            <a:ext cx="1828800" cy="186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werkwoorden hebben vaak een onregelmatig voltooid deelwoor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AutoShape 15"/>
          <p:cNvCxnSpPr>
            <a:stCxn id="173" idx="3"/>
            <a:endCxn id="172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9" name="AutoShape 19"/>
          <p:cNvCxnSpPr>
            <a:endCxn id="173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0" name="AutoShape 21"/>
          <p:cNvCxnSpPr>
            <a:stCxn id="173" idx="3"/>
            <a:endCxn id="173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1" name="AutoShape 24"/>
          <p:cNvCxnSpPr>
            <a:stCxn id="172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9"/>
          <p:cNvCxnSpPr>
            <a:stCxn id="172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84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n dit hoofdstuk krijg je alleen werkwoorden die het hulpwerkwoord avoir hebb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ontkenning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Tekstvak 2"/>
          <p:cNvSpPr/>
          <p:nvPr/>
        </p:nvSpPr>
        <p:spPr>
          <a:xfrm>
            <a:off x="1908000" y="2637000"/>
            <a:ext cx="56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een ontkenning staat deze om het hulpwerkwoord(avoi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n’ai pas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zinsopbou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kstvak 2"/>
          <p:cNvSpPr/>
          <p:nvPr/>
        </p:nvSpPr>
        <p:spPr>
          <a:xfrm>
            <a:off x="2411280" y="27082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gorde in een Franse zin is anders dan in het Nederl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het Frans staan de persoonsvorm en het voltooid deelwoord bij elka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k heb een film gekek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regardé un fil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chante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2-06T19:53:07Z</dcterms:modified>
  <cp:revision>28</cp:revision>
  <dc:subject/>
  <dc:title>De PASSÉ COMPOSÉ</dc:title>
</cp:coreProperties>
</file>