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D8D-EAC8-48A2-A023-8392DD08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7B-3394-43E2-83AE-A9B8BF9B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F17-DE91-4985-88CF-C106FDB7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CC1-DE9C-4CE2-8FEF-AD49A402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1C5E-0A17-46D3-8ACA-A3625A0D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A03A-F3D3-41D1-BA9F-E5C56056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2F76-E959-4DD0-B0B8-2F53470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223F-A548-4BD3-804D-48D51855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382C-C5F9-4110-B3A5-8334FE6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D6B-72EB-4410-8C9F-78E451F0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037-EC44-4DF1-A95B-D69105CF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3FA-86B1-4963-B92D-B065CF7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38B6-0BD9-4017-960C-397B398C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474F-CBA8-4DE2-AA7C-48542E9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406D-D0E8-4ECD-8D61-FDABD003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BE1D-29EA-4392-B9D8-962AC9F1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2167-C484-4FC4-8AFF-C5852A31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054-DA05-4F56-8406-52150D6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A40-93EF-477E-825F-88BDD48C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4CB-7866-4ADB-B3B3-A8BD17FE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EAA-21AF-459F-A5F2-BBD6FFC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BC5-AB9E-4410-9448-7318B50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8E07-C6DA-4BF5-9278-F408BA7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6EA-5D64-4D7E-A46F-DDC653D2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344-DCBA-4ECD-A363-472C301E29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A00F-F01C-4965-BD28-1E0BDB9D7B85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a chanté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6019920" y="4952880"/>
            <a:ext cx="1828800" cy="1864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werkwoorden hebben vaak een onregelmatig voltooid deelwoor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AutoShape 15"/>
          <p:cNvCxnSpPr>
            <a:stCxn id="173" idx="3"/>
            <a:endCxn id="172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79" name="AutoShape 19"/>
          <p:cNvCxnSpPr>
            <a:endCxn id="173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0" name="AutoShape 21"/>
          <p:cNvCxnSpPr>
            <a:stCxn id="173" idx="3"/>
            <a:endCxn id="173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1" name="AutoShape 24"/>
          <p:cNvCxnSpPr>
            <a:stCxn id="172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9"/>
          <p:cNvCxnSpPr>
            <a:stCxn id="172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84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n dit hoofdstuk krijg je alleen werkwoorden die het hulpwerkwoord avoir hebbe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ontkenning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Tekstvak 2"/>
          <p:cNvSpPr/>
          <p:nvPr/>
        </p:nvSpPr>
        <p:spPr>
          <a:xfrm>
            <a:off x="1908000" y="2637000"/>
            <a:ext cx="56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een ontkenning staat deze om het hulpwerkwoord(avoi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n’ai pas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          </a:t>
            </a: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zinsopbou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kstvak 2"/>
          <p:cNvSpPr/>
          <p:nvPr/>
        </p:nvSpPr>
        <p:spPr>
          <a:xfrm>
            <a:off x="2411280" y="2708280"/>
            <a:ext cx="576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gorde in een Franse zin is anders dan in het Neder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 het Frans staan de persoonsvorm en het voltooid deelwoord bij elka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k heb een film geke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regardé un fil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La fille chante une chan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2-06T19:53:07Z</dcterms:modified>
  <cp:revision>28</cp:revision>
  <dc:subject/>
  <dc:title>De PASSÉ COMPOSÉ</dc:title>
</cp:coreProperties>
</file>