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2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609-7585-418B-9ABC-58E20EE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CED-2688-469F-A82A-10A6EBA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D49-2E24-4C77-9D52-8ECAA9F4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A19-20C0-471F-804F-F1662AF2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2FF-080C-45FF-8380-AD7EC01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FBB-941A-4DF6-8AEE-5612D1E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C88-B961-48D1-B524-EA5CC02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915-0F35-4C95-8D9C-E43180FF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B1A-FF61-46A8-BC4A-BF3F46B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99B-6535-4420-A722-D7C6EC1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303-52DB-43C0-9EC3-C69B570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F8C-FD1C-45E9-9A6C-1D44134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6A1-92AE-4679-BA7E-7D91476FB8AE}" type="slidenum">
              <a:rPr b="0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279880" y="4762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7" descr="ogen_open-dicht"/>
          <p:cNvPicPr/>
          <p:nvPr/>
        </p:nvPicPr>
        <p:blipFill>
          <a:blip r:embed="rId1"/>
          <a:stretch/>
        </p:blipFill>
        <p:spPr>
          <a:xfrm>
            <a:off x="1835280" y="2565360"/>
            <a:ext cx="564984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ud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ouderdom ogen minder go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worden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zen moet op (steeds) grotere afstand worden (je armen worden te kort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een leesbr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herlock kijkt door vergrootglas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ogo_techna_presentaties"/>
          <p:cNvPicPr/>
          <p:nvPr/>
        </p:nvPicPr>
        <p:blipFill>
          <a:blip r:embed="rId1"/>
          <a:stretch/>
        </p:blipFill>
        <p:spPr>
          <a:xfrm>
            <a:off x="866880" y="2147760"/>
            <a:ext cx="7410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t doet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oog verandert lichtstralen in elektrische signa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hersenen “maken” van deze signalen een be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Lichtstralen moeten precies op het netvlies achter in het oog vall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 lichtstralen worden afgebogen door de le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4" descr="anoogbw"/>
          <p:cNvPicPr/>
          <p:nvPr/>
        </p:nvPicPr>
        <p:blipFill>
          <a:blip r:embed="rId1"/>
          <a:stretch/>
        </p:blipFill>
        <p:spPr>
          <a:xfrm>
            <a:off x="250920" y="3886200"/>
            <a:ext cx="428616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Line 5"/>
          <p:cNvSpPr/>
          <p:nvPr/>
        </p:nvSpPr>
        <p:spPr>
          <a:xfrm>
            <a:off x="2986200" y="51102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86200" y="57578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4570560" y="51098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ouw van het o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i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pup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ogzenu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Object 28"/>
          <p:cNvGraphicFramePr/>
          <p:nvPr/>
        </p:nvGraphicFramePr>
        <p:xfrm>
          <a:off x="179280" y="1700280"/>
          <a:ext cx="384804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0280"/>
                    <a:ext cx="38480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35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Pupil en ir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is een gat in de iris. Hij is groot bij weinig licht en klein bij veel lic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pupil regelt de lichtsterk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5235480" y="1268280"/>
          <a:ext cx="33782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268280"/>
                    <a:ext cx="33782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>
            <a:off x="826920" y="46530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Je iris zorgt ervoor dat je blauwe, bruine of misschien wel groene ogen heb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5148360" y="1268280"/>
          <a:ext cx="352908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268280"/>
                    <a:ext cx="3529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ogl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32000" y="1989000"/>
            <a:ext cx="5554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icht dat door je pupil gaat, komt bij je le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ooglens zorgt ervoor dat je een scherp beeld kunt make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bolle ooglens"/>
          <p:cNvPicPr/>
          <p:nvPr/>
        </p:nvPicPr>
        <p:blipFill>
          <a:blip r:embed="rId1"/>
          <a:stretch/>
        </p:blipFill>
        <p:spPr>
          <a:xfrm>
            <a:off x="324000" y="3068640"/>
            <a:ext cx="273528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etv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Na de lens komt het licht bij je netv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et netvlies is het “scherm” voor de afbeel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9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666880" cy="28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0" descr=""/>
          <p:cNvPicPr/>
          <p:nvPr/>
        </p:nvPicPr>
        <p:blipFill>
          <a:blip r:embed="rId2"/>
          <a:stretch/>
        </p:blipFill>
        <p:spPr>
          <a:xfrm>
            <a:off x="539640" y="3610080"/>
            <a:ext cx="3816360" cy="3112920"/>
          </a:xfrm>
          <a:prstGeom prst="rect">
            <a:avLst/>
          </a:prstGeom>
          <a:ln w="0">
            <a:noFill/>
          </a:ln>
        </p:spPr>
      </p:pic>
      <p:sp>
        <p:nvSpPr>
          <p:cNvPr id="67" name="Line 42"/>
          <p:cNvSpPr/>
          <p:nvPr/>
        </p:nvSpPr>
        <p:spPr>
          <a:xfrm flipH="1">
            <a:off x="3059280" y="4581360"/>
            <a:ext cx="30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comod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past zich aan de kijk-afst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lens kan platter en holler word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ij een fototoestellen is dit scherpstell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4" descr="oog_acco02"/>
          <p:cNvPicPr/>
          <p:nvPr/>
        </p:nvPicPr>
        <p:blipFill>
          <a:blip r:embed="rId1"/>
          <a:stretch/>
        </p:blipFill>
        <p:spPr>
          <a:xfrm>
            <a:off x="395280" y="3500280"/>
            <a:ext cx="316692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8" descr="oog_acco"/>
          <p:cNvPicPr/>
          <p:nvPr/>
        </p:nvPicPr>
        <p:blipFill>
          <a:blip r:embed="rId2"/>
          <a:stretch/>
        </p:blipFill>
        <p:spPr>
          <a:xfrm>
            <a:off x="395280" y="3500280"/>
            <a:ext cx="3166920" cy="3097440"/>
          </a:xfrm>
          <a:prstGeom prst="rect">
            <a:avLst/>
          </a:prstGeom>
          <a:ln w="0">
            <a:noFill/>
          </a:ln>
        </p:spPr>
      </p:pic>
      <p:sp>
        <p:nvSpPr>
          <p:cNvPr id="73" name="Line 9"/>
          <p:cNvSpPr/>
          <p:nvPr/>
        </p:nvSpPr>
        <p:spPr>
          <a:xfrm flipV="1">
            <a:off x="4932360" y="4292280"/>
            <a:ext cx="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1258920" y="429264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1258920" y="465300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1258920" y="4653000"/>
            <a:ext cx="367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1"/>
          <p:cNvSpPr/>
          <p:nvPr/>
        </p:nvSpPr>
        <p:spPr>
          <a:xfrm flipV="1">
            <a:off x="8748720" y="4221000"/>
            <a:ext cx="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5"/>
          <p:cNvSpPr/>
          <p:nvPr/>
        </p:nvSpPr>
        <p:spPr>
          <a:xfrm flipH="1" flipV="1">
            <a:off x="1258560" y="4653000"/>
            <a:ext cx="74898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 flipH="1">
            <a:off x="1258920" y="4221000"/>
            <a:ext cx="741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ij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eg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zen blijven te b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nega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5" descr="ooglensafwijking_2"/>
          <p:cNvPicPr/>
          <p:nvPr/>
        </p:nvPicPr>
        <p:blipFill>
          <a:blip r:embed="rId1"/>
          <a:stretch/>
        </p:blipFill>
        <p:spPr>
          <a:xfrm>
            <a:off x="6588000" y="1989000"/>
            <a:ext cx="217188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ooglensafwijking_4"/>
          <p:cNvPicPr/>
          <p:nvPr/>
        </p:nvPicPr>
        <p:blipFill>
          <a:blip r:embed="rId2"/>
          <a:stretch/>
        </p:blipFill>
        <p:spPr>
          <a:xfrm>
            <a:off x="6867360" y="4797360"/>
            <a:ext cx="227664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erzie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 goed zi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chtbij niet scher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ens wordt niet bol geno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lossing: bril met positieve gla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ooglensafwijking1"/>
          <p:cNvPicPr/>
          <p:nvPr/>
        </p:nvPicPr>
        <p:blipFill>
          <a:blip r:embed="rId1"/>
          <a:stretch/>
        </p:blipFill>
        <p:spPr>
          <a:xfrm>
            <a:off x="6659640" y="1628640"/>
            <a:ext cx="217152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ooglensafwijking_3"/>
          <p:cNvPicPr/>
          <p:nvPr/>
        </p:nvPicPr>
        <p:blipFill>
          <a:blip r:embed="rId2"/>
          <a:stretch/>
        </p:blipFill>
        <p:spPr>
          <a:xfrm>
            <a:off x="6905520" y="4076640"/>
            <a:ext cx="223848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18:35Z</dcterms:created>
  <dc:creator>J.Dekker</dc:creator>
  <dc:description/>
  <dc:language>en-US</dc:language>
  <cp:lastModifiedBy>p vd meij</cp:lastModifiedBy>
  <dcterms:modified xsi:type="dcterms:W3CDTF">2017-01-08T08:59:16Z</dcterms:modified>
  <cp:revision>14</cp:revision>
  <dc:subject/>
  <dc:title>Werking oog</dc:title>
</cp:coreProperties>
</file>