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0.png" ContentType="image/png"/>
  <Override PartName="/ppt/media/image17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1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2.gif" ContentType="image/gi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755-851F-408B-A728-7C580EE7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FE5B-58D4-47CA-B86C-12E930C3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696-E346-4E99-BDFB-D12362EC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67B-9B18-4E83-9FD2-B7149809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37F-4554-4D2D-94E6-104FD0D6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087B-E39D-4C55-86F5-0B4062A0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200-3712-4E06-8D97-9381CB19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34D-40AA-43D5-91AF-EC0101E8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76D-3A24-4C61-A827-2B90AC1C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DA8-D0A0-4C1B-8A9C-FF3A7F02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9DF-4CED-4929-8400-B0A63440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172-2201-4E9F-9A22-2E277590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94F4-379C-4760-8F31-A40C76D593F9}" type="slidenum">
              <a:rPr b="0" lang="nl-N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279880" y="47628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Bouw van het oo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7" descr="ogen_open-dicht"/>
          <p:cNvPicPr/>
          <p:nvPr/>
        </p:nvPicPr>
        <p:blipFill>
          <a:blip r:embed="rId1"/>
          <a:stretch/>
        </p:blipFill>
        <p:spPr>
          <a:xfrm>
            <a:off x="1835280" y="2565360"/>
            <a:ext cx="5649840" cy="200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oudzie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oor ouderdom ogen minder go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lenzen worden niet bol genoe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lezen moet op (steeds) grotere afstand worden (je armen worden te kort!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plossing: een leesbri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sherlock kijkt door vergrootglas"/>
          <p:cNvPicPr/>
          <p:nvPr/>
        </p:nvPicPr>
        <p:blipFill>
          <a:blip r:embed="rId1"/>
          <a:stretch/>
        </p:blipFill>
        <p:spPr>
          <a:xfrm>
            <a:off x="7578720" y="0"/>
            <a:ext cx="1565280" cy="1628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logo_techna_presentaties"/>
          <p:cNvPicPr/>
          <p:nvPr/>
        </p:nvPicPr>
        <p:blipFill>
          <a:blip r:embed="rId1"/>
          <a:stretch/>
        </p:blipFill>
        <p:spPr>
          <a:xfrm>
            <a:off x="866880" y="2147760"/>
            <a:ext cx="741024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Wat doet het oo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Het oog verandert lichtstralen in elektrische signal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e hersenen “maken” van deze signalen een bee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Lichtstralen moeten precies op het netvlies achter in het oog vall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e lichtstralen worden afgebogen door de le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4" descr="anoogbw"/>
          <p:cNvPicPr/>
          <p:nvPr/>
        </p:nvPicPr>
        <p:blipFill>
          <a:blip r:embed="rId1"/>
          <a:stretch/>
        </p:blipFill>
        <p:spPr>
          <a:xfrm>
            <a:off x="250920" y="3886200"/>
            <a:ext cx="4286160" cy="2971800"/>
          </a:xfrm>
          <a:prstGeom prst="rect">
            <a:avLst/>
          </a:prstGeom>
          <a:ln w="0">
            <a:noFill/>
          </a:ln>
        </p:spPr>
      </p:pic>
      <p:sp>
        <p:nvSpPr>
          <p:cNvPr id="46" name="Line 5"/>
          <p:cNvSpPr/>
          <p:nvPr/>
        </p:nvSpPr>
        <p:spPr>
          <a:xfrm>
            <a:off x="2986200" y="51102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Line 6"/>
          <p:cNvSpPr/>
          <p:nvPr/>
        </p:nvSpPr>
        <p:spPr>
          <a:xfrm>
            <a:off x="2986200" y="57578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Line 7"/>
          <p:cNvSpPr/>
          <p:nvPr/>
        </p:nvSpPr>
        <p:spPr>
          <a:xfrm flipV="1">
            <a:off x="4570560" y="51098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Bouw van het oo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ir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pup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oogl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netvl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oogzenuw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" name="Object 28"/>
          <p:cNvGraphicFramePr/>
          <p:nvPr/>
        </p:nvGraphicFramePr>
        <p:xfrm>
          <a:off x="179280" y="1700280"/>
          <a:ext cx="3848040" cy="22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00280"/>
                    <a:ext cx="384804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358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Pupil en ir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Je pupil is een gat in de iris. Hij is groot bij weinig licht en klein bij veel lic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Je pupil regelt de lichtsterk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5235480" y="1268280"/>
          <a:ext cx="3378240" cy="33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268280"/>
                    <a:ext cx="337824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7"/>
          <p:cNvSpPr/>
          <p:nvPr/>
        </p:nvSpPr>
        <p:spPr>
          <a:xfrm>
            <a:off x="826920" y="465300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Je iris zorgt ervoor dat je blauwe, bruine of misschien wel groene ogen heb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" name="Object 8"/>
          <p:cNvGraphicFramePr/>
          <p:nvPr/>
        </p:nvGraphicFramePr>
        <p:xfrm>
          <a:off x="5148360" y="1268280"/>
          <a:ext cx="3529080" cy="352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1268280"/>
                    <a:ext cx="35290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oogl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32000" y="1989000"/>
            <a:ext cx="55548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Het licht dat door je pupil gaat, komt bij je len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e ooglens zorgt ervoor dat je een scherp beeld kunt make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4" descr="bolle ooglens"/>
          <p:cNvPicPr/>
          <p:nvPr/>
        </p:nvPicPr>
        <p:blipFill>
          <a:blip r:embed="rId1"/>
          <a:stretch/>
        </p:blipFill>
        <p:spPr>
          <a:xfrm>
            <a:off x="324000" y="3068640"/>
            <a:ext cx="2735280" cy="1841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231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netv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Na de lens komt het licht bij je netvl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Het netvlies is het “scherm” voor de afbeelding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39" descr=""/>
          <p:cNvPicPr/>
          <p:nvPr/>
        </p:nvPicPr>
        <p:blipFill>
          <a:blip r:embed="rId1"/>
          <a:stretch/>
        </p:blipFill>
        <p:spPr>
          <a:xfrm>
            <a:off x="6156360" y="3068640"/>
            <a:ext cx="2666880" cy="2886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0" descr=""/>
          <p:cNvPicPr/>
          <p:nvPr/>
        </p:nvPicPr>
        <p:blipFill>
          <a:blip r:embed="rId2"/>
          <a:stretch/>
        </p:blipFill>
        <p:spPr>
          <a:xfrm>
            <a:off x="539640" y="3610080"/>
            <a:ext cx="3816360" cy="3112920"/>
          </a:xfrm>
          <a:prstGeom prst="rect">
            <a:avLst/>
          </a:prstGeom>
          <a:ln w="0">
            <a:noFill/>
          </a:ln>
        </p:spPr>
      </p:pic>
      <p:sp>
        <p:nvSpPr>
          <p:cNvPr id="67" name="Line 42"/>
          <p:cNvSpPr/>
          <p:nvPr/>
        </p:nvSpPr>
        <p:spPr>
          <a:xfrm flipH="1">
            <a:off x="3059280" y="4581360"/>
            <a:ext cx="30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accomode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e lens past zich aan de kijk-afst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e lens kan platter en holler word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ij een fototoestellen is dit scherpstell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4" descr="oog_acco02"/>
          <p:cNvPicPr/>
          <p:nvPr/>
        </p:nvPicPr>
        <p:blipFill>
          <a:blip r:embed="rId1"/>
          <a:stretch/>
        </p:blipFill>
        <p:spPr>
          <a:xfrm>
            <a:off x="395280" y="3500280"/>
            <a:ext cx="3166920" cy="3095640"/>
          </a:xfrm>
          <a:prstGeom prst="rect">
            <a:avLst/>
          </a:prstGeom>
          <a:ln w="0">
            <a:noFill/>
          </a:ln>
        </p:spPr>
      </p:pic>
      <p:sp>
        <p:nvSpPr>
          <p:cNvPr id="71" name="Line 5"/>
          <p:cNvSpPr/>
          <p:nvPr/>
        </p:nvSpPr>
        <p:spPr>
          <a:xfrm>
            <a:off x="1258920" y="4653000"/>
            <a:ext cx="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8" descr="oog_acco"/>
          <p:cNvPicPr/>
          <p:nvPr/>
        </p:nvPicPr>
        <p:blipFill>
          <a:blip r:embed="rId2"/>
          <a:stretch/>
        </p:blipFill>
        <p:spPr>
          <a:xfrm>
            <a:off x="395280" y="3500280"/>
            <a:ext cx="3166920" cy="3097440"/>
          </a:xfrm>
          <a:prstGeom prst="rect">
            <a:avLst/>
          </a:prstGeom>
          <a:ln w="0">
            <a:noFill/>
          </a:ln>
        </p:spPr>
      </p:pic>
      <p:sp>
        <p:nvSpPr>
          <p:cNvPr id="73" name="Line 9"/>
          <p:cNvSpPr/>
          <p:nvPr/>
        </p:nvSpPr>
        <p:spPr>
          <a:xfrm flipV="1">
            <a:off x="4932360" y="4292280"/>
            <a:ext cx="0" cy="1366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11"/>
          <p:cNvSpPr/>
          <p:nvPr/>
        </p:nvSpPr>
        <p:spPr>
          <a:xfrm flipH="1">
            <a:off x="1258920" y="4292640"/>
            <a:ext cx="3673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1258920" y="4653000"/>
            <a:ext cx="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1258920" y="4653000"/>
            <a:ext cx="3673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21"/>
          <p:cNvSpPr/>
          <p:nvPr/>
        </p:nvSpPr>
        <p:spPr>
          <a:xfrm flipV="1">
            <a:off x="8748720" y="4221000"/>
            <a:ext cx="0" cy="13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5"/>
          <p:cNvSpPr/>
          <p:nvPr/>
        </p:nvSpPr>
        <p:spPr>
          <a:xfrm flipH="1" flipV="1">
            <a:off x="1258560" y="4653000"/>
            <a:ext cx="74898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0"/>
          <p:cNvSpPr/>
          <p:nvPr/>
        </p:nvSpPr>
        <p:spPr>
          <a:xfrm flipH="1">
            <a:off x="1258920" y="4221000"/>
            <a:ext cx="741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bijzie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ichtbij goed zic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weg niet scher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lenzen blijven te b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plossing: bril met negatieve glaz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5" descr="ooglensafwijking_2"/>
          <p:cNvPicPr/>
          <p:nvPr/>
        </p:nvPicPr>
        <p:blipFill>
          <a:blip r:embed="rId1"/>
          <a:stretch/>
        </p:blipFill>
        <p:spPr>
          <a:xfrm>
            <a:off x="6588000" y="1989000"/>
            <a:ext cx="2171880" cy="1190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ooglensafwijking_4"/>
          <p:cNvPicPr/>
          <p:nvPr/>
        </p:nvPicPr>
        <p:blipFill>
          <a:blip r:embed="rId2"/>
          <a:stretch/>
        </p:blipFill>
        <p:spPr>
          <a:xfrm>
            <a:off x="6867360" y="4797360"/>
            <a:ext cx="227664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verzie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 goed zic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ichtbij niet scher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lens wordt niet bol genoe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plossing: bril met positieve glaz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4" descr="ooglensafwijking1"/>
          <p:cNvPicPr/>
          <p:nvPr/>
        </p:nvPicPr>
        <p:blipFill>
          <a:blip r:embed="rId1"/>
          <a:stretch/>
        </p:blipFill>
        <p:spPr>
          <a:xfrm>
            <a:off x="6659640" y="1628640"/>
            <a:ext cx="2171520" cy="113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ooglensafwijking_3"/>
          <p:cNvPicPr/>
          <p:nvPr/>
        </p:nvPicPr>
        <p:blipFill>
          <a:blip r:embed="rId2"/>
          <a:stretch/>
        </p:blipFill>
        <p:spPr>
          <a:xfrm>
            <a:off x="6905520" y="4076640"/>
            <a:ext cx="223848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4:18:35Z</dcterms:created>
  <dc:creator>J.Dekker</dc:creator>
  <dc:description/>
  <dc:language>en-US</dc:language>
  <cp:lastModifiedBy>p vd meij</cp:lastModifiedBy>
  <dcterms:modified xsi:type="dcterms:W3CDTF">2017-01-08T08:59:16Z</dcterms:modified>
  <cp:revision>14</cp:revision>
  <dc:subject/>
  <dc:title>Werking oog</dc:title>
</cp:coreProperties>
</file>