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01A746-7871-45D2-B1FE-89B8F90C66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F1237-6A67-4842-86C5-25B5E05E5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615532-5CD2-4C14-ADC6-AE58124760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44F01B-CDF0-48F8-A972-9E6923FC21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AB642-A510-4DD4-B5B6-56EA14028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147D3-C322-4D07-B0B2-A7415D194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8E202-E21E-45B4-B072-98CB7FB7F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011CA-8A0F-461B-B3D3-DA699F244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D43F8-2C13-4875-8773-B89978572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04FF5-EDD1-419B-AEE9-1A3D8CFF7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50D30-088B-482F-B4F5-19C06CCC1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1B5EF-D2D5-4E34-9ED5-60DA8A4FFF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DFEA7-98C5-4AC5-95DB-D918262D5E2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2349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EHBO</a:t>
            </a:r>
            <a:r>
              <a:rPr b="0" lang="nl-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itale Funct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Gestoord bewustzijn </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minderd(suf) of afwezig bewustzijn geeft een gestoorde hersenwerk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lachtoffer niet laten eten of drinken, want er kan verslikking ontstaan of extra problemen bij narco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orzaken gestoorde hersenwerking</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chedelhersenletsel</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ersen-/hersenvliesontsteking</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eroert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iabete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Epilepsi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ergiftiging</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ververhitting/onderkoeling/elektrische shock</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toornissen in de ademhaling of de circulatie</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Gestoorde ademhaling door</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erminderd/ belemmerd of afwezig door bloed, braaksel,speekse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e to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Een vreemd voorwerp= corpus alienu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welling van het slijmvlies door letsel, inademen van hete lucht, een prikkelend gas, een infectie, of een allergische reacti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iekten o.a. astma, hyperventilatie, longaandoeningen, hartaandoening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ervolg oorzaken</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Klaplong / gebroken ribben /doordringende borstwon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erdrink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edelv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phanging of wurg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eschadiging van hersenen of ruggemerg</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Een onvoldoende ademhaling betekent zuurstof tekort in de hersenen m.a.g bewustzijnsstoorn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Gestoorde bloedsomloop</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minderde of geen bloedsomloo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t gevolg: te weinig of geen zuurstof naar de organen, m.n. de hersenen zijn hier erg gevoelig voor en na een paar minuten al beschadig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orzaken circulatiestoornissen</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artritmestoornissen of een hartinfar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el in- of uitwendig bloedverl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en elektrische scho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toornissen in de ademha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itdroging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899640" y="5300280"/>
            <a:ext cx="7559640" cy="1297080"/>
          </a:xfrm>
          <a:prstGeom prst="rect">
            <a:avLst/>
          </a:prstGeom>
          <a:noFill/>
          <a:ln w="0">
            <a:noFill/>
          </a:ln>
        </p:spPr>
        <p:txBody>
          <a:bodyPr anchor="t">
            <a:normAutofit fontScale="91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www.youtube.com/watch?v=-hjpxwaVKz4</a:t>
            </a: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https://www.youtube.com/watch?v=EH9TBTxr5CM</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 </a:t>
            </a:r>
            <a:r>
              <a:rPr b="0" lang="nl-NL" sz="1800" spc="-1" strike="noStrike">
                <a:solidFill>
                  <a:srgbClr val="000000"/>
                </a:solidFill>
                <a:latin typeface="Times New Roman"/>
              </a:rPr>
              <a:t>https://www.youtube.com/watch?v=stgt_P5Jme4 benadering so stabiele zijligging</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80" name="Picture 2" descr="http://home.kpn.nl/ron.prins/P4260080.JPG"/>
          <p:cNvPicPr/>
          <p:nvPr/>
        </p:nvPicPr>
        <p:blipFill>
          <a:blip r:embed="rId1"/>
          <a:stretch/>
        </p:blipFill>
        <p:spPr>
          <a:xfrm>
            <a:off x="1763640" y="54936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5880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itale Functie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753920"/>
            <a:ext cx="7772400" cy="51037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ichaamsfuncties die essentieel zijn voor het behoud van het leve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iertoe beho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ewustzij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demha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irculati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___________________________________</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Temperatuur: speelt een rol bij koude en warmteletsel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ewustzijn</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t bewustzijn zit in de hersenen, een onderdeel van het zenuwstelsel, wat verder uit het ruggenmerg en zenuwen besta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uncties: zorgt ervoor dat het lichaam op de juiste manier op prikkels reageert van zowel uit het lichaam als van buiten het lichaam en zorgt voor een goede samenwerking tussen alle organ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Zenuwstelsel</a:t>
            </a:r>
            <a:endParaRPr b="0" lang="en-US" sz="4400" spc="-1" strike="noStrike">
              <a:solidFill>
                <a:srgbClr val="000000"/>
              </a:solidFill>
              <a:latin typeface="Times New Roman"/>
            </a:endParaRPr>
          </a:p>
        </p:txBody>
      </p:sp>
      <p:pic>
        <p:nvPicPr>
          <p:cNvPr id="48" name="Picture 3" descr="http://www.menselijk-lichaam.com/wp-content/uploads/Zenuwstelsel-278x300.jpg"/>
          <p:cNvPicPr/>
          <p:nvPr/>
        </p:nvPicPr>
        <p:blipFill>
          <a:blip r:embed="rId1"/>
          <a:stretch/>
        </p:blipFill>
        <p:spPr>
          <a:xfrm>
            <a:off x="228600" y="1905120"/>
            <a:ext cx="3954600" cy="4267080"/>
          </a:xfrm>
          <a:prstGeom prst="rect">
            <a:avLst/>
          </a:prstGeom>
          <a:ln w="0">
            <a:noFill/>
          </a:ln>
        </p:spPr>
      </p:pic>
      <p:pic>
        <p:nvPicPr>
          <p:cNvPr id="49" name="Picture 4" descr="http://www.natuurinformatie.nl/sites/nnm.dossiers/contents/i003307/zenuwsoortenrgb.jpg"/>
          <p:cNvPicPr/>
          <p:nvPr/>
        </p:nvPicPr>
        <p:blipFill>
          <a:blip r:embed="rId2"/>
          <a:stretch/>
        </p:blipFill>
        <p:spPr>
          <a:xfrm>
            <a:off x="4962600" y="1295280"/>
            <a:ext cx="3705120" cy="556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Ademhaling</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it gebeurt o.i.v het ademcentrum (CO2gehalte) door de luchtwegen, de longen en de ademhalingsspieren</a:t>
            </a: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uncties: O2(zuurstof) opname uit de lucht , dit naar het bloed doorgeven en CO2(koolstofdioxide) opnemen uit het bloed en aan de lucht afgev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Ademhalingsorganen</a:t>
            </a:r>
            <a:endParaRPr b="0" lang="en-US" sz="4400" spc="-1" strike="noStrike">
              <a:solidFill>
                <a:srgbClr val="000000"/>
              </a:solidFill>
              <a:latin typeface="Times New Roman"/>
            </a:endParaRPr>
          </a:p>
        </p:txBody>
      </p:sp>
      <p:pic>
        <p:nvPicPr>
          <p:cNvPr id="53" name="Picture 3" descr="http://www.xead.nl/resize/500-500/upload/65dd8d31c3d2d9eda46742c4251491a7My5qcGc=.jpg"/>
          <p:cNvPicPr/>
          <p:nvPr/>
        </p:nvPicPr>
        <p:blipFill>
          <a:blip r:embed="rId1"/>
          <a:stretch/>
        </p:blipFill>
        <p:spPr>
          <a:xfrm>
            <a:off x="2611440" y="1828800"/>
            <a:ext cx="3921120" cy="444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Circulatie(bloedsomloop)</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estaat uit het hart, bloedvaten en bloe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uncties:vervoer van zuurstof en voedingsstoffen naar de lichaamscellen en afvoer vanuit deze cellen naar de longen en de niere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Circulatie</a:t>
            </a:r>
            <a:endParaRPr b="0" lang="en-US" sz="4400" spc="-1" strike="noStrike">
              <a:solidFill>
                <a:srgbClr val="000000"/>
              </a:solidFill>
              <a:latin typeface="Times New Roman"/>
            </a:endParaRPr>
          </a:p>
        </p:txBody>
      </p:sp>
      <p:sp>
        <p:nvSpPr>
          <p:cNvPr id="57" name="Rectangle 3"/>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Rectangle 4"/>
          <p:cNvSpPr/>
          <p:nvPr/>
        </p:nvSpPr>
        <p:spPr>
          <a:xfrm>
            <a:off x="-46080" y="-22320"/>
            <a:ext cx="1843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Rectangle 5"/>
          <p:cNvSpPr/>
          <p:nvPr/>
        </p:nvSpPr>
        <p:spPr>
          <a:xfrm>
            <a:off x="2017800" y="358920"/>
            <a:ext cx="132876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Rectangle 9"/>
          <p:cNvSpPr/>
          <p:nvPr/>
        </p:nvSpPr>
        <p:spPr>
          <a:xfrm>
            <a:off x="-46080" y="-22320"/>
            <a:ext cx="184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c0000"/>
                </a:solidFill>
                <a:latin typeface="Times New Roman"/>
              </a:rPr>
              <a:t> </a:t>
            </a:r>
            <a:endParaRPr b="0" lang="en-US" sz="2400" spc="-1" strike="noStrike">
              <a:solidFill>
                <a:srgbClr val="000000"/>
              </a:solidFill>
              <a:latin typeface="Times New Roman"/>
            </a:endParaRPr>
          </a:p>
        </p:txBody>
      </p:sp>
      <p:sp>
        <p:nvSpPr>
          <p:cNvPr id="61" name="Rectangle 10"/>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11"/>
          <p:cNvSpPr/>
          <p:nvPr/>
        </p:nvSpPr>
        <p:spPr>
          <a:xfrm>
            <a:off x="46080" y="0"/>
            <a:ext cx="360" cy="779400"/>
          </a:xfrm>
          <a:prstGeom prst="rect">
            <a:avLst/>
          </a:prstGeom>
          <a:noFill/>
          <a:ln w="0">
            <a:noFill/>
          </a:ln>
        </p:spPr>
        <p:style>
          <a:lnRef idx="0"/>
          <a:fillRef idx="0"/>
          <a:effectRef idx="0"/>
          <a:fontRef idx="minor"/>
        </p:style>
        <p:txBody>
          <a:bodyPr lIns="0" rIns="0" tIns="475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Rectangle 12"/>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 name="Picture 8" descr="http://t2.gstatic.com/images?q=tbn:ANd9GcSm6rHD1DU7xMz67bS6j4m_bU66DPfCluxFsgc0Di_eaWludYVt"/>
          <p:cNvPicPr/>
          <p:nvPr/>
        </p:nvPicPr>
        <p:blipFill>
          <a:blip r:embed="rId1"/>
          <a:stretch/>
        </p:blipFill>
        <p:spPr>
          <a:xfrm>
            <a:off x="1371600" y="1981080"/>
            <a:ext cx="2928960" cy="4267440"/>
          </a:xfrm>
          <a:prstGeom prst="rect">
            <a:avLst/>
          </a:prstGeom>
          <a:ln w="0">
            <a:noFill/>
          </a:ln>
        </p:spPr>
      </p:pic>
      <p:pic>
        <p:nvPicPr>
          <p:cNvPr id="65" name="Picture 13" descr="http://www.hartstichting.nl/13706/13735/13726/13752/circulatie_lichaam"/>
          <p:cNvPicPr/>
          <p:nvPr/>
        </p:nvPicPr>
        <p:blipFill>
          <a:blip r:embed="rId2"/>
          <a:stretch/>
        </p:blipFill>
        <p:spPr>
          <a:xfrm>
            <a:off x="5334120" y="2133720"/>
            <a:ext cx="3252600" cy="434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TOORNISSE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5T19:36:46Z</dcterms:created>
  <dc:creator>Agnieta</dc:creator>
  <dc:description/>
  <dc:language>en-US</dc:language>
  <cp:lastModifiedBy>Agnieta Swaving-Pikstra</cp:lastModifiedBy>
  <dcterms:modified xsi:type="dcterms:W3CDTF">2016-09-21T13:15:47Z</dcterms:modified>
  <cp:revision>12</cp:revision>
  <dc:subject/>
  <dc:title>EHBO</dc:title>
</cp:coreProperties>
</file>