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95860-58E9-4366-95B4-0D5808268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CAEBA-5EF7-4C08-9969-54A02BE09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8C34B-11DB-4307-B335-547F2AF82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57F75-3000-49D7-BA35-46B115230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8768D-A74B-484F-81B8-17647EE1F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179A5-01BC-461D-9793-AC870367E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28177-5DFA-44E7-8E7C-094D0782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0B8FF-4186-44EE-AE01-600E0E8DD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8B59C-2EA3-4B4B-842C-EC3F6775F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75DDB-8E16-48EB-8195-7F1F6DA2D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615F-34C4-4AED-9E25-75E8DB41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E71E8-950E-40E2-8BFB-37688FCDF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5DF33-5BB2-420D-8040-D9BD1B23716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hetvlaamsekruis.be/ehbo_info/cursus/08_Inwendige_aandoeningen/Suikerziekte.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laats.nl/gemeente-veldhoven/videos/Hcs_T5mg7Aw/bhv.nl-demonstreert-een-flauwt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nl/imgres?q=flauwte&amp;hl=nl&amp;biw=1009&amp;bih=610&amp;tbm=isch&amp;tbnid=DcZvOHmPfXNnAM:&amp;imgrefurl=http://www.hetvlaamsekruis.be/ehbo_info/cursus/08_Inwendige_aandoeningen/flauwte.htm&amp;docid=c3FlkRR4VIBXGM&amp;imgurl=http://www.hetvlaamsekruis.be/ehbo_info/cursus/08_Inwendige_aandoeningen/flauwte.jpg&amp;w=699&amp;h=443&amp;ei=1CZ3UPepGorE0QXei4GgCA&amp;zoom=1&amp;iact=hc&amp;vpx=411&amp;vpy=107&amp;dur=6500&amp;hovh=179&amp;hovw=282&amp;tx=124&amp;ty=97&amp;sig=110308519874302738132&amp;page=1&amp;tbnh=99&amp;tbnw=156&amp;start=0&amp;ndsp=15&amp;ved=1t:429,r:7,s:0,i:104"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laats.nl/gemeente-veldhoven/videos/5AtB5Fec1-8/bhv.nl-demonstreert-een-epileptische-aanval./" TargetMode="External"/><Relationship Id="rId2" Type="http://schemas.openxmlformats.org/officeDocument/2006/relationships/hyperlink" Target="http://www.plaats.nl/gemeente-veldhoven/videos/j2MUnByfSUQ/epileptic-fit----epilepticky-zachvat/"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nl/imgres?q=open+schedelbreuk&amp;hl=nl&amp;sa=X&amp;biw=1009&amp;bih=610&amp;tbm=isch&amp;prmd=imvns&amp;tbnid=gli92R13TSBu1M:&amp;imgrefurl=http://spoed.wordpress.com/2010/12/30/letsel-aan-het/&amp;docid=8Q1nFP-fug7SiM&amp;imgurl=http://i13.photobucket.com/albums/a254/KEUKENETTE/recooneyes.jpg&amp;w=640&amp;h=480&amp;ei=O9xyUNupDIiO0AXYqYGQDw&amp;zoom=1&amp;iact=hc&amp;vpx=249&amp;vpy=189&amp;dur=6672&amp;hovh=194&amp;hovw=259&amp;tx=103&amp;ty=100&amp;sig=110308519874302738132&amp;page=1&amp;tbnh=114&amp;tbnw=152&amp;start=0&amp;ndsp=15&amp;ved=1t:429,r:1,s:0,i:7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nl/imgres?q=aangezichtsletsel&amp;hl=nl&amp;biw=1009&amp;bih=610&amp;tbm=isch&amp;tbnid=J8PRZEk4AYO_HM:&amp;imgrefurl=http://www.lotuskringwestbrabant.nl/lesavonden/20060419_aangezichtsletsels.php&amp;docid=FLZzvfhduY0n2M&amp;imgurl=http://www.lotuskringwestbrabant.nl/afbeeldingen/aangezichtsletsel_3.jpg&amp;w=259&amp;h=400&amp;ei=yd5yUK-CN4Wb1AWY74CIBw&amp;zoom=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nl/imgres?q=beroerte+gezicht&amp;start=290&amp;hl=nl&amp;biw=1009&amp;bih=610&amp;tbm=isch&amp;tbnid=evz-bPFHFr5iaM:&amp;imgrefurl=http://plazilla.com/herken-een-beroerte-doe-de-plat-test&amp;docid=u2jWH4iS15kzfM&amp;imgurl=http://plzcdn.com/resize/500-500/upload/2301a7bdda1dd4a4b0767fdbdfe911cecmVjb2duaXNlLXN0cm9rZS5qcGc%253D.jpg&amp;w=325&amp;h=245&amp;ei=buRyUPL9PIeX1AWipYDYDQ&amp;zoom=1&amp;iact=hc&amp;vpx=97&amp;vpy=139&amp;dur=3109&amp;hovh=195&amp;hovw=259&amp;tx=148&amp;ty=123&amp;sig=110308519874302738132&amp;page=15&amp;tbnh=133&amp;tbnw=176&amp;ndsp=20&amp;ved=1t:429,r:10,s:290,i:38"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van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66ff"/>
                </a:solidFill>
                <a:latin typeface="Times New Roman"/>
              </a:rPr>
              <a:t>Bewustzijn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sstoorniss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stoorniss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cc"/>
                </a:solidFill>
                <a:latin typeface="Times New Roman"/>
              </a:rPr>
              <a:t>F</a:t>
            </a:r>
            <a:r>
              <a:rPr b="0" lang="nl-NL" sz="4400" spc="-1" strike="noStrike">
                <a:solidFill>
                  <a:srgbClr val="000000"/>
                </a:solidFill>
                <a:latin typeface="Times New Roman"/>
              </a:rPr>
              <a:t>ace </a:t>
            </a:r>
            <a:r>
              <a:rPr b="0" lang="nl-NL" sz="4400" spc="-1" strike="noStrike">
                <a:solidFill>
                  <a:srgbClr val="3333cc"/>
                </a:solidFill>
                <a:latin typeface="Times New Roman"/>
              </a:rPr>
              <a:t>A</a:t>
            </a:r>
            <a:r>
              <a:rPr b="0" lang="nl-NL" sz="4400" spc="-1" strike="noStrike">
                <a:solidFill>
                  <a:srgbClr val="000000"/>
                </a:solidFill>
                <a:latin typeface="Times New Roman"/>
              </a:rPr>
              <a:t>rm </a:t>
            </a:r>
            <a:r>
              <a:rPr b="0" lang="nl-NL" sz="4400" spc="-1" strike="noStrike">
                <a:solidFill>
                  <a:srgbClr val="3333cc"/>
                </a:solidFill>
                <a:latin typeface="Times New Roman"/>
              </a:rPr>
              <a:t>S</a:t>
            </a:r>
            <a:r>
              <a:rPr b="0" lang="nl-NL" sz="4400" spc="-1" strike="noStrike">
                <a:solidFill>
                  <a:srgbClr val="000000"/>
                </a:solidFill>
                <a:latin typeface="Times New Roman"/>
              </a:rPr>
              <a:t>peech </a:t>
            </a:r>
            <a:r>
              <a:rPr b="0" lang="nl-NL" sz="4400" spc="-1" strike="noStrike">
                <a:solidFill>
                  <a:srgbClr val="3333cc"/>
                </a:solidFill>
                <a:latin typeface="Times New Roman"/>
              </a:rPr>
              <a:t>T</a:t>
            </a:r>
            <a:r>
              <a:rPr b="0" lang="nl-NL" sz="4400" spc="-1" strike="noStrike">
                <a:solidFill>
                  <a:srgbClr val="000000"/>
                </a:solidFill>
                <a:latin typeface="Times New Roman"/>
              </a:rPr>
              <a:t>ime</a:t>
            </a:r>
            <a:endParaRPr b="0" lang="en-US" sz="4400" spc="-1" strike="noStrike">
              <a:solidFill>
                <a:srgbClr val="000000"/>
              </a:solidFill>
              <a:latin typeface="Times New Roman"/>
            </a:endParaRPr>
          </a:p>
        </p:txBody>
      </p:sp>
      <p:pic>
        <p:nvPicPr>
          <p:cNvPr id="82" name="Picture 3" descr="http://www.ascal.nl/sites/ascal.nl/files/images/beroerte-herkennen.gif"/>
          <p:cNvPicPr/>
          <p:nvPr/>
        </p:nvPicPr>
        <p:blipFill>
          <a:blip r:embed="rId1"/>
          <a:stretch/>
        </p:blipFill>
        <p:spPr>
          <a:xfrm>
            <a:off x="990720" y="1663560"/>
            <a:ext cx="7162560" cy="536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sint-trudo.be/img/posterCVA.jpg"/>
          <p:cNvPicPr/>
          <p:nvPr/>
        </p:nvPicPr>
        <p:blipFill>
          <a:blip r:embed="rId1"/>
          <a:stretch/>
        </p:blipFill>
        <p:spPr>
          <a:xfrm>
            <a:off x="457200" y="685800"/>
            <a:ext cx="7943760" cy="559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iabetes mellitu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ekort aan suiker in de cellen omdat er te weinig insuline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suline is een hormoon wat in de alvleesklier wordt gevormd en dat nodig is voor opname van suiker in de cel vanuit de bloedbaan. Bij te weinig stijgt het bloedsuikergehal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ype I en Type II worden onderscheid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jeugd-, ouderdomsdiabetes genoemd</a:t>
            </a:r>
            <a:endParaRPr b="0" lang="en-US" sz="2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ccccff"/>
                </a:solidFill>
                <a:uFillTx/>
                <a:latin typeface="Times New Roman"/>
                <a:hlinkClick r:id="rId1"/>
              </a:rPr>
              <a:t>http://www.hetvlaamsekruis.be/ehbo_info/cursus/08_Inwendige_aandoeningen/Suikerziekte.htm</a:t>
            </a:r>
            <a:r>
              <a:rPr b="0" lang="nl-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026" descr="http://www.gamelayd.nl/img/sugarblog/sugarblog02.jpg"/>
          <p:cNvPicPr/>
          <p:nvPr/>
        </p:nvPicPr>
        <p:blipFill>
          <a:blip r:embed="rId1"/>
          <a:stretch/>
        </p:blipFill>
        <p:spPr>
          <a:xfrm>
            <a:off x="685800" y="615960"/>
            <a:ext cx="7772400" cy="56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schijnselen onbehandelde of slecht ingestelde patiënt</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aak plassen, veel plassen, heeft dorst en beland in een vicieuze cirke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allen ondanks goede eetlust</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ndt geen behandeling plaats dan ontstaat een hyperglycaemi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patiënt wordt geleidelijk slaperig-suf en raakt in coma, de ademhaling heeft een aceton(zoete appeltjes)geu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HBO: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 laag bloedsuikergehalte</a:t>
            </a:r>
            <a:br>
              <a:rPr sz="4400"/>
            </a:br>
            <a:r>
              <a:rPr b="0" lang="nl-NL" sz="4400" spc="-1" strike="noStrike">
                <a:solidFill>
                  <a:srgbClr val="000000"/>
                </a:solidFill>
                <a:latin typeface="Times New Roman"/>
              </a:rPr>
              <a:t>hypoglycaemie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or: te veel insuline of tabletten, brakenof te weinig eten, extra inspanning verrichten,alcoholgebrui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schijnselen: geeuwen, zweten, geïrriteerd, kribbig tot agressief gedrag aan toe, suf en tot slot bewusteloos</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Doen</a:t>
            </a:r>
            <a:r>
              <a:rPr b="0" lang="nl-NL" sz="2800" spc="-1" strike="noStrike">
                <a:solidFill>
                  <a:srgbClr val="000000"/>
                </a:solidFill>
                <a:latin typeface="Times New Roman"/>
              </a:rPr>
              <a:t>: goed aanspreekbaar: sneloplosbare suikers geven, bij bewustzijnsstoornissen 112 bel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http://www.hetvlaamsekruis.be/ehbo_info/cursus/08_Inwendige_aandoeningen/Suikerziekte02.jpg"/>
          <p:cNvPicPr/>
          <p:nvPr/>
        </p:nvPicPr>
        <p:blipFill>
          <a:blip r:embed="rId1"/>
          <a:stretch/>
        </p:blipFill>
        <p:spPr>
          <a:xfrm>
            <a:off x="380880" y="565200"/>
            <a:ext cx="8305920" cy="57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a:t>
            </a:r>
            <a:r>
              <a:rPr b="0" lang="nl-NL" sz="2800" spc="-1" strike="noStrike">
                <a:solidFill>
                  <a:srgbClr val="000000"/>
                </a:solidFill>
                <a:latin typeface="Times New Roman"/>
              </a:rPr>
              <a:t>een kortdurende vermindering van het bewustzijn</a:t>
            </a:r>
            <a:endParaRPr b="0" lang="en-US" sz="2800" spc="-1" strike="noStrike">
              <a:solidFill>
                <a:srgbClr val="000000"/>
              </a:solidFill>
              <a:latin typeface="Times New Roman"/>
            </a:endParaRPr>
          </a:p>
        </p:txBody>
      </p:sp>
      <p:sp>
        <p:nvSpPr>
          <p:cNvPr id="93" name="PlaceHolder 2"/>
          <p:cNvSpPr>
            <a:spLocks noGrp="1"/>
          </p:cNvSpPr>
          <p:nvPr>
            <p:ph/>
          </p:nvPr>
        </p:nvSpPr>
        <p:spPr>
          <a:xfrm>
            <a:off x="755640" y="2205000"/>
            <a:ext cx="7772400" cy="4114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rzaak: tijdelijk verminderde bloedaanvoer naar de hersenen als gevolg van:</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uitputting, oververmoeidheid, lang stilstaan,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nger,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oedarmoede,</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en benauwde warme omgeving of door</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plotselinge schrik, angst, emoties of het zien van bloed of naalden</a:t>
            </a:r>
            <a:endParaRPr b="0" lang="en-US" sz="2800" spc="-1" strike="noStrike">
              <a:solidFill>
                <a:srgbClr val="000000"/>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lauwte    Verschijnselen:</a:t>
            </a:r>
            <a:endParaRPr b="0" lang="en-US" sz="4400" spc="-1" strike="noStrike">
              <a:solidFill>
                <a:srgbClr val="000000"/>
              </a:solidFill>
              <a:latin typeface="Times New Roman"/>
            </a:endParaRPr>
          </a:p>
        </p:txBody>
      </p:sp>
      <p:sp>
        <p:nvSpPr>
          <p:cNvPr id="95" name=""/>
          <p:cNvSpPr txBox="1"/>
          <p:nvPr/>
        </p:nvSpPr>
        <p:spPr>
          <a:xfrm>
            <a:off x="611280" y="1699920"/>
            <a:ext cx="7772400" cy="46162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slachtoffer wordt bleek, zweet, en geeuw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ervolgens treedt een bewustzijnsdaling op en zelfs bewustelooshei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oms ook spiertrekkingen die lijken op epilepsie e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soms wordt er ook urine verloren en dus een natte broek</a:t>
            </a: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ccccff"/>
                </a:solidFill>
                <a:uFillTx/>
                <a:latin typeface="Times New Roman"/>
                <a:hlinkClick r:id="rId1"/>
              </a:rPr>
              <a:t>http://www.plaats.nl/gemeente-veldhoven/videos/Hcs_T5mg7Aw/bhv.nl-demonstreert-een-flauwte/</a:t>
            </a:r>
            <a:r>
              <a:rPr b="0" lang="nl-NL"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flauwt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eer te voorkomen dat iemand bewusteloos raak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reng het slachtoffer in de frisse luch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g hem/haar plat neer, eventueel de benen iets omhoo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strakzittende kleding l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 hem/haar 10 minuten liggen,laat hem dan zitten en geef wat water  te drink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basisbreuk</a:t>
            </a:r>
            <a:endParaRPr b="0" lang="en-US" sz="4400" spc="-1" strike="noStrike">
              <a:solidFill>
                <a:srgbClr val="000000"/>
              </a:solidFill>
              <a:latin typeface="Times New Roman"/>
            </a:endParaRPr>
          </a:p>
        </p:txBody>
      </p:sp>
      <p:pic>
        <p:nvPicPr>
          <p:cNvPr id="44" name="Picture 3" descr="http://www.nccn.nl/nccn/images/o_tot_z/sht_schedelbasisfractuur1.jpg"/>
          <p:cNvPicPr/>
          <p:nvPr/>
        </p:nvPicPr>
        <p:blipFill>
          <a:blip r:embed="rId1"/>
          <a:stretch/>
        </p:blipFill>
        <p:spPr>
          <a:xfrm>
            <a:off x="822240" y="1521000"/>
            <a:ext cx="7497720" cy="533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
          <p:cNvSpPr/>
          <p:nvPr/>
        </p:nvSpPr>
        <p:spPr>
          <a:xfrm>
            <a:off x="3054240" y="787320"/>
            <a:ext cx="20145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03" name="Rectangle 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10"/>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7" descr="http://t3.gstatic.com/images?q=tbn:ANd9GcSJ4FHLaF6yfqtrP24xDnk7bNNQLTPu2Ah5K4Cvy1biPKvJtGZC">
            <a:hlinkClick r:id="rId1"/>
          </p:cNvPr>
          <p:cNvPicPr/>
          <p:nvPr/>
        </p:nvPicPr>
        <p:blipFill>
          <a:blip r:embed="rId2"/>
          <a:stretch/>
        </p:blipFill>
        <p:spPr>
          <a:xfrm>
            <a:off x="1905120" y="1735200"/>
            <a:ext cx="4506840" cy="286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llende ziekte = epilepsie</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verstoord elektrisch patroon –kortsluiting – in de hersen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ardoor is vaak niet bekend, soms het gevolg van een beroerte, ziekte of ernstig hersenletse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1"/>
              </a:rPr>
              <a:t>http://www.plaats.nl/gemeente-veldhoven/videos/5AtB5Fec1-8/bhv.nl-demonstreert-een-epileptische-aanval./</a:t>
            </a:r>
            <a:r>
              <a:rPr b="0" lang="nl-NL"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ccccff"/>
                </a:solidFill>
                <a:uFillTx/>
                <a:latin typeface="Times New Roman"/>
                <a:hlinkClick r:id="rId2"/>
              </a:rPr>
              <a:t>http://www.plaats.nl/gemeente-veldhoven/videos/j2MUnByfSUQ/epileptic-fit----epilepticky-zachvat/</a:t>
            </a:r>
            <a:r>
              <a:rPr b="0" lang="nl-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vallen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bsence(petit mal): kleine aanval soms niet opgemerkt even wezenloos staren, even stokken met praten, schokken met een arm en dan gewoon weer verder ga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11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311640" y="598320"/>
            <a:ext cx="20286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
          <p:cNvSpPr/>
          <p:nvPr/>
        </p:nvSpPr>
        <p:spPr>
          <a:xfrm>
            <a:off x="46080" y="2376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11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Picture 8" descr="http://t3.gstatic.com/images?q=tbn:ANd9GcTZTcmswTuRvMEI8oPNZYskHBgoh5-ZddzLB9PnYOYUf7SApL3X"/>
          <p:cNvPicPr/>
          <p:nvPr/>
        </p:nvPicPr>
        <p:blipFill>
          <a:blip r:embed="rId1"/>
          <a:stretch/>
        </p:blipFill>
        <p:spPr>
          <a:xfrm>
            <a:off x="1325520" y="1828800"/>
            <a:ext cx="3246480" cy="203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 grote aanval</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371600"/>
            <a:ext cx="7772400" cy="5486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orboden(aura): smakken, over een been of arm wrijven, een vreemde smaak in de mond, niet-aanwezige lichtflitsen zi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lotselinge bewusteloosheid, neervallen, soms onderwijl een gil slaken. Verkrampen van de spieren , blauw aanlopen en daarna beginnen te schokken met de ledematen en het hoofd, soms schuim op de mond en urine laten lopen.Hierna soms snurkend slapen of langzaam bijkomen, vaak nog wat verward, last van hoofd- en spierpij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et zelf van niets, weet wel dat er weer een aanval is gewe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rand mal</a:t>
            </a:r>
            <a:endParaRPr b="0" lang="en-US" sz="4400" spc="-1" strike="noStrike">
              <a:solidFill>
                <a:srgbClr val="000000"/>
              </a:solidFill>
              <a:latin typeface="Times New Roman"/>
            </a:endParaRPr>
          </a:p>
        </p:txBody>
      </p:sp>
      <p:pic>
        <p:nvPicPr>
          <p:cNvPr id="124" name="Picture 3" descr="http://www.medicijnen-op-maat.nl/images/epilep1.gif"/>
          <p:cNvPicPr/>
          <p:nvPr/>
        </p:nvPicPr>
        <p:blipFill>
          <a:blip r:embed="rId1"/>
          <a:stretch/>
        </p:blipFill>
        <p:spPr>
          <a:xfrm>
            <a:off x="1947960" y="2400480"/>
            <a:ext cx="5246640" cy="44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erste hulp bij epileptisch insult</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ervoor dat het slachtoffer zich niet kan verwond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aat toeschouwersop een afstand blijv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oud de schokkende bewegingen niet tege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aanval gaat vanzelf over</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lgt er gelijk weer één of meerdere aanvallen dan 112 bellen. Dit geldt ook als het de eerste grote aanval is of er zijn botbreuken of ander letsel ontstaan.</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 andere gevallen zonodig naar huis brengen en aanraden met de huisarts contact op te nem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ortsstuip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orzaak: snelle stijging van de lichaamstemperat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n: kind reageert met heftige schokken en trekkingen van de ledematen( ongeveer 1-3 minuten), daarna is het vaak suf Altijd een arts raadp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sstoornisse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http://www.youtube.com/watch?v=jM8_2mm0DMc&amp;feature=related EHBO bij epilepsie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    </a:t>
            </a:r>
            <a:r>
              <a:rPr b="0" lang="nl-NL" sz="1600" spc="-1" strike="noStrike">
                <a:solidFill>
                  <a:srgbClr val="000000"/>
                </a:solidFill>
                <a:latin typeface="Times New Roman"/>
              </a:rPr>
              <a:t>http://www.youtube.com/watch?v=L3qt-pgwHEU&amp;feature=related</a:t>
            </a:r>
            <a:r>
              <a:rPr b="0" lang="nl-NL" sz="3200" spc="-1" strike="noStrike">
                <a:solidFill>
                  <a:srgbClr val="000000"/>
                </a:solidFill>
                <a:latin typeface="Times New Roman"/>
              </a:rPr>
              <a:t>  </a:t>
            </a:r>
            <a:r>
              <a:rPr b="0" lang="nl-NL" sz="1600" spc="-1" strike="noStrike">
                <a:solidFill>
                  <a:srgbClr val="000000"/>
                </a:solidFill>
                <a:latin typeface="Times New Roman"/>
              </a:rPr>
              <a:t>Klokhuis  Epilepsi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Van buik naar rug en opzij(nieuwe methode)</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s://www.youtube.com/watch?v=xfNvew8nj-k  BHVstab zijligg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www.youtube.com/watch?v=HbCgG1hk1aE lachstoorni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door</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hedelletsel: gesloten of open schedelbreu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oed en/of hersenvocht uit de neus of een oor dan waarschijnlijk schedelbasisbreuk, er is dan ook vaak een brilhematoom te zi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kans op ook wervellets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oen het slachtoffer niet b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509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rilhematoom</a:t>
            </a:r>
            <a:endParaRPr b="0" lang="en-US" sz="4400" spc="-1" strike="noStrike">
              <a:solidFill>
                <a:srgbClr val="000000"/>
              </a:solidFill>
              <a:latin typeface="Times New Roman"/>
            </a:endParaRPr>
          </a:p>
        </p:txBody>
      </p:sp>
      <p:sp>
        <p:nvSpPr>
          <p:cNvPr id="48"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5"/>
          <p:cNvSpPr/>
          <p:nvPr/>
        </p:nvSpPr>
        <p:spPr>
          <a:xfrm>
            <a:off x="1897200" y="1336680"/>
            <a:ext cx="1850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52"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Picture 8" descr="http://t1.gstatic.com/images?q=tbn:ANd9GcQwl9oCiDPcQmUBmfanV3094zTbiQ1DXQDN0Hx4BRFG_3vQL3op">
            <a:hlinkClick r:id="rId1"/>
          </p:cNvPr>
          <p:cNvPicPr/>
          <p:nvPr/>
        </p:nvPicPr>
        <p:blipFill>
          <a:blip r:embed="rId2"/>
          <a:stretch/>
        </p:blipFill>
        <p:spPr>
          <a:xfrm>
            <a:off x="1922400" y="2084400"/>
            <a:ext cx="5126040" cy="384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euken geven bloeding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bloedverlies kan de ademhaling belemmer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Bij bewustzijn - het slachtoffer wat voorover laten buigen zodat het bloed niet ingeslikt wordt en misselijkheid en braken wordt voorkom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ok kan door beschadiging van de frontale hersenkwab onrust worden veroorzaak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aflei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gezichtsletsel </a:t>
            </a:r>
            <a:endParaRPr b="0" lang="en-US" sz="4400" spc="-1" strike="noStrike">
              <a:solidFill>
                <a:srgbClr val="000000"/>
              </a:solidFill>
              <a:latin typeface="Times New Roman"/>
            </a:endParaRPr>
          </a:p>
        </p:txBody>
      </p:sp>
      <p:sp>
        <p:nvSpPr>
          <p:cNvPr id="59"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5"/>
          <p:cNvSpPr/>
          <p:nvPr/>
        </p:nvSpPr>
        <p:spPr>
          <a:xfrm>
            <a:off x="2082960" y="1623960"/>
            <a:ext cx="12934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6"/>
          <p:cNvSpPr/>
          <p:nvPr/>
        </p:nvSpPr>
        <p:spPr>
          <a:xfrm>
            <a:off x="0" y="190512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64" name="Rectangle 2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18" descr="http://t1.gstatic.com/images?q=tbn:ANd9GcRRyA3bpjsLVUFRDnywFG2a1uSN353WJiv9kMd_1R_-KQQ6jMhivA">
            <a:hlinkClick r:id="rId1"/>
          </p:cNvPr>
          <p:cNvPicPr/>
          <p:nvPr/>
        </p:nvPicPr>
        <p:blipFill>
          <a:blip r:embed="rId2"/>
          <a:stretch/>
        </p:blipFill>
        <p:spPr>
          <a:xfrm>
            <a:off x="2443320" y="2666880"/>
            <a:ext cx="252072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chedelhersenletse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ans op een hersenschudding of zelfs een hersenkneuzing met als gevol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bewustzijnsverlies, -daling bij de kneuz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heugenverl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gestoord korte termijn geheugen, moeite met onthouden en steeds dezelfde vragen stelle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hoofdpijn en misselijkheid met kans op brak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iekte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cc"/>
                </a:solidFill>
                <a:latin typeface="Times New Roman"/>
              </a:rPr>
              <a:t>Beroerte</a:t>
            </a:r>
            <a:r>
              <a:rPr b="0" lang="nl-NL" sz="2800" spc="-1" strike="noStrike">
                <a:solidFill>
                  <a:srgbClr val="000000"/>
                </a:solidFill>
                <a:latin typeface="Times New Roman"/>
              </a:rPr>
              <a:t>: oorzaak hersenbloeding of een herseninfarc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Bloeding: plotseling hevige hoofdpijn, soms iets voelen knappen in het hoofd, kan bewusteloos raken, blazende ademhaling scheve mo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chten infarct: plotseling halfzijdige verlamming, spraakstoornissen, begrip is vaak ook gestoor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oen 112, geruststellen en uitleg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erseninfarct</a:t>
            </a:r>
            <a:endParaRPr b="0" lang="en-US" sz="4400" spc="-1" strike="noStrike">
              <a:solidFill>
                <a:srgbClr val="000000"/>
              </a:solidFill>
              <a:latin typeface="Times New Roman"/>
            </a:endParaRPr>
          </a:p>
        </p:txBody>
      </p:sp>
      <p:sp>
        <p:nvSpPr>
          <p:cNvPr id="73"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811080" y="1001880"/>
            <a:ext cx="185112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6"/>
          <p:cNvSpPr/>
          <p:nvPr/>
        </p:nvSpPr>
        <p:spPr>
          <a:xfrm>
            <a:off x="762120" y="2362320"/>
            <a:ext cx="8427960" cy="45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cc0000"/>
                </a:solidFill>
                <a:latin typeface="Times New Roman"/>
              </a:rPr>
              <a:t> </a:t>
            </a:r>
            <a:endParaRPr b="0" lang="en-US" sz="900" spc="-1" strike="noStrike">
              <a:solidFill>
                <a:srgbClr val="000000"/>
              </a:solidFill>
              <a:latin typeface="Times New Roman"/>
            </a:endParaRPr>
          </a:p>
        </p:txBody>
      </p:sp>
      <p:sp>
        <p:nvSpPr>
          <p:cNvPr id="78"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8" descr="http://t2.gstatic.com/images?q=tbn:ANd9GcQemQBquG-evCWPNqT3k3iTGjnbAmlxsWJcOLpIQ3U4ETxApOIY">
            <a:hlinkClick r:id="rId1"/>
          </p:cNvPr>
          <p:cNvPicPr/>
          <p:nvPr/>
        </p:nvPicPr>
        <p:blipFill>
          <a:blip r:embed="rId2"/>
          <a:stretch/>
        </p:blipFill>
        <p:spPr>
          <a:xfrm>
            <a:off x="1066680" y="2819520"/>
            <a:ext cx="2960640" cy="22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12:31:18Z</dcterms:created>
  <dc:creator>Agnieta</dc:creator>
  <dc:description/>
  <dc:language>en-US</dc:language>
  <cp:lastModifiedBy>Agnieta Swaving-Pikstra</cp:lastModifiedBy>
  <dcterms:modified xsi:type="dcterms:W3CDTF">2016-11-30T09:52:24Z</dcterms:modified>
  <cp:revision>15</cp:revision>
  <dc:subject/>
  <dc:title>Oorzaken van </dc:title>
</cp:coreProperties>
</file>