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711BB-B366-4295-8D57-03321B96C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2F807-8D42-4FAE-9CA6-6DB320052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8A7BD-7175-4CA8-9ED3-E9A77CE3A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BE9BD-055B-42AF-AFED-CFDF40E0F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82404-A80E-4EDF-9E01-ECB678B4D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F41C1-25B5-4B92-9388-BCB625C69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74F02-DC82-4381-9F14-E35C422C8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53528-9549-406B-8E88-FF356E0CC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158A6-E697-4C7E-88B8-F12CE6239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5E462-3119-4F70-9A07-B026CAB67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DBA77-E73A-4A2A-8AA1-2E5B853F4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B2F4D-6F63-41FC-AE43-4E701BF48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40277-8B39-406F-8D62-129909ACE89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nl/imgres?q=EHBO+verbanddozen&amp;hl=nl&amp;biw=927&amp;bih=772&amp;tbm=isch&amp;tbnid=ZNQXw2OoPBQtqM:&amp;imgrefurl=http://www.medicaleventsupport.nl/wordpress/wat-is-en-kan-mesh/&amp;docid=fNntGKGrA-wyhM&amp;imgurl=http://www.medicaleventsupport.nl/wordpress/wp-content/uploads/2012/05/ehbo.jpg&amp;w=1032&amp;h=733&amp;ei=jo9AUcDWEPOz0QWwzYHwAw&amp;zoom=1&amp;iact=hc&amp;vpx=347&amp;vpy=233&amp;dur=468&amp;hovh=189&amp;hovw=266&amp;tx=131&amp;ty=113&amp;page=2&amp;tbnh=136&amp;tbnw=191&amp;start=20&amp;ndsp=27&amp;ved=1t:429,r:22,s:0,i:14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UnfjLMy-DEU&amp;feature=related" TargetMode="External"/><Relationship Id="rId2" Type="http://schemas.openxmlformats.org/officeDocument/2006/relationships/hyperlink" Target="http://www.youtube.com/watch?v=UnfjLMy-DEU&amp;feature=related" TargetMode="External"/><Relationship Id="rId3" Type="http://schemas.openxmlformats.org/officeDocument/2006/relationships/hyperlink" Target="http://www.youtube.com/watch?v=OJwMtXS4b7A" TargetMode="External"/><Relationship Id="rId4" Type="http://schemas.openxmlformats.org/officeDocument/2006/relationships/hyperlink" Target="http://www.youtube.com/watch?v=OJwMtXS4b7A" TargetMode="External"/><Relationship Id="rId5" Type="http://schemas.openxmlformats.org/officeDocument/2006/relationships/hyperlink" Target="http://www.youtube.com/watch?feature=endscreen&amp;v=Sjz870KiSmY&amp;NR=1" TargetMode="External"/><Relationship Id="rId6" Type="http://schemas.openxmlformats.org/officeDocument/2006/relationships/hyperlink" Target="http://www.google.nl/imgres?q=zwachtels+soorten&amp;hl=nl&amp;biw=927&amp;bih=772&amp;tbm=isch&amp;tbnid=ebZHNWu-X3YLSM:&amp;imgrefurl=http://pijnstiller.hulpforum.nl/forum/viewtopic.php%3Ft%3D25353&amp;docid=34eJ1uKs0VdkqM&amp;imgurl=http://i129.photobucket.com/albums/p211/trudy_2007/fotospijnstiller2/help_01_03_014-300.jpg&amp;w=300&amp;h=227&amp;ei=oZ1AUaOxKeHJ0QX4n4CgBw&amp;zoom=1&amp;iact=hc&amp;vpx=640&amp;vpy=413&amp;dur=4531&amp;hovh=181&amp;hovw=240&amp;tx=98&amp;ty=68&amp;page=4&amp;tbnh=139&amp;tbnw=185&amp;start=79&amp;ndsp=29&amp;ved=1t:429,r:90,s:0,i:352" TargetMode="External"/><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hyperlink" Target="http://www.google.nl/imgres?q=verbandmiddelen&amp;hl=nl&amp;sa=X&amp;biw=927&amp;bih=772&amp;tbm=isch&amp;tbnid=nfwcw57CA5YdaM:&amp;imgrefurl=http://www.grotescheur.nl/wp6/2011/07/gaasjes/&amp;docid=57nFrvGe9gYkjM&amp;imgurl=http://www.grotescheur.nl/wp6/wp-content/uploads/2011/07/verbandmiddelen-013-gaas.jpg&amp;w=180&amp;h=180&amp;ei=iIZAUb26Lu6r0AXw_oHwBw&amp;zoom=1&amp;iact=hc&amp;vpx=135&amp;vpy=450&amp;dur=5469&amp;hovh=144&amp;hovw=144&amp;tx=89&amp;ty=93&amp;page=3&amp;tbnh=144&amp;tbnw=137&amp;start=44&amp;ndsp=26&amp;ved=1t:429,r:50,s:0,i:236" TargetMode="External"/><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bler.nl/Medias/Webshop1/Web/256081_a.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NL" sz="4400" spc="-1" strike="noStrike">
                <a:solidFill>
                  <a:srgbClr val="000000"/>
                </a:solidFill>
                <a:latin typeface="Times New Roman"/>
              </a:rPr>
              <a:t>Verbandmiddelen</a:t>
            </a:r>
            <a:br>
              <a:rPr sz="4400"/>
            </a:br>
            <a:r>
              <a:rPr b="0" lang="nl-NL" sz="4400" spc="-1" strike="noStrike">
                <a:solidFill>
                  <a:srgbClr val="000000"/>
                </a:solidFill>
                <a:latin typeface="Times New Roman"/>
              </a:rPr>
              <a:t>en</a:t>
            </a:r>
            <a:br>
              <a:rPr sz="4400"/>
            </a:br>
            <a:r>
              <a:rPr b="0" lang="nl-NL" sz="4400" spc="-1" strike="noStrike">
                <a:solidFill>
                  <a:srgbClr val="000000"/>
                </a:solidFill>
                <a:latin typeface="Times New Roman"/>
              </a:rPr>
              <a:t>Hulpmiddelen</a:t>
            </a:r>
            <a:endParaRPr b="0" lang="en-US" sz="4400" spc="-1" strike="noStrike">
              <a:solidFill>
                <a:srgbClr val="000000"/>
              </a:solidFill>
              <a:latin typeface="Times New Roman"/>
            </a:endParaRPr>
          </a:p>
        </p:txBody>
      </p:sp>
      <p:sp>
        <p:nvSpPr>
          <p:cNvPr id="42" name="Rectangle 4"/>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5"/>
          <p:cNvSpPr/>
          <p:nvPr/>
        </p:nvSpPr>
        <p:spPr>
          <a:xfrm>
            <a:off x="2597040" y="1630440"/>
            <a:ext cx="190044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6"/>
          <p:cNvSpPr/>
          <p:nvPr/>
        </p:nvSpPr>
        <p:spPr>
          <a:xfrm>
            <a:off x="8763120" y="640080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6" name="Rectangle 10"/>
          <p:cNvSpPr/>
          <p:nvPr/>
        </p:nvSpPr>
        <p:spPr>
          <a:xfrm>
            <a:off x="7666200" y="6469200"/>
            <a:ext cx="147780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8" descr="http://t3.gstatic.com/images?q=tbn:ANd9GcTEPc5zopQ-k2fBgM55RekFEA01EXgOOIN8SKr7kUDgnINwrnyNFA">
            <a:hlinkClick r:id="rId1"/>
          </p:cNvPr>
          <p:cNvPicPr/>
          <p:nvPr/>
        </p:nvPicPr>
        <p:blipFill>
          <a:blip r:embed="rId2"/>
          <a:stretch/>
        </p:blipFill>
        <p:spPr>
          <a:xfrm>
            <a:off x="2859120" y="4114800"/>
            <a:ext cx="342432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riekante doek voor o.a. Brede das, Mitella</a:t>
            </a:r>
            <a:br>
              <a:rPr sz="2000"/>
            </a:br>
            <a:r>
              <a:rPr b="0" lang="nl-NL" sz="2000" spc="-1" strike="noStrike" u="sng">
                <a:solidFill>
                  <a:srgbClr val="ccccff"/>
                </a:solidFill>
                <a:uFillTx/>
                <a:latin typeface="Times New Roman"/>
                <a:hlinkClick r:id="rId1"/>
              </a:rPr>
              <a:t>http://</a:t>
            </a:r>
            <a:r>
              <a:rPr b="0" lang="nl-NL" sz="2000" spc="-1" strike="noStrike" u="sng">
                <a:solidFill>
                  <a:srgbClr val="ccccff"/>
                </a:solidFill>
                <a:uFillTx/>
                <a:latin typeface="Times New Roman"/>
                <a:hlinkClick r:id="rId2"/>
              </a:rPr>
              <a:t>www.youtube.com/watch?v=UnfjLMy-DEU&amp;feature=related</a:t>
            </a:r>
            <a:br>
              <a:rPr sz="2000"/>
            </a:br>
            <a:r>
              <a:rPr b="0" lang="nl-NL" sz="2000" spc="-1" strike="noStrike" u="sng">
                <a:solidFill>
                  <a:srgbClr val="ccccff"/>
                </a:solidFill>
                <a:uFillTx/>
                <a:latin typeface="Times New Roman"/>
                <a:hlinkClick r:id="rId3"/>
              </a:rPr>
              <a:t>http://</a:t>
            </a:r>
            <a:r>
              <a:rPr b="0" lang="nl-NL" sz="2000" spc="-1" strike="noStrike" u="sng">
                <a:solidFill>
                  <a:srgbClr val="ccccff"/>
                </a:solidFill>
                <a:uFillTx/>
                <a:latin typeface="Times New Roman"/>
                <a:hlinkClick r:id="rId4"/>
              </a:rPr>
              <a:t>www.youtube.com/watch?v=OJwMtXS4b7A</a:t>
            </a:r>
            <a:r>
              <a:rPr b="0" lang="nl-NL" sz="2000" spc="-1" strike="noStrike">
                <a:solidFill>
                  <a:srgbClr val="000000"/>
                </a:solidFill>
                <a:latin typeface="Times New Roman"/>
              </a:rPr>
              <a:t>  </a:t>
            </a:r>
            <a:br>
              <a:rPr sz="2000"/>
            </a:br>
            <a:r>
              <a:rPr b="0" lang="nl-NL" sz="1800" spc="-1" strike="noStrike" u="sng">
                <a:solidFill>
                  <a:srgbClr val="ccccff"/>
                </a:solidFill>
                <a:uFillTx/>
                <a:latin typeface="Times New Roman"/>
                <a:hlinkClick r:id="rId5"/>
              </a:rPr>
              <a:t>http://www.youtube.com/watch?feature=endscreen&amp;v=Sjz870KiSmY&amp;NR=1</a:t>
            </a:r>
            <a:r>
              <a:rPr b="0" lang="nl-NL" sz="1800" spc="-1" strike="noStrike">
                <a:solidFill>
                  <a:srgbClr val="898989"/>
                </a:solidFill>
                <a:latin typeface="Times New Roman"/>
              </a:rPr>
              <a:t> </a:t>
            </a:r>
            <a:endParaRPr b="0" lang="en-US" sz="1800" spc="-1" strike="noStrike">
              <a:solidFill>
                <a:srgbClr val="000000"/>
              </a:solidFill>
              <a:latin typeface="Times New Roman"/>
            </a:endParaRPr>
          </a:p>
        </p:txBody>
      </p:sp>
      <p:sp>
        <p:nvSpPr>
          <p:cNvPr id="82"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4"/>
          <p:cNvSpPr/>
          <p:nvPr/>
        </p:nvSpPr>
        <p:spPr>
          <a:xfrm>
            <a:off x="4689360" y="2836800"/>
            <a:ext cx="171468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5"/>
          <p:cNvSpPr/>
          <p:nvPr/>
        </p:nvSpPr>
        <p:spPr>
          <a:xfrm>
            <a:off x="-46080" y="1773360"/>
            <a:ext cx="9082080" cy="5084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8"/>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86" name="Rectangle 9"/>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7" descr="http://t3.gstatic.com/images?q=tbn:ANd9GcSbPyEn3KpSgH_eRFXPCSxy04YQraJQlchI4uwkCRyFlcPIFxwn">
            <a:hlinkClick r:id="rId6"/>
          </p:cNvPr>
          <p:cNvPicPr/>
          <p:nvPr/>
        </p:nvPicPr>
        <p:blipFill>
          <a:blip r:embed="rId7"/>
          <a:stretch/>
        </p:blipFill>
        <p:spPr>
          <a:xfrm>
            <a:off x="1762200" y="2736720"/>
            <a:ext cx="4641840" cy="350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lpmiddelen </a:t>
            </a:r>
            <a:endParaRPr b="0" lang="en-US" sz="4400" spc="-1" strike="noStrike">
              <a:solidFill>
                <a:srgbClr val="000000"/>
              </a:solidFill>
              <a:latin typeface="Times New Roman"/>
            </a:endParaRPr>
          </a:p>
        </p:txBody>
      </p:sp>
      <p:pic>
        <p:nvPicPr>
          <p:cNvPr id="90" name="Picture 3" descr="http://www.bhv4all.nl/contents/media/verbandmiddelen_knop.jpg"/>
          <p:cNvPicPr/>
          <p:nvPr/>
        </p:nvPicPr>
        <p:blipFill>
          <a:blip r:embed="rId1"/>
          <a:stretch/>
        </p:blipFill>
        <p:spPr>
          <a:xfrm>
            <a:off x="0" y="0"/>
            <a:ext cx="1771560" cy="1314360"/>
          </a:xfrm>
          <a:prstGeom prst="rect">
            <a:avLst/>
          </a:prstGeom>
          <a:ln w="0">
            <a:noFill/>
          </a:ln>
        </p:spPr>
      </p:pic>
      <p:pic>
        <p:nvPicPr>
          <p:cNvPr id="91" name="Picture 4" descr="http://www.grotescheur.nl/wp6/wp-content/uploads/2011/07/verbandmiddelen-013-verbandschaar.jpg"/>
          <p:cNvPicPr/>
          <p:nvPr/>
        </p:nvPicPr>
        <p:blipFill>
          <a:blip r:embed="rId2"/>
          <a:stretch/>
        </p:blipFill>
        <p:spPr>
          <a:xfrm>
            <a:off x="6705720" y="0"/>
            <a:ext cx="2438280" cy="1819440"/>
          </a:xfrm>
          <a:prstGeom prst="rect">
            <a:avLst/>
          </a:prstGeom>
          <a:ln w="0">
            <a:noFill/>
          </a:ln>
        </p:spPr>
      </p:pic>
      <p:pic>
        <p:nvPicPr>
          <p:cNvPr id="92" name="Picture 5" descr="http://estvo.nl/images/t_160x1Verband hulpmiddelen set.jpg"/>
          <p:cNvPicPr/>
          <p:nvPr/>
        </p:nvPicPr>
        <p:blipFill>
          <a:blip r:embed="rId3"/>
          <a:stretch/>
        </p:blipFill>
        <p:spPr>
          <a:xfrm>
            <a:off x="31680" y="3429000"/>
            <a:ext cx="3657600" cy="3292560"/>
          </a:xfrm>
          <a:prstGeom prst="rect">
            <a:avLst/>
          </a:prstGeom>
          <a:ln w="0">
            <a:noFill/>
          </a:ln>
        </p:spPr>
      </p:pic>
      <p:pic>
        <p:nvPicPr>
          <p:cNvPr id="93" name="Picture 6" descr="http://www.maxprevent-shop.nl/data/upload/Shop/images/nitrilhandschoenen-1.jpg"/>
          <p:cNvPicPr/>
          <p:nvPr/>
        </p:nvPicPr>
        <p:blipFill>
          <a:blip r:embed="rId4"/>
          <a:stretch/>
        </p:blipFill>
        <p:spPr>
          <a:xfrm>
            <a:off x="5829480" y="3905280"/>
            <a:ext cx="3309840" cy="2949480"/>
          </a:xfrm>
          <a:prstGeom prst="rect">
            <a:avLst/>
          </a:prstGeom>
          <a:ln w="0">
            <a:noFill/>
          </a:ln>
        </p:spPr>
      </p:pic>
      <p:pic>
        <p:nvPicPr>
          <p:cNvPr id="94" name="Picture 8" descr="https://encrypted-tbn0.gstatic.com/images?q=tbn:ANd9GcQrJT_scURS8aeCR2JaetjyqbEG1c5vDx5jLMp3rYLqt53jrK8S"/>
          <p:cNvPicPr/>
          <p:nvPr/>
        </p:nvPicPr>
        <p:blipFill>
          <a:blip r:embed="rId5"/>
          <a:stretch/>
        </p:blipFill>
        <p:spPr>
          <a:xfrm>
            <a:off x="3281400" y="1603440"/>
            <a:ext cx="3044880" cy="225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lpmiddelen</a:t>
            </a:r>
            <a:endParaRPr b="0" lang="en-US" sz="4400" spc="-1" strike="noStrike">
              <a:solidFill>
                <a:srgbClr val="000000"/>
              </a:solidFill>
              <a:latin typeface="Times New Roman"/>
            </a:endParaRPr>
          </a:p>
        </p:txBody>
      </p:sp>
      <p:sp>
        <p:nvSpPr>
          <p:cNvPr id="96" name=""/>
          <p:cNvSpPr txBox="1"/>
          <p:nvPr/>
        </p:nvSpPr>
        <p:spPr>
          <a:xfrm>
            <a:off x="684360" y="1052640"/>
            <a:ext cx="7772400" cy="580536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uidontsmettingsmiddel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andschaar</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iligheidsspeld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kenpincet, tekentang</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plinterpincet</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renprikker</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ldpack</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kens: wollen -; isolatie -; blu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gwerphandschoe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beademingsmasker, beademingsdoekj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000000"/>
                </a:solidFill>
                <a:latin typeface="Arial"/>
              </a:rPr>
              <a:t>Huidontsmettingsmiddelen </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het reinigen van wonden volstaat schoon water. De huid rondom wonden mag schoon worden gemaakt met ontsmettingsmiddelen. Is geen water aanwezig dan kan ook de wond met ontsmettingsmiddel worden gereinig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ontsmettingsmiddelen in sprayvorm zijn ook uitstekend geschikt om de handen van de hulpverlener te ontsmetten.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idontsmettingsmiddelen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r zijn veel soorten ontsmettingsmiddelen op basis van chloorhexidine of alcohol. Veel van deze producten zijn eigenlijk niet geschikt voor </a:t>
            </a:r>
            <a:r>
              <a:rPr b="1" lang="nl-NL" sz="3200" spc="-1" strike="noStrike">
                <a:solidFill>
                  <a:srgbClr val="000000"/>
                </a:solidFill>
                <a:latin typeface="Arial"/>
              </a:rPr>
              <a:t>in </a:t>
            </a:r>
            <a:r>
              <a:rPr b="0" lang="nl-NL" sz="3200" spc="-1" strike="noStrike">
                <a:solidFill>
                  <a:srgbClr val="000000"/>
                </a:solidFill>
                <a:latin typeface="Arial"/>
              </a:rPr>
              <a:t>de wond, maar wel voor </a:t>
            </a:r>
            <a:r>
              <a:rPr b="1" lang="nl-NL" sz="3200" spc="-1" strike="noStrike">
                <a:solidFill>
                  <a:srgbClr val="000000"/>
                </a:solidFill>
                <a:latin typeface="Arial"/>
              </a:rPr>
              <a:t>rondom </a:t>
            </a:r>
            <a:r>
              <a:rPr b="0" lang="nl-NL" sz="3200" spc="-1" strike="noStrike">
                <a:solidFill>
                  <a:srgbClr val="000000"/>
                </a:solidFill>
                <a:latin typeface="Arial"/>
              </a:rPr>
              <a:t>de wond. De middelen kunnen pijnlijk zijn en mogelijk cellen beschadi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odium(tinctuur), dat bij gebruik in de wond pijnlijk is geeft wel kans op een allergische reactie</a:t>
            </a:r>
            <a:r>
              <a:rPr b="0" lang="nl-NL" sz="4400" spc="-1" strike="noStrike">
                <a:solidFill>
                  <a:srgbClr val="000000"/>
                </a:solidFill>
                <a:latin typeface="Arial"/>
              </a:rPr>
              <a:t>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ovidonjodium (Betadine: http://betadine.nl/) heeft deze negatieve effecten niet. Over allergische reacties bij povidonjodium bestaat een misverstand. Een allergie of huidirritatie komt zelden voor en dat geldt ondanks de naam povidonjodium ook bij mensen die overgevoelig zijn voor jodiu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http://www.pcsvleiderdorp.nl/kastanjelaan/uimages/verbandtrommel.jpg"/>
          <p:cNvPicPr/>
          <p:nvPr/>
        </p:nvPicPr>
        <p:blipFill>
          <a:blip r:embed="rId1"/>
          <a:stretch/>
        </p:blipFill>
        <p:spPr>
          <a:xfrm>
            <a:off x="3048120" y="1523880"/>
            <a:ext cx="4481280" cy="4878360"/>
          </a:xfrm>
          <a:prstGeom prst="rect">
            <a:avLst/>
          </a:prstGeom>
          <a:ln w="0">
            <a:noFill/>
          </a:ln>
        </p:spPr>
      </p:pic>
      <p:grpSp>
        <p:nvGrpSpPr>
          <p:cNvPr id="104" name="Group 12"/>
          <p:cNvGrpSpPr/>
          <p:nvPr/>
        </p:nvGrpSpPr>
        <p:grpSpPr>
          <a:xfrm>
            <a:off x="457200" y="0"/>
            <a:ext cx="3048120" cy="5519160"/>
            <a:chOff x="457200" y="0"/>
            <a:chExt cx="3048120" cy="5519160"/>
          </a:xfrm>
        </p:grpSpPr>
        <p:sp>
          <p:nvSpPr>
            <p:cNvPr id="105" name="Rectangle 11"/>
            <p:cNvSpPr/>
            <p:nvPr/>
          </p:nvSpPr>
          <p:spPr>
            <a:xfrm>
              <a:off x="457200" y="0"/>
              <a:ext cx="3048120" cy="280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Group 10"/>
            <p:cNvGrpSpPr/>
            <p:nvPr/>
          </p:nvGrpSpPr>
          <p:grpSpPr>
            <a:xfrm>
              <a:off x="457200" y="0"/>
              <a:ext cx="3048120" cy="5519160"/>
              <a:chOff x="457200" y="0"/>
              <a:chExt cx="3048120" cy="5519160"/>
            </a:xfrm>
          </p:grpSpPr>
          <p:sp>
            <p:nvSpPr>
              <p:cNvPr id="107" name="Rectangle 3"/>
              <p:cNvSpPr/>
              <p:nvPr/>
            </p:nvSpPr>
            <p:spPr>
              <a:xfrm>
                <a:off x="457200" y="0"/>
                <a:ext cx="304812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9"/>
              <p:cNvGrpSpPr/>
              <p:nvPr/>
            </p:nvGrpSpPr>
            <p:grpSpPr>
              <a:xfrm>
                <a:off x="457200" y="0"/>
                <a:ext cx="2514240" cy="5519160"/>
                <a:chOff x="457200" y="0"/>
                <a:chExt cx="2514240" cy="5519160"/>
              </a:xfrm>
            </p:grpSpPr>
            <p:sp>
              <p:nvSpPr>
                <p:cNvPr id="109" name="Rectangle 8"/>
                <p:cNvSpPr/>
                <p:nvPr/>
              </p:nvSpPr>
              <p:spPr>
                <a:xfrm>
                  <a:off x="457200" y="0"/>
                  <a:ext cx="2514240" cy="280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Group 7"/>
                <p:cNvGrpSpPr/>
                <p:nvPr/>
              </p:nvGrpSpPr>
              <p:grpSpPr>
                <a:xfrm>
                  <a:off x="457200" y="0"/>
                  <a:ext cx="2513160" cy="5519160"/>
                  <a:chOff x="457200" y="0"/>
                  <a:chExt cx="2513160" cy="5519160"/>
                </a:xfrm>
              </p:grpSpPr>
              <p:sp>
                <p:nvSpPr>
                  <p:cNvPr id="111" name="Rectangle 4"/>
                  <p:cNvSpPr/>
                  <p:nvPr/>
                </p:nvSpPr>
                <p:spPr>
                  <a:xfrm>
                    <a:off x="457200" y="0"/>
                    <a:ext cx="223488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
                  <p:cNvSpPr/>
                  <p:nvPr/>
                </p:nvSpPr>
                <p:spPr>
                  <a:xfrm>
                    <a:off x="457200" y="0"/>
                    <a:ext cx="2513160" cy="551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1e3c"/>
                        </a:solidFill>
                        <a:latin typeface="Arial"/>
                        <a:ea typeface="Arial"/>
                      </a:rPr>
                      <a:t>-wondsnelverband   </a:t>
                    </a:r>
                    <a:r>
                      <a:rPr b="0" lang="nl-NL" sz="22100" spc="-1" strike="noStrike">
                        <a:solidFill>
                          <a:srgbClr val="001e3c"/>
                        </a:solidFill>
                        <a:latin typeface="Arial"/>
                        <a:ea typeface="Arial"/>
                      </a:rPr>
                      <a:t> </a:t>
                    </a:r>
                    <a:r>
                      <a:rPr b="0" lang="nl-NL" sz="900" spc="-1" strike="noStrike">
                        <a:solidFill>
                          <a:srgbClr val="001e3c"/>
                        </a:solidFill>
                        <a:latin typeface="Arial"/>
                        <a:ea typeface="Arial"/>
                      </a:rPr>
                      <a:t>                                                                                                    </a:t>
                    </a:r>
                    <a:br>
                      <a:rPr sz="900"/>
                    </a:br>
                    <a:r>
                      <a:rPr b="0" lang="nl-NL" sz="900" spc="-1" strike="noStrike">
                        <a:solidFill>
                          <a:srgbClr val="001e3c"/>
                        </a:solidFill>
                        <a:latin typeface="Arial"/>
                        <a:ea typeface="Arial"/>
                      </a:rPr>
                      <a:t>-verbandschaar</a:t>
                    </a:r>
                    <a:br>
                      <a:rPr sz="900"/>
                    </a:br>
                    <a:r>
                      <a:rPr b="0" lang="nl-NL" sz="900" spc="-1" strike="noStrike">
                        <a:solidFill>
                          <a:srgbClr val="001e3c"/>
                        </a:solidFill>
                        <a:latin typeface="Arial"/>
                        <a:ea typeface="Arial"/>
                      </a:rPr>
                      <a:t>-veiligheidsspeld</a:t>
                    </a:r>
                    <a:br>
                      <a:rPr sz="900"/>
                    </a:br>
                    <a:r>
                      <a:rPr b="0" lang="nl-NL" sz="900" spc="-1" strike="noStrike">
                        <a:solidFill>
                          <a:srgbClr val="001e3c"/>
                        </a:solidFill>
                        <a:latin typeface="Arial"/>
                        <a:ea typeface="Arial"/>
                      </a:rPr>
                      <a:t>-watten</a:t>
                    </a:r>
                    <a:br>
                      <a:rPr sz="900"/>
                    </a:br>
                    <a:r>
                      <a:rPr b="0" lang="nl-NL" sz="900" spc="-1" strike="noStrike">
                        <a:solidFill>
                          <a:srgbClr val="001e3c"/>
                        </a:solidFill>
                        <a:latin typeface="Arial"/>
                        <a:ea typeface="Arial"/>
                      </a:rPr>
                      <a:t>-driekante doek</a:t>
                    </a:r>
                    <a:br>
                      <a:rPr sz="900"/>
                    </a:br>
                    <a:r>
                      <a:rPr b="0" lang="nl-NL" sz="900" spc="-1" strike="noStrike">
                        <a:solidFill>
                          <a:srgbClr val="001e3c"/>
                        </a:solidFill>
                        <a:latin typeface="Arial"/>
                        <a:ea typeface="Arial"/>
                      </a:rPr>
                      <a:t>-zwachtel</a:t>
                    </a:r>
                    <a:br>
                      <a:rPr sz="900"/>
                    </a:br>
                    <a:r>
                      <a:rPr b="0" lang="nl-NL" sz="900" spc="-1" strike="noStrike">
                        <a:solidFill>
                          <a:srgbClr val="001e3c"/>
                        </a:solidFill>
                        <a:latin typeface="Arial"/>
                        <a:ea typeface="Arial"/>
                      </a:rPr>
                      <a:t>-steriel gaas</a:t>
                    </a:r>
                    <a:br>
                      <a:rPr sz="900"/>
                    </a:br>
                    <a:r>
                      <a:rPr b="0" lang="nl-NL" sz="900" spc="-1" strike="noStrike">
                        <a:solidFill>
                          <a:srgbClr val="001e3c"/>
                        </a:solidFill>
                        <a:latin typeface="Arial"/>
                        <a:ea typeface="Arial"/>
                      </a:rPr>
                      <a:t>-pincet</a:t>
                    </a:r>
                    <a:br>
                      <a:rPr sz="900"/>
                    </a:br>
                    <a:r>
                      <a:rPr b="0" lang="nl-NL" sz="900" spc="-1" strike="noStrike">
                        <a:solidFill>
                          <a:srgbClr val="001e3c"/>
                        </a:solidFill>
                        <a:latin typeface="Arial"/>
                        <a:ea typeface="Arial"/>
                      </a:rPr>
                      <a:t>-snelverband</a:t>
                    </a:r>
                    <a:br>
                      <a:rPr sz="900"/>
                    </a:br>
                    <a:r>
                      <a:rPr b="0" lang="nl-NL" sz="900" spc="-1" strike="noStrike">
                        <a:solidFill>
                          <a:srgbClr val="001e3c"/>
                        </a:solidFill>
                        <a:latin typeface="Arial"/>
                        <a:ea typeface="Arial"/>
                      </a:rPr>
                      <a:t>-metallineverband</a:t>
                    </a:r>
                    <a:br>
                      <a:rPr sz="900"/>
                    </a:br>
                    <a:r>
                      <a:rPr b="0" lang="nl-NL" sz="900" spc="-1" strike="noStrike">
                        <a:solidFill>
                          <a:srgbClr val="001e3c"/>
                        </a:solidFill>
                        <a:latin typeface="Arial"/>
                        <a:ea typeface="Arial"/>
                      </a:rPr>
                      <a:t>-wondpleister</a:t>
                    </a:r>
                    <a:br>
                      <a:rPr sz="900"/>
                    </a:br>
                    <a:r>
                      <a:rPr b="0" lang="nl-NL" sz="900" spc="-1" strike="noStrike">
                        <a:solidFill>
                          <a:srgbClr val="001e3c"/>
                        </a:solidFill>
                        <a:latin typeface="Arial"/>
                        <a:ea typeface="Arial"/>
                      </a:rPr>
                      <a:t>-kleefpleister</a:t>
                    </a:r>
                    <a:br>
                      <a:rPr sz="900"/>
                    </a:br>
                    <a:r>
                      <a:rPr b="0" lang="nl-NL" sz="900" spc="-1" strike="noStrike">
                        <a:solidFill>
                          <a:srgbClr val="001e3c"/>
                        </a:solidFill>
                        <a:latin typeface="Arial"/>
                        <a:ea typeface="Arial"/>
                      </a:rPr>
                      <a:t>-huidontsmettingsmiddel</a:t>
                    </a:r>
                    <a:br>
                      <a:rPr sz="900"/>
                    </a:br>
                    <a:endParaRPr b="0" lang="en-US" sz="9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 van verbanden</a:t>
            </a:r>
            <a:endParaRPr b="0" lang="en-US"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dekken van wond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perken van bloedverl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ven van rust en steu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leggen verbanden</a:t>
            </a:r>
            <a:endParaRPr b="0" lang="en-US" sz="4400" spc="-1" strike="noStrike">
              <a:solidFill>
                <a:srgbClr val="000000"/>
              </a:solidFill>
              <a:latin typeface="Times New Roman"/>
            </a:endParaRPr>
          </a:p>
        </p:txBody>
      </p:sp>
      <p:sp>
        <p:nvSpPr>
          <p:cNvPr id="116" name=""/>
          <p:cNvSpPr txBox="1"/>
          <p:nvPr/>
        </p:nvSpPr>
        <p:spPr>
          <a:xfrm>
            <a:off x="611280" y="1628640"/>
            <a:ext cx="7772400" cy="4896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Snelverb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xa04ZF9rS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members.home.nl/jsommeling/snelverband.ht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chd.nl/nl/video/video/video_id,22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lvoorl.nl/content/snelverband-aanleggen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wonddrukver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mDLxxBhieC8&amp;feature=relate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ngerver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KO0wgN0WWc&amp;feature=watch-vrec </a:t>
            </a:r>
            <a:endParaRPr b="0"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Times New Roman"/>
              </a:rPr>
              <a:t>http://www.youtube.com/watch?feature=player_detailpage&amp;v=-KO0wgN0WWc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http://www.herbe.nl/herbe/images/lib/ecommerce/Verbandmiddelen.jpg"/>
          <p:cNvPicPr/>
          <p:nvPr/>
        </p:nvPicPr>
        <p:blipFill>
          <a:blip r:embed="rId1"/>
          <a:stretch/>
        </p:blipFill>
        <p:spPr>
          <a:xfrm>
            <a:off x="4800600" y="4419720"/>
            <a:ext cx="3886200" cy="1923840"/>
          </a:xfrm>
          <a:prstGeom prst="rect">
            <a:avLst/>
          </a:prstGeom>
          <a:ln w="0">
            <a:noFill/>
          </a:ln>
        </p:spPr>
      </p:pic>
      <p:pic>
        <p:nvPicPr>
          <p:cNvPr id="50" name="Picture 4" descr="http://www.dierenstages.nl/images/verbandmiddelen_140.jpg"/>
          <p:cNvPicPr/>
          <p:nvPr/>
        </p:nvPicPr>
        <p:blipFill>
          <a:blip r:embed="rId2"/>
          <a:stretch/>
        </p:blipFill>
        <p:spPr>
          <a:xfrm>
            <a:off x="819000" y="1371600"/>
            <a:ext cx="2305080" cy="2666880"/>
          </a:xfrm>
          <a:prstGeom prst="rect">
            <a:avLst/>
          </a:prstGeom>
          <a:ln w="0">
            <a:noFill/>
          </a:ln>
        </p:spPr>
      </p:pic>
      <p:pic>
        <p:nvPicPr>
          <p:cNvPr id="51" name="Picture 7" descr="Bhv verbandkoffer"/>
          <p:cNvPicPr/>
          <p:nvPr/>
        </p:nvPicPr>
        <p:blipFill>
          <a:blip r:embed="rId3"/>
          <a:stretch/>
        </p:blipFill>
        <p:spPr>
          <a:xfrm>
            <a:off x="4572000" y="990720"/>
            <a:ext cx="2149560" cy="214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oorten verbandmaterial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die op de wond komen: het dekverban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waarmee een dekverband vastgelegd kan word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waarmee aan het gewonde lichaamsdeel steun gegeven kan word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mige materialen zijn een combinatie van deze soorte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kverband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lijk is een los niet-verklevend kompres/gaas het enige pure dekverband dat we gebruik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ndpleister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nd)snelverban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deze materialen gaat het om het afdekken van de wond, maar ze hebben tegelijk de mogelijkheid het wondkussen vast te leggen.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kverband</a:t>
            </a:r>
            <a:endParaRPr b="0" lang="en-US" sz="4400" spc="-1" strike="noStrike">
              <a:solidFill>
                <a:srgbClr val="000000"/>
              </a:solidFill>
              <a:latin typeface="Times New Roman"/>
            </a:endParaRPr>
          </a:p>
        </p:txBody>
      </p:sp>
      <p:pic>
        <p:nvPicPr>
          <p:cNvPr id="57" name="Picture 3" descr="http://www.alberts-onderwijs.nl/content/files/images/ProductImages/medium/45164_3.jpg"/>
          <p:cNvPicPr/>
          <p:nvPr/>
        </p:nvPicPr>
        <p:blipFill>
          <a:blip r:embed="rId1"/>
          <a:stretch/>
        </p:blipFill>
        <p:spPr>
          <a:xfrm>
            <a:off x="304920" y="762120"/>
            <a:ext cx="2666880" cy="2057400"/>
          </a:xfrm>
          <a:prstGeom prst="rect">
            <a:avLst/>
          </a:prstGeom>
          <a:ln w="0">
            <a:noFill/>
          </a:ln>
        </p:spPr>
      </p:pic>
      <p:pic>
        <p:nvPicPr>
          <p:cNvPr id="58" name="Picture 4" descr="http://www.bloeddrukmeters.nu/media/catalog/product/cache/2/small_image/190x190/9df78eab33525d08d6e5fb8d27136e95/s/n/snelverband12x12.jpg"/>
          <p:cNvPicPr/>
          <p:nvPr/>
        </p:nvPicPr>
        <p:blipFill>
          <a:blip r:embed="rId2"/>
          <a:stretch/>
        </p:blipFill>
        <p:spPr>
          <a:xfrm>
            <a:off x="6189840" y="304920"/>
            <a:ext cx="2979720" cy="2979720"/>
          </a:xfrm>
          <a:prstGeom prst="rect">
            <a:avLst/>
          </a:prstGeom>
          <a:ln w="0">
            <a:noFill/>
          </a:ln>
        </p:spPr>
      </p:pic>
      <p:pic>
        <p:nvPicPr>
          <p:cNvPr id="59" name="Picture 5" descr="http://www.beautywaves.nl/20-category/verbandmiddelen.jpg"/>
          <p:cNvPicPr/>
          <p:nvPr/>
        </p:nvPicPr>
        <p:blipFill>
          <a:blip r:embed="rId3"/>
          <a:stretch/>
        </p:blipFill>
        <p:spPr>
          <a:xfrm>
            <a:off x="-1895400" y="4191120"/>
            <a:ext cx="7167600" cy="2333520"/>
          </a:xfrm>
          <a:prstGeom prst="rect">
            <a:avLst/>
          </a:prstGeom>
          <a:ln w="0">
            <a:noFill/>
          </a:ln>
        </p:spPr>
      </p:pic>
      <p:sp>
        <p:nvSpPr>
          <p:cNvPr id="60" name="Rectangle 6"/>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7"/>
          <p:cNvSpPr/>
          <p:nvPr/>
        </p:nvSpPr>
        <p:spPr>
          <a:xfrm>
            <a:off x="1082520" y="3084480"/>
            <a:ext cx="11430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1"/>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63" name="Rectangle 12"/>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3"/>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Picture 10" descr="http://t0.gstatic.com/images?q=tbn:ANd9GcRBWvr3VnVfTy5NKz0Z86HYtSoX932pFLlnF-cCfnigK1eIh3ZW">
            <a:hlinkClick r:id="rId4"/>
          </p:cNvPr>
          <p:cNvPicPr/>
          <p:nvPr/>
        </p:nvPicPr>
        <p:blipFill>
          <a:blip r:embed="rId5"/>
          <a:stretch/>
        </p:blipFill>
        <p:spPr>
          <a:xfrm>
            <a:off x="3549600" y="1676520"/>
            <a:ext cx="2043000" cy="2043000"/>
          </a:xfrm>
          <a:prstGeom prst="rect">
            <a:avLst/>
          </a:prstGeom>
          <a:ln w="0">
            <a:noFill/>
          </a:ln>
        </p:spPr>
      </p:pic>
      <p:pic>
        <p:nvPicPr>
          <p:cNvPr id="66" name="Picture 14" descr="http://www.grotescheur.nl/wp6/wp-content/uploads/2011/08/verbandmiddelen-013-wondsnelverband.jpg"/>
          <p:cNvPicPr/>
          <p:nvPr/>
        </p:nvPicPr>
        <p:blipFill>
          <a:blip r:embed="rId6"/>
          <a:stretch/>
        </p:blipFill>
        <p:spPr>
          <a:xfrm>
            <a:off x="5562720" y="419112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bandgazen </a:t>
            </a:r>
            <a:endParaRPr b="0" lang="en-US" sz="4400" spc="-1" strike="noStrike">
              <a:solidFill>
                <a:srgbClr val="000000"/>
              </a:solidFill>
              <a:latin typeface="Times New Roman"/>
            </a:endParaRPr>
          </a:p>
        </p:txBody>
      </p:sp>
      <p:pic>
        <p:nvPicPr>
          <p:cNvPr id="68" name="Picture 4" descr="gaaskompressen, steriel 1/16">
            <a:hlinkClick r:id="rId2"/>
          </p:cNvPr>
          <p:cNvPicPr/>
          <p:nvPr/>
        </p:nvPicPr>
        <p:blipFill>
          <a:blip r:embed="rId3"/>
          <a:stretch/>
        </p:blipFill>
        <p:spPr>
          <a:xfrm>
            <a:off x="762120" y="1295280"/>
            <a:ext cx="2286000" cy="1635120"/>
          </a:xfrm>
          <a:prstGeom prst="rect">
            <a:avLst/>
          </a:prstGeom>
          <a:ln w="0">
            <a:noFill/>
          </a:ln>
        </p:spPr>
      </p:pic>
      <p:pic>
        <p:nvPicPr>
          <p:cNvPr id="69" name="Picture 5" descr="http://www.maxprevent-shop.nl/data/upload/Shop/images/maxpreventimage00114.jpg"/>
          <p:cNvPicPr/>
          <p:nvPr/>
        </p:nvPicPr>
        <p:blipFill>
          <a:blip r:embed="rId4"/>
          <a:stretch/>
        </p:blipFill>
        <p:spPr>
          <a:xfrm>
            <a:off x="4419720" y="3657600"/>
            <a:ext cx="4376520" cy="2903400"/>
          </a:xfrm>
          <a:prstGeom prst="rect">
            <a:avLst/>
          </a:prstGeom>
          <a:ln w="0">
            <a:noFill/>
          </a:ln>
        </p:spPr>
      </p:pic>
      <p:pic>
        <p:nvPicPr>
          <p:cNvPr id="70" name="Picture 6" descr="http://www.bhvstore.nl/media/catalog/product/cache/1/image/500x500/9df78eab33525d08d6e5fb8d27136e95/o/n/onsteriel-gaaskompres-5-x-5-cm.jpg"/>
          <p:cNvPicPr/>
          <p:nvPr/>
        </p:nvPicPr>
        <p:blipFill>
          <a:blip r:embed="rId5"/>
          <a:stretch/>
        </p:blipFill>
        <p:spPr>
          <a:xfrm>
            <a:off x="152280" y="3809880"/>
            <a:ext cx="2857680" cy="2857680"/>
          </a:xfrm>
          <a:prstGeom prst="rect">
            <a:avLst/>
          </a:prstGeom>
          <a:ln w="0">
            <a:noFill/>
          </a:ln>
        </p:spPr>
      </p:pic>
      <p:pic>
        <p:nvPicPr>
          <p:cNvPr id="71" name="Picture 7" descr="http://www.eerstehulpwiki.nl/wiki/images/thumb/0/0d/Sterielgaas.jpg/200px-Sterielgaas.jpg"/>
          <p:cNvPicPr/>
          <p:nvPr/>
        </p:nvPicPr>
        <p:blipFill>
          <a:blip r:embed="rId6"/>
          <a:stretch/>
        </p:blipFill>
        <p:spPr>
          <a:xfrm>
            <a:off x="5105520" y="121932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ten, witten en synthetische</a:t>
            </a:r>
            <a:endParaRPr b="0" lang="en-US" sz="4400" spc="-1" strike="noStrike">
              <a:solidFill>
                <a:srgbClr val="000000"/>
              </a:solidFill>
              <a:latin typeface="Times New Roman"/>
            </a:endParaRPr>
          </a:p>
        </p:txBody>
      </p:sp>
      <p:pic>
        <p:nvPicPr>
          <p:cNvPr id="73" name="Picture 9" descr="http://www.microwebedu.nl/photos/large/1017.jpg"/>
          <p:cNvPicPr/>
          <p:nvPr/>
        </p:nvPicPr>
        <p:blipFill>
          <a:blip r:embed="rId1"/>
          <a:stretch/>
        </p:blipFill>
        <p:spPr>
          <a:xfrm>
            <a:off x="0" y="1905120"/>
            <a:ext cx="3309840" cy="2481120"/>
          </a:xfrm>
          <a:prstGeom prst="rect">
            <a:avLst/>
          </a:prstGeom>
          <a:ln w="0">
            <a:noFill/>
          </a:ln>
        </p:spPr>
      </p:pic>
      <p:pic>
        <p:nvPicPr>
          <p:cNvPr id="74" name="Picture 11" descr="http://www.grotescheur.nl/wp6/wp-content/uploads/2011/03/ehbo-032-synthetische-watten.jpg"/>
          <p:cNvPicPr/>
          <p:nvPr/>
        </p:nvPicPr>
        <p:blipFill>
          <a:blip r:embed="rId2"/>
          <a:stretch/>
        </p:blipFill>
        <p:spPr>
          <a:xfrm>
            <a:off x="3962520" y="2598840"/>
            <a:ext cx="5181480" cy="425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leefpleister</a:t>
            </a:r>
            <a:endParaRPr b="0" lang="en-US" sz="4400" spc="-1" strike="noStrike">
              <a:solidFill>
                <a:srgbClr val="000000"/>
              </a:solidFill>
              <a:latin typeface="Times New Roman"/>
            </a:endParaRPr>
          </a:p>
        </p:txBody>
      </p:sp>
      <p:pic>
        <p:nvPicPr>
          <p:cNvPr id="76" name="Picture 3" descr="http://www.fisher-group.com/onlinewebshop/media/catalog/product/cache/1/image/9df78eab33525d08d6e5fb8d27136e95/a/f/afbeeldingM-1009__8.jpg"/>
          <p:cNvPicPr/>
          <p:nvPr/>
        </p:nvPicPr>
        <p:blipFill>
          <a:blip r:embed="rId1"/>
          <a:stretch/>
        </p:blipFill>
        <p:spPr>
          <a:xfrm>
            <a:off x="4915080" y="3886200"/>
            <a:ext cx="4228920" cy="2732040"/>
          </a:xfrm>
          <a:prstGeom prst="rect">
            <a:avLst/>
          </a:prstGeom>
          <a:ln w="0">
            <a:noFill/>
          </a:ln>
        </p:spPr>
      </p:pic>
      <p:pic>
        <p:nvPicPr>
          <p:cNvPr id="77" name="Picture 10" descr="http://ehbo-voor-iedereen.jouwweb.nl/upload/1/c/3/ehbo-voor-iedereen/kleefpleister.large.jpg"/>
          <p:cNvPicPr/>
          <p:nvPr/>
        </p:nvPicPr>
        <p:blipFill>
          <a:blip r:embed="rId2"/>
          <a:stretch/>
        </p:blipFill>
        <p:spPr>
          <a:xfrm>
            <a:off x="304920" y="1143000"/>
            <a:ext cx="4451400" cy="29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4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wachtels, hydrofiele en elastische</a:t>
            </a:r>
            <a:endParaRPr b="0" lang="en-US" sz="4400" spc="-1" strike="noStrike">
              <a:solidFill>
                <a:srgbClr val="000000"/>
              </a:solidFill>
              <a:latin typeface="Times New Roman"/>
            </a:endParaRPr>
          </a:p>
        </p:txBody>
      </p:sp>
      <p:pic>
        <p:nvPicPr>
          <p:cNvPr id="79" name="Picture 3" descr="http://www.zorginbeeld.nl/wp-content/gallery/zorginbeeld/verbandrol%206-1.jpg"/>
          <p:cNvPicPr/>
          <p:nvPr/>
        </p:nvPicPr>
        <p:blipFill>
          <a:blip r:embed="rId1"/>
          <a:stretch/>
        </p:blipFill>
        <p:spPr>
          <a:xfrm>
            <a:off x="228600" y="3068640"/>
            <a:ext cx="3892680" cy="2873520"/>
          </a:xfrm>
          <a:prstGeom prst="rect">
            <a:avLst/>
          </a:prstGeom>
          <a:ln w="0">
            <a:noFill/>
          </a:ln>
        </p:spPr>
      </p:pic>
      <p:pic>
        <p:nvPicPr>
          <p:cNvPr id="80" name="Picture 4" descr="http://seniorennet.nl/Pages/Nuttige_telefoonnummers/images/zwachtel1.jpg"/>
          <p:cNvPicPr/>
          <p:nvPr/>
        </p:nvPicPr>
        <p:blipFill>
          <a:blip r:embed="rId2"/>
          <a:stretch/>
        </p:blipFill>
        <p:spPr>
          <a:xfrm>
            <a:off x="5003640" y="2060640"/>
            <a:ext cx="3821400" cy="38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2T20:42:49Z</dcterms:created>
  <dc:creator>Agnieta</dc:creator>
  <dc:description/>
  <dc:language>en-US</dc:language>
  <cp:lastModifiedBy>Swaving-Pikstra,A.J.A.</cp:lastModifiedBy>
  <dcterms:modified xsi:type="dcterms:W3CDTF">2016-01-11T11:55:02Z</dcterms:modified>
  <cp:revision>16</cp:revision>
  <dc:subject/>
  <dc:title> Verbandmiddelen en Hulpmiddelen</dc:title>
</cp:coreProperties>
</file>