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9277A-8A6E-4F1D-8656-499BD1E972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2302A-420D-4A34-B302-ADD0F8793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5BD26-3387-4722-A707-9C1E706FF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767509-5DB7-4A4A-B3F8-6231DFDF2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B378A-2184-4DBE-BC14-922E4E99D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AB388-C59B-43D4-B253-2633BB1F1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0C4A6-FD51-48CF-98D9-0B775CB9F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07D0F-20C1-46C8-9F55-EE7FD00E6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3835C-132D-4794-9B7B-3F4C8DABE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35C53-4EF1-4C48-9FA4-440D16EDD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F46A6-29E9-4040-A652-62E19D453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C1ECB-62A9-4FF0-A29E-D58A282C13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060AA-00CF-46C6-88C8-34C1D1AAB44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hetvlaamsekruis.be/ehbo_info/cursus/08_Inwendige_aandoeningen/Suikerziekte.htm"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plaats.nl/gemeente-veldhoven/videos/Hcs_T5mg7Aw/bhv.nl-demonstreert-een-flauwte/"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google.nl/imgres?q=flauwte&amp;hl=nl&amp;biw=1009&amp;bih=610&amp;tbm=isch&amp;tbnid=DcZvOHmPfXNnAM:&amp;imgrefurl=http://www.hetvlaamsekruis.be/ehbo_info/cursus/08_Inwendige_aandoeningen/flauwte.htm&amp;docid=c3FlkRR4VIBXGM&amp;imgurl=http://www.hetvlaamsekruis.be/ehbo_info/cursus/08_Inwendige_aandoeningen/flauwte.jpg&amp;w=699&amp;h=443&amp;ei=1CZ3UPepGorE0QXei4GgCA&amp;zoom=1&amp;iact=hc&amp;vpx=411&amp;vpy=107&amp;dur=6500&amp;hovh=179&amp;hovw=282&amp;tx=124&amp;ty=97&amp;sig=110308519874302738132&amp;page=1&amp;tbnh=99&amp;tbnw=156&amp;start=0&amp;ndsp=15&amp;ved=1t:429,r:7,s:0,i:104"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plaats.nl/gemeente-veldhoven/videos/5AtB5Fec1-8/bhv.nl-demonstreert-een-epileptische-aanval./" TargetMode="External"/><Relationship Id="rId2" Type="http://schemas.openxmlformats.org/officeDocument/2006/relationships/hyperlink" Target="http://www.plaats.nl/gemeente-veldhoven/videos/j2MUnByfSUQ/epileptic-fit----epilepticky-zachvat/"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google.nl/imgres?q=open+schedelbreuk&amp;hl=nl&amp;sa=X&amp;biw=1009&amp;bih=610&amp;tbm=isch&amp;prmd=imvns&amp;tbnid=gli92R13TSBu1M:&amp;imgrefurl=http://spoed.wordpress.com/2010/12/30/letsel-aan-het/&amp;docid=8Q1nFP-fug7SiM&amp;imgurl=http://i13.photobucket.com/albums/a254/KEUKENETTE/recooneyes.jpg&amp;w=640&amp;h=480&amp;ei=O9xyUNupDIiO0AXYqYGQDw&amp;zoom=1&amp;iact=hc&amp;vpx=249&amp;vpy=189&amp;dur=6672&amp;hovh=194&amp;hovw=259&amp;tx=103&amp;ty=100&amp;sig=110308519874302738132&amp;page=1&amp;tbnh=114&amp;tbnw=152&amp;start=0&amp;ndsp=15&amp;ved=1t:429,r:1,s:0,i:77"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nl/imgres?q=aangezichtsletsel&amp;hl=nl&amp;biw=1009&amp;bih=610&amp;tbm=isch&amp;tbnid=J8PRZEk4AYO_HM:&amp;imgrefurl=http://www.lotuskringwestbrabant.nl/lesavonden/20060419_aangezichtsletsels.php&amp;docid=FLZzvfhduY0n2M&amp;imgurl=http://www.lotuskringwestbrabant.nl/afbeeldingen/aangezichtsletsel_3.jpg&amp;w=259&amp;h=400&amp;ei=yd5yUK-CN4Wb1AWY74CIBw&amp;zoom=1"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google.nl/imgres?q=beroerte+gezicht&amp;start=290&amp;hl=nl&amp;biw=1009&amp;bih=610&amp;tbm=isch&amp;tbnid=evz-bPFHFr5iaM:&amp;imgrefurl=http://plazilla.com/herken-een-beroerte-doe-de-plat-test&amp;docid=u2jWH4iS15kzfM&amp;imgurl=http://plzcdn.com/resize/500-500/upload/2301a7bdda1dd4a4b0767fdbdfe911cecmVjb2duaXNlLXN0cm9rZS5qcGc%253D.jpg&amp;w=325&amp;h=245&amp;ei=buRyUPL9PIeX1AWipYDYDQ&amp;zoom=1&amp;iact=hc&amp;vpx=97&amp;vpy=139&amp;dur=3109&amp;hovh=195&amp;hovw=259&amp;tx=148&amp;ty=123&amp;sig=110308519874302738132&amp;page=15&amp;tbnh=133&amp;tbnw=176&amp;ndsp=20&amp;ved=1t:429,r:10,s:290,i:38"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3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orzaken van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66ff"/>
                </a:solidFill>
                <a:latin typeface="Times New Roman"/>
              </a:rPr>
              <a:t>Bewustzijnsstoorniss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demhalingsstoorniss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irculatiestoornisse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3333cc"/>
                </a:solidFill>
                <a:latin typeface="Times New Roman"/>
              </a:rPr>
              <a:t>F</a:t>
            </a:r>
            <a:r>
              <a:rPr b="0" lang="nl-NL" sz="4400" spc="-1" strike="noStrike">
                <a:solidFill>
                  <a:srgbClr val="000000"/>
                </a:solidFill>
                <a:latin typeface="Times New Roman"/>
              </a:rPr>
              <a:t>ace </a:t>
            </a:r>
            <a:r>
              <a:rPr b="0" lang="nl-NL" sz="4400" spc="-1" strike="noStrike">
                <a:solidFill>
                  <a:srgbClr val="3333cc"/>
                </a:solidFill>
                <a:latin typeface="Times New Roman"/>
              </a:rPr>
              <a:t>A</a:t>
            </a:r>
            <a:r>
              <a:rPr b="0" lang="nl-NL" sz="4400" spc="-1" strike="noStrike">
                <a:solidFill>
                  <a:srgbClr val="000000"/>
                </a:solidFill>
                <a:latin typeface="Times New Roman"/>
              </a:rPr>
              <a:t>rm </a:t>
            </a:r>
            <a:r>
              <a:rPr b="0" lang="nl-NL" sz="4400" spc="-1" strike="noStrike">
                <a:solidFill>
                  <a:srgbClr val="3333cc"/>
                </a:solidFill>
                <a:latin typeface="Times New Roman"/>
              </a:rPr>
              <a:t>S</a:t>
            </a:r>
            <a:r>
              <a:rPr b="0" lang="nl-NL" sz="4400" spc="-1" strike="noStrike">
                <a:solidFill>
                  <a:srgbClr val="000000"/>
                </a:solidFill>
                <a:latin typeface="Times New Roman"/>
              </a:rPr>
              <a:t>peech </a:t>
            </a:r>
            <a:r>
              <a:rPr b="0" lang="nl-NL" sz="4400" spc="-1" strike="noStrike">
                <a:solidFill>
                  <a:srgbClr val="3333cc"/>
                </a:solidFill>
                <a:latin typeface="Times New Roman"/>
              </a:rPr>
              <a:t>T</a:t>
            </a:r>
            <a:r>
              <a:rPr b="0" lang="nl-NL" sz="4400" spc="-1" strike="noStrike">
                <a:solidFill>
                  <a:srgbClr val="000000"/>
                </a:solidFill>
                <a:latin typeface="Times New Roman"/>
              </a:rPr>
              <a:t>ime</a:t>
            </a:r>
            <a:endParaRPr b="0" lang="en-US" sz="4400" spc="-1" strike="noStrike">
              <a:solidFill>
                <a:srgbClr val="000000"/>
              </a:solidFill>
              <a:latin typeface="Times New Roman"/>
            </a:endParaRPr>
          </a:p>
        </p:txBody>
      </p:sp>
      <p:pic>
        <p:nvPicPr>
          <p:cNvPr id="82" name="Picture 3" descr="http://www.ascal.nl/sites/ascal.nl/files/images/beroerte-herkennen.gif"/>
          <p:cNvPicPr/>
          <p:nvPr/>
        </p:nvPicPr>
        <p:blipFill>
          <a:blip r:embed="rId1"/>
          <a:stretch/>
        </p:blipFill>
        <p:spPr>
          <a:xfrm>
            <a:off x="990720" y="1663560"/>
            <a:ext cx="7162560" cy="536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http://www.sint-trudo.be/img/posterCVA.jpg"/>
          <p:cNvPicPr/>
          <p:nvPr/>
        </p:nvPicPr>
        <p:blipFill>
          <a:blip r:embed="rId1"/>
          <a:stretch/>
        </p:blipFill>
        <p:spPr>
          <a:xfrm>
            <a:off x="457200" y="685800"/>
            <a:ext cx="7943760" cy="5597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iabetes mellitus</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orzaak tekort aan suiker in de cellen omdat er te weinig insuline 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suline is een hormoon wat in de alvleesklier wordt gevormd en dat nodig is voor opname van suiker in de cel vanuit de bloedbaan. Bij te weinig stijgt het bloedsuikergehal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ype I en Type II worden onderscheid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roeger jeugd-, ouderdomsdiabetes genoemd</a:t>
            </a:r>
            <a:endParaRPr b="0" lang="en-US" sz="28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u="sng">
                <a:solidFill>
                  <a:srgbClr val="ccccff"/>
                </a:solidFill>
                <a:uFillTx/>
                <a:latin typeface="Times New Roman"/>
                <a:hlinkClick r:id="rId1"/>
              </a:rPr>
              <a:t>http://www.hetvlaamsekruis.be/ehbo_info/cursus/08_Inwendige_aandoeningen/Suikerziekte.htm</a:t>
            </a:r>
            <a:r>
              <a:rPr b="0" lang="nl-NL"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1026" descr="http://www.gamelayd.nl/img/sugarblog/sugarblog02.jpg"/>
          <p:cNvPicPr/>
          <p:nvPr/>
        </p:nvPicPr>
        <p:blipFill>
          <a:blip r:embed="rId1"/>
          <a:stretch/>
        </p:blipFill>
        <p:spPr>
          <a:xfrm>
            <a:off x="685800" y="615960"/>
            <a:ext cx="7772400" cy="5626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schijnselen onbehandelde of slecht ingestelde patiënt</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aak plassen, veel plassen, heeft dorst en beland in een vicieuze cirkel</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vallen ondanks goede eetlust</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indt geen behandeling plaats dan ontstaat een hyperglycaemie</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e patiënt wordt geleidelijk slaperig-suf en raakt in coma, de ademhaling heeft een aceton(zoete appeltjes)geur</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EHBO: 112 bell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0"/>
            <a:ext cx="77724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e laag bloedsuikergehalte</a:t>
            </a:r>
            <a:br>
              <a:rPr sz="4400"/>
            </a:br>
            <a:r>
              <a:rPr b="0" lang="nl-NL" sz="4400" spc="-1" strike="noStrike">
                <a:solidFill>
                  <a:srgbClr val="000000"/>
                </a:solidFill>
                <a:latin typeface="Times New Roman"/>
              </a:rPr>
              <a:t>hypoglycaemie </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oor: te veel insuline of tabletten, brakenof te weinig eten, extra inspanning verrichten,alcoholgebrui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erschijnselen: geeuwen, zweten, geïrriteerd, kribbig tot agressief gedrag aan toe, suf en tot slot bewusteloos</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333cc"/>
                </a:solidFill>
                <a:latin typeface="Times New Roman"/>
              </a:rPr>
              <a:t>Doen</a:t>
            </a:r>
            <a:r>
              <a:rPr b="0" lang="nl-NL" sz="2800" spc="-1" strike="noStrike">
                <a:solidFill>
                  <a:srgbClr val="000000"/>
                </a:solidFill>
                <a:latin typeface="Times New Roman"/>
              </a:rPr>
              <a:t>: goed aanspreekbaar: sneloplosbare suikers geven, bij bewustzijnsstoornissen 112 bell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3" descr="http://www.hetvlaamsekruis.be/ehbo_info/cursus/08_Inwendige_aandoeningen/Suikerziekte02.jpg"/>
          <p:cNvPicPr/>
          <p:nvPr/>
        </p:nvPicPr>
        <p:blipFill>
          <a:blip r:embed="rId1"/>
          <a:stretch/>
        </p:blipFill>
        <p:spPr>
          <a:xfrm>
            <a:off x="380880" y="565200"/>
            <a:ext cx="8305920" cy="5783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lauwte, </a:t>
            </a:r>
            <a:r>
              <a:rPr b="0" lang="nl-NL" sz="2800" spc="-1" strike="noStrike">
                <a:solidFill>
                  <a:srgbClr val="000000"/>
                </a:solidFill>
                <a:latin typeface="Times New Roman"/>
              </a:rPr>
              <a:t>een kortdurende vermindering van het bewustzijn</a:t>
            </a:r>
            <a:endParaRPr b="0" lang="en-US" sz="2800" spc="-1" strike="noStrike">
              <a:solidFill>
                <a:srgbClr val="000000"/>
              </a:solidFill>
              <a:latin typeface="Times New Roman"/>
            </a:endParaRPr>
          </a:p>
        </p:txBody>
      </p:sp>
      <p:sp>
        <p:nvSpPr>
          <p:cNvPr id="93" name="PlaceHolder 2"/>
          <p:cNvSpPr>
            <a:spLocks noGrp="1"/>
          </p:cNvSpPr>
          <p:nvPr>
            <p:ph/>
          </p:nvPr>
        </p:nvSpPr>
        <p:spPr>
          <a:xfrm>
            <a:off x="755640" y="2205000"/>
            <a:ext cx="7772400" cy="41148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orzaak: tijdelijk verminderde bloedaanvoer naar de hersenen als gevolg van:</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uitputting, oververmoeidheid, lang stilstaan, </a:t>
            </a:r>
            <a:endParaRPr b="0" lang="en-US" sz="28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onger, </a:t>
            </a:r>
            <a:endParaRPr b="0" lang="en-US" sz="28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loedarmoede,</a:t>
            </a:r>
            <a:endParaRPr b="0" lang="en-US" sz="28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een benauwde warme omgeving of door</a:t>
            </a:r>
            <a:endParaRPr b="0" lang="en-US" sz="28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plotselinge schrik, angst, emoties of het zien van bloed of naalden</a:t>
            </a:r>
            <a:endParaRPr b="0" lang="en-US" sz="2800" spc="-1" strike="noStrike">
              <a:solidFill>
                <a:srgbClr val="000000"/>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lauwte    Verschijnselen:</a:t>
            </a:r>
            <a:endParaRPr b="0" lang="en-US" sz="4400" spc="-1" strike="noStrike">
              <a:solidFill>
                <a:srgbClr val="000000"/>
              </a:solidFill>
              <a:latin typeface="Times New Roman"/>
            </a:endParaRPr>
          </a:p>
        </p:txBody>
      </p:sp>
      <p:sp>
        <p:nvSpPr>
          <p:cNvPr id="95" name=""/>
          <p:cNvSpPr txBox="1"/>
          <p:nvPr/>
        </p:nvSpPr>
        <p:spPr>
          <a:xfrm>
            <a:off x="611280" y="1699920"/>
            <a:ext cx="7772400" cy="46162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slachtoffer wordt bleek, zweet, en geeuw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vervolgens treedt een bewustzijnsdaling op en zelfs bewusteloosheid.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Soms ook spiertrekkingen die lijken op epilepsie en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el soms wordt er ook urine verloren en dus een natte broek</a:t>
            </a:r>
            <a:endParaRPr b="0" lang="en-US" sz="32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u="sng">
                <a:solidFill>
                  <a:srgbClr val="ccccff"/>
                </a:solidFill>
                <a:uFillTx/>
                <a:latin typeface="Times New Roman"/>
                <a:hlinkClick r:id="rId1"/>
              </a:rPr>
              <a:t>http://www.plaats.nl/gemeente-veldhoven/videos/Hcs_T5mg7Aw/bhv.nl-demonstreert-een-flauwte/</a:t>
            </a:r>
            <a:r>
              <a:rPr b="0" lang="nl-NL"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Eerste hulp bij flauwte</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beer te voorkomen dat iemand bewusteloos raak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reng het slachtoffer in de frisse luch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g hem/haar plat neer, eventueel de benen iets omhoo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ak strakzittende kleding lo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aat hem/haar 10 minuten liggen,laat hem dan zitten en geef wat water  te drink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chedelbasisbreuk</a:t>
            </a:r>
            <a:endParaRPr b="0" lang="en-US" sz="4400" spc="-1" strike="noStrike">
              <a:solidFill>
                <a:srgbClr val="000000"/>
              </a:solidFill>
              <a:latin typeface="Times New Roman"/>
            </a:endParaRPr>
          </a:p>
        </p:txBody>
      </p:sp>
      <p:pic>
        <p:nvPicPr>
          <p:cNvPr id="44" name="Picture 3" descr="http://www.nccn.nl/nccn/images/o_tot_z/sht_schedelbasisfractuur1.jpg"/>
          <p:cNvPicPr/>
          <p:nvPr/>
        </p:nvPicPr>
        <p:blipFill>
          <a:blip r:embed="rId1"/>
          <a:stretch/>
        </p:blipFill>
        <p:spPr>
          <a:xfrm>
            <a:off x="822240" y="1521000"/>
            <a:ext cx="7497720" cy="5337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3"/>
          <p:cNvSpPr/>
          <p:nvPr/>
        </p:nvSpPr>
        <p:spPr>
          <a:xfrm>
            <a:off x="-46080" y="-22320"/>
            <a:ext cx="184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4"/>
          <p:cNvSpPr/>
          <p:nvPr/>
        </p:nvSpPr>
        <p:spPr>
          <a:xfrm>
            <a:off x="3054240" y="787320"/>
            <a:ext cx="201456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5"/>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8"/>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cc0000"/>
                </a:solidFill>
                <a:latin typeface="Times New Roman"/>
              </a:rPr>
              <a:t> </a:t>
            </a:r>
            <a:endParaRPr b="0" lang="en-US" sz="900" spc="-1" strike="noStrike">
              <a:solidFill>
                <a:srgbClr val="000000"/>
              </a:solidFill>
              <a:latin typeface="Times New Roman"/>
            </a:endParaRPr>
          </a:p>
        </p:txBody>
      </p:sp>
      <p:sp>
        <p:nvSpPr>
          <p:cNvPr id="103" name="Rectangle 9"/>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10"/>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11"/>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 name="Picture 7" descr="http://t3.gstatic.com/images?q=tbn:ANd9GcSJ4FHLaF6yfqtrP24xDnk7bNNQLTPu2Ah5K4Cvy1biPKvJtGZC">
            <a:hlinkClick r:id="rId1"/>
          </p:cNvPr>
          <p:cNvPicPr/>
          <p:nvPr/>
        </p:nvPicPr>
        <p:blipFill>
          <a:blip r:embed="rId2"/>
          <a:stretch/>
        </p:blipFill>
        <p:spPr>
          <a:xfrm>
            <a:off x="1905120" y="1735200"/>
            <a:ext cx="4506840" cy="2862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allende ziekte = epilepsie</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orzaak: verstoord elektrisch patroon –kortsluiting – in de hersene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ardoor is vaak niet bekend, soms het gevolg van een beroerte, ziekte of ernstig hersenletsel</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ccccff"/>
                </a:solidFill>
                <a:uFillTx/>
                <a:latin typeface="Times New Roman"/>
                <a:hlinkClick r:id="rId1"/>
              </a:rPr>
              <a:t>http://www.plaats.nl/gemeente-veldhoven/videos/5AtB5Fec1-8/bhv.nl-demonstreert-een-epileptische-aanval./</a:t>
            </a:r>
            <a:r>
              <a:rPr b="0" lang="nl-NL"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ccccff"/>
                </a:solidFill>
                <a:uFillTx/>
                <a:latin typeface="Times New Roman"/>
                <a:hlinkClick r:id="rId2"/>
              </a:rPr>
              <a:t>http://www.plaats.nl/gemeente-veldhoven/videos/j2MUnByfSUQ/epileptic-fit----epilepticky-zachvat/</a:t>
            </a:r>
            <a:r>
              <a:rPr b="0" lang="nl-NL"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anvallen </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bsence(petit mal): kleine aanval soms niet opgemerkt even wezenloos staren, even stokken met praten, schokken met een arm en dan gewoon weer verder ga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Times New Roman"/>
            </a:endParaRPr>
          </a:p>
        </p:txBody>
      </p:sp>
      <p:sp>
        <p:nvSpPr>
          <p:cNvPr id="112" name="Rectangle 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4"/>
          <p:cNvSpPr/>
          <p:nvPr/>
        </p:nvSpPr>
        <p:spPr>
          <a:xfrm>
            <a:off x="-46080" y="-22320"/>
            <a:ext cx="184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5"/>
          <p:cNvSpPr/>
          <p:nvPr/>
        </p:nvSpPr>
        <p:spPr>
          <a:xfrm>
            <a:off x="3311640" y="598320"/>
            <a:ext cx="202860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6"/>
          <p:cNvSpPr/>
          <p:nvPr/>
        </p:nvSpPr>
        <p:spPr>
          <a:xfrm>
            <a:off x="46080" y="23760"/>
            <a:ext cx="9144000" cy="6858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9"/>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cc0000"/>
                </a:solidFill>
                <a:latin typeface="Times New Roman"/>
              </a:rPr>
              <a:t> </a:t>
            </a:r>
            <a:endParaRPr b="0" lang="en-US" sz="900" spc="-1" strike="noStrike">
              <a:solidFill>
                <a:srgbClr val="000000"/>
              </a:solidFill>
              <a:latin typeface="Times New Roman"/>
            </a:endParaRPr>
          </a:p>
        </p:txBody>
      </p:sp>
      <p:sp>
        <p:nvSpPr>
          <p:cNvPr id="117" name="Rectangle 10"/>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11"/>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ectangle 12"/>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 name="Picture 8" descr="http://t3.gstatic.com/images?q=tbn:ANd9GcTZTcmswTuRvMEI8oPNZYskHBgoh5-ZddzLB9PnYOYUf7SApL3X"/>
          <p:cNvPicPr/>
          <p:nvPr/>
        </p:nvPicPr>
        <p:blipFill>
          <a:blip r:embed="rId1"/>
          <a:stretch/>
        </p:blipFill>
        <p:spPr>
          <a:xfrm>
            <a:off x="1325520" y="1828800"/>
            <a:ext cx="3246480" cy="2035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rand mal, grote aanval</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371600"/>
            <a:ext cx="7772400" cy="54864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oorboden(aura): smakken, over een been of arm wrijven, een vreemde smaak in de mond, niet-aanwezige lichtflitsen zi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lotselinge bewusteloosheid, neervallen, soms onderwijl een gil slaken. Verkrampen van de spieren , blauw aanlopen en daarna beginnen te schokken met de ledematen en het hoofd, soms schuim op de mond en urine laten lopen.Hierna soms snurkend slapen of langzaam bijkomen, vaak nog wat verward, last van hoofd- en spierpij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eet zelf van niets, weet wel dat er weer een aanval is gewee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rand mal</a:t>
            </a:r>
            <a:endParaRPr b="0" lang="en-US" sz="4400" spc="-1" strike="noStrike">
              <a:solidFill>
                <a:srgbClr val="000000"/>
              </a:solidFill>
              <a:latin typeface="Times New Roman"/>
            </a:endParaRPr>
          </a:p>
        </p:txBody>
      </p:sp>
      <p:pic>
        <p:nvPicPr>
          <p:cNvPr id="124" name="Picture 3" descr="http://www.medicijnen-op-maat.nl/images/epilep1.gif"/>
          <p:cNvPicPr/>
          <p:nvPr/>
        </p:nvPicPr>
        <p:blipFill>
          <a:blip r:embed="rId1"/>
          <a:stretch/>
        </p:blipFill>
        <p:spPr>
          <a:xfrm>
            <a:off x="1947960" y="2400480"/>
            <a:ext cx="5246640" cy="4457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Eerste hulp bij epileptisch insult</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rg ervoor dat het slachtoffer zich niet kan verwonden</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aat toeschouwersop een afstand blijven</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oud de schokkende bewegingen niet tegen</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e aanval gaat vanzelf over</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olgt er gelijk weer één of meerdere aanvallen dan 112 bellen. Dit geldt ook als het de eerste grote aanval is of er zijn botbreuken of ander letsel ontstaan.</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 andere gevallen zonodig naar huis brengen en aanraden met de huisarts contact op te nemen</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Koortsstuip </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orzaak: snelle stijging van de lichaamstemperat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ien: kind reageert met heftige schokken en trekkingen van de ledematen( ongeveer 1-3 minuten), daarna is het vaak suf Altijd een arts raadpl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ewustzijnsstoornissen</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http://www.youtube.com/watch?v=jM8_2mm0DMc&amp;feature=related EHBO bij epilepsie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    </a:t>
            </a:r>
            <a:r>
              <a:rPr b="0" lang="nl-NL" sz="1600" spc="-1" strike="noStrike">
                <a:solidFill>
                  <a:srgbClr val="000000"/>
                </a:solidFill>
                <a:latin typeface="Times New Roman"/>
              </a:rPr>
              <a:t>http://www.youtube.com/watch?v=L3qt-pgwHEU&amp;feature=related</a:t>
            </a:r>
            <a:r>
              <a:rPr b="0" lang="nl-NL" sz="3200" spc="-1" strike="noStrike">
                <a:solidFill>
                  <a:srgbClr val="000000"/>
                </a:solidFill>
                <a:latin typeface="Times New Roman"/>
              </a:rPr>
              <a:t>  </a:t>
            </a:r>
            <a:r>
              <a:rPr b="0" lang="nl-NL" sz="1600" spc="-1" strike="noStrike">
                <a:solidFill>
                  <a:srgbClr val="000000"/>
                </a:solidFill>
                <a:latin typeface="Times New Roman"/>
              </a:rPr>
              <a:t>Klokhuis  Epilepsie</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Van buik naar rug en opzij(nieuwe methode)</a:t>
            </a:r>
            <a:endParaRPr b="0" lang="en-US" sz="16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0" lang="nl-NL" sz="2000" spc="-1" strike="noStrike">
                <a:solidFill>
                  <a:srgbClr val="000000"/>
                </a:solidFill>
                <a:latin typeface="Times New Roman"/>
              </a:rPr>
              <a:t>http://www.youtube.com/watch?v=-hjpxwaVKz4</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s://www.youtube.com/watch?v=xfNvew8nj-k  BHVstab zijligging</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http://www.youtube.com/watch?v=HbCgG1hk1aE lachstoorni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estoord bewustzijn door</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chedelletsel: gesloten of open schedelbreu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oed en/of hersenvocht uit de neus of een oor dan waarschijnlijk schedelbasisbreuk, er is dan ook vaak een brilhematoom te zi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r is kans op ook wervellets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oen het slachtoffer niet bew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509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rilhematoom</a:t>
            </a:r>
            <a:endParaRPr b="0" lang="en-US" sz="4400" spc="-1" strike="noStrike">
              <a:solidFill>
                <a:srgbClr val="000000"/>
              </a:solidFill>
              <a:latin typeface="Times New Roman"/>
            </a:endParaRPr>
          </a:p>
        </p:txBody>
      </p:sp>
      <p:sp>
        <p:nvSpPr>
          <p:cNvPr id="48" name="Rectangle 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4"/>
          <p:cNvSpPr/>
          <p:nvPr/>
        </p:nvSpPr>
        <p:spPr>
          <a:xfrm>
            <a:off x="-46080" y="-22320"/>
            <a:ext cx="184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5"/>
          <p:cNvSpPr/>
          <p:nvPr/>
        </p:nvSpPr>
        <p:spPr>
          <a:xfrm>
            <a:off x="1897200" y="1336680"/>
            <a:ext cx="185076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9"/>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cc0000"/>
                </a:solidFill>
                <a:latin typeface="Times New Roman"/>
              </a:rPr>
              <a:t> </a:t>
            </a:r>
            <a:endParaRPr b="0" lang="en-US" sz="900" spc="-1" strike="noStrike">
              <a:solidFill>
                <a:srgbClr val="000000"/>
              </a:solidFill>
              <a:latin typeface="Times New Roman"/>
            </a:endParaRPr>
          </a:p>
        </p:txBody>
      </p:sp>
      <p:sp>
        <p:nvSpPr>
          <p:cNvPr id="52" name="Rectangle 10"/>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11"/>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12"/>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Picture 8" descr="http://t1.gstatic.com/images?q=tbn:ANd9GcQwl9oCiDPcQmUBmfanV3094zTbiQ1DXQDN0Hx4BRFG_3vQL3op">
            <a:hlinkClick r:id="rId1"/>
          </p:cNvPr>
          <p:cNvPicPr/>
          <p:nvPr/>
        </p:nvPicPr>
        <p:blipFill>
          <a:blip r:embed="rId2"/>
          <a:stretch/>
        </p:blipFill>
        <p:spPr>
          <a:xfrm>
            <a:off x="1922400" y="2084400"/>
            <a:ext cx="5126040" cy="384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angezichtsletsel</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reuken geven bloeding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t bloedverlies kan de ademhaling belemmer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oen: Bij bewustzijn - het slachtoffer wat voorover laten buigen zodat het bloed niet ingeslikt wordt en misselijkheid en braken wordt voorkom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ok kan door beschadiging van de frontale hersenkwab onrust worden veroorzaak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oen afleid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angezichtsletsel </a:t>
            </a:r>
            <a:endParaRPr b="0" lang="en-US" sz="4400" spc="-1" strike="noStrike">
              <a:solidFill>
                <a:srgbClr val="000000"/>
              </a:solidFill>
              <a:latin typeface="Times New Roman"/>
            </a:endParaRPr>
          </a:p>
        </p:txBody>
      </p:sp>
      <p:sp>
        <p:nvSpPr>
          <p:cNvPr id="59" name="Rectangle 1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14"/>
          <p:cNvSpPr/>
          <p:nvPr/>
        </p:nvSpPr>
        <p:spPr>
          <a:xfrm>
            <a:off x="-46080" y="-22320"/>
            <a:ext cx="184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15"/>
          <p:cNvSpPr/>
          <p:nvPr/>
        </p:nvSpPr>
        <p:spPr>
          <a:xfrm>
            <a:off x="2082960" y="1623960"/>
            <a:ext cx="129348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6"/>
          <p:cNvSpPr/>
          <p:nvPr/>
        </p:nvSpPr>
        <p:spPr>
          <a:xfrm>
            <a:off x="0" y="1905120"/>
            <a:ext cx="9144000" cy="6858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19"/>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cc0000"/>
                </a:solidFill>
                <a:latin typeface="Times New Roman"/>
              </a:rPr>
              <a:t> </a:t>
            </a:r>
            <a:endParaRPr b="0" lang="en-US" sz="900" spc="-1" strike="noStrike">
              <a:solidFill>
                <a:srgbClr val="000000"/>
              </a:solidFill>
              <a:latin typeface="Times New Roman"/>
            </a:endParaRPr>
          </a:p>
        </p:txBody>
      </p:sp>
      <p:sp>
        <p:nvSpPr>
          <p:cNvPr id="64" name="Rectangle 20"/>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Rectangle 21"/>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22"/>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Picture 18" descr="http://t1.gstatic.com/images?q=tbn:ANd9GcRRyA3bpjsLVUFRDnywFG2a1uSN353WJiv9kMd_1R_-KQQ6jMhivA">
            <a:hlinkClick r:id="rId1"/>
          </p:cNvPr>
          <p:cNvPicPr/>
          <p:nvPr/>
        </p:nvPicPr>
        <p:blipFill>
          <a:blip r:embed="rId2"/>
          <a:stretch/>
        </p:blipFill>
        <p:spPr>
          <a:xfrm>
            <a:off x="2443320" y="2666880"/>
            <a:ext cx="252072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chedelhersenletsel</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Kans op een hersenschudding of zelfs een hersenkneuzing met als gevolg: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bewustzijnsverlies, -daling bij de kneuzing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geheugenverli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gestoord korte termijn geheugen, moeite met onthouden en steeds dezelfde vragen stelle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hoofdpijn en misselijkheid met kans op brak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Ziekten</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333cc"/>
                </a:solidFill>
                <a:latin typeface="Times New Roman"/>
              </a:rPr>
              <a:t>Beroerte</a:t>
            </a:r>
            <a:r>
              <a:rPr b="0" lang="nl-NL" sz="2800" spc="-1" strike="noStrike">
                <a:solidFill>
                  <a:srgbClr val="000000"/>
                </a:solidFill>
                <a:latin typeface="Times New Roman"/>
              </a:rPr>
              <a:t>: oorzaak hersenbloeding of een herseninfarc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Klachten Bloeding: plotseling hevige hoofdpijn, soms iets voelen knappen in het hoofd, kan bewusteloos raken, blazende ademhaling scheve mond</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Klachten infarct: plotseling halfzijdige verlamming, spraakstoornissen, begrip is vaak ook gestoord</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oen 112, geruststellen en uitlegg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erseninfarct</a:t>
            </a:r>
            <a:endParaRPr b="0" lang="en-US" sz="4400" spc="-1" strike="noStrike">
              <a:solidFill>
                <a:srgbClr val="000000"/>
              </a:solidFill>
              <a:latin typeface="Times New Roman"/>
            </a:endParaRPr>
          </a:p>
        </p:txBody>
      </p:sp>
      <p:sp>
        <p:nvSpPr>
          <p:cNvPr id="73" name="Rectangle 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4"/>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5"/>
          <p:cNvSpPr/>
          <p:nvPr/>
        </p:nvSpPr>
        <p:spPr>
          <a:xfrm>
            <a:off x="811080" y="1001880"/>
            <a:ext cx="185112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Rectangle 6"/>
          <p:cNvSpPr/>
          <p:nvPr/>
        </p:nvSpPr>
        <p:spPr>
          <a:xfrm>
            <a:off x="762120" y="2362320"/>
            <a:ext cx="8427960" cy="4519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Rectangle 9"/>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cc0000"/>
                </a:solidFill>
                <a:latin typeface="Times New Roman"/>
              </a:rPr>
              <a:t> </a:t>
            </a:r>
            <a:endParaRPr b="0" lang="en-US" sz="900" spc="-1" strike="noStrike">
              <a:solidFill>
                <a:srgbClr val="000000"/>
              </a:solidFill>
              <a:latin typeface="Times New Roman"/>
            </a:endParaRPr>
          </a:p>
        </p:txBody>
      </p:sp>
      <p:sp>
        <p:nvSpPr>
          <p:cNvPr id="78" name="Rectangle 10"/>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12"/>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8" descr="http://t2.gstatic.com/images?q=tbn:ANd9GcQemQBquG-evCWPNqT3k3iTGjnbAmlxsWJcOLpIQ3U4ETxApOIY">
            <a:hlinkClick r:id="rId1"/>
          </p:cNvPr>
          <p:cNvPicPr/>
          <p:nvPr/>
        </p:nvPicPr>
        <p:blipFill>
          <a:blip r:embed="rId2"/>
          <a:stretch/>
        </p:blipFill>
        <p:spPr>
          <a:xfrm>
            <a:off x="1066680" y="2819520"/>
            <a:ext cx="2960640" cy="222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8T12:31:18Z</dcterms:created>
  <dc:creator>Agnieta</dc:creator>
  <dc:description/>
  <dc:language>en-US</dc:language>
  <cp:lastModifiedBy>Agnieta Swaving-Pikstra</cp:lastModifiedBy>
  <dcterms:modified xsi:type="dcterms:W3CDTF">2016-11-30T09:52:24Z</dcterms:modified>
  <cp:revision>15</cp:revision>
  <dc:subject/>
  <dc:title>Oorzaken van </dc:title>
</cp:coreProperties>
</file>