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7ABF1-2F4F-4230-83C5-5294A8FF5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5F512-206F-43A1-AE5C-599713DD2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13BBD-537E-42E0-B6B9-2FC8882C1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BD63B-17E0-46D7-8884-0E6BCECCD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68F49-DD4D-4589-84E5-176A34776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7DE44-3700-47F5-A05C-AB8A7FC11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2AA6-E4F9-4FE4-9327-D787158E9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C382-779C-42C9-B581-143451701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2B8B4-5F4E-4C2B-811A-477942A7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F0F8-2105-4F49-ACBD-C2205E774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B786-F201-4F95-87A0-4424ABDA2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3150-6769-424B-A49D-24A55AA9A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4A3D-89F2-4799-9591-CCD9899006C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HBO</a:t>
            </a:r>
            <a:r>
              <a:rPr b="0" lang="nl-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itale Func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suf) of afwezig bewustzijn geeft een gestoorde hersenwerk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lachtoffer niet laten eten of drinken, want er kan verslikking ontstaan of extra problemen bij narco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gestoorde hersenwerk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chedelhersenletse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rsen-/hersenvliesontstek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roert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abe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pilepsi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ifti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ververhitting/onderkoeling/elektrische sho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oornissen in de ademhaling of de circulati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ademhaling doo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minderd/ belemmerd of afwezig door bloed, braaksel,speeks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to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vreemd voorwerp= corpus alien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welling van het slijmvlies door letsel, inademen van hete lucht, een prikkelend gas, een infectie, of een allergische react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ekten o.a. astma, hyperventilatie, longaandoeningen, hartaandoenin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volg oorzake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plong / gebroken ribben /doordringende borstwo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drink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delv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hanging of wurg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schadiging van hersenen of ruggemer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onvoldoende ademhaling betekent zuurstof tekort in de hersenen m.a.g bewustzijnsstoorn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bloedsomloop</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e of geen bloedsomlo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gevolg: te weinig of geen zuurstof naar de organen, m.n. de hersenen zijn hier erg gevoelig voor en na een paar minuten al beschadig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circulatiestoorniss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rtritmestoornissen of een hartinfar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el in- of uitwendig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elektrische sch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oornissen in de 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drog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99640" y="5300280"/>
            <a:ext cx="7559640" cy="129708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s://www.youtube.com/watch?v=EH9TBTxr5C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r>
              <a:rPr b="0" lang="nl-NL" sz="1800" spc="-1" strike="noStrike">
                <a:solidFill>
                  <a:srgbClr val="000000"/>
                </a:solidFill>
                <a:latin typeface="Times New Roman"/>
              </a:rPr>
              <a:t>https://www.youtube.com/watch?v=stgt_P5Jme4 benadering so stabiele zijliggin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80" name="Picture 2" descr="http://home.kpn.nl/ron.prins/P4260080.JPG"/>
          <p:cNvPicPr/>
          <p:nvPr/>
        </p:nvPicPr>
        <p:blipFill>
          <a:blip r:embed="rId1"/>
          <a:stretch/>
        </p:blipFill>
        <p:spPr>
          <a:xfrm>
            <a:off x="1763640" y="54936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58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itale Functi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753920"/>
            <a:ext cx="7772400" cy="5103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chaamsfuncties die essentieel zijn voor het behoud van het le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iertoe beh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wustzij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eratuur: speelt een rol bij koude en warmtelets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bewustzijn zit in de hersenen, een onderdeel van het zenuwstelsel, wat verder uit het ruggenmerg en zenuwen besta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zorgt ervoor dat het lichaam op de juiste manier op prikkels reageert van zowel uit het lichaam als van buiten het lichaam en zorgt voor een goede samenwerking tussen alle organ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enuwstelsel</a:t>
            </a:r>
            <a:endParaRPr b="0" lang="en-US" sz="4400" spc="-1" strike="noStrike">
              <a:solidFill>
                <a:srgbClr val="000000"/>
              </a:solidFill>
              <a:latin typeface="Times New Roman"/>
            </a:endParaRPr>
          </a:p>
        </p:txBody>
      </p:sp>
      <p:pic>
        <p:nvPicPr>
          <p:cNvPr id="48" name="Picture 3" descr="http://www.menselijk-lichaam.com/wp-content/uploads/Zenuwstelsel-278x300.jpg"/>
          <p:cNvPicPr/>
          <p:nvPr/>
        </p:nvPicPr>
        <p:blipFill>
          <a:blip r:embed="rId1"/>
          <a:stretch/>
        </p:blipFill>
        <p:spPr>
          <a:xfrm>
            <a:off x="228600" y="1905120"/>
            <a:ext cx="3954600" cy="4267080"/>
          </a:xfrm>
          <a:prstGeom prst="rect">
            <a:avLst/>
          </a:prstGeom>
          <a:ln w="0">
            <a:noFill/>
          </a:ln>
        </p:spPr>
      </p:pic>
      <p:pic>
        <p:nvPicPr>
          <p:cNvPr id="49" name="Picture 4" descr="http://www.natuurinformatie.nl/sites/nnm.dossiers/contents/i003307/zenuwsoortenrgb.jpg"/>
          <p:cNvPicPr/>
          <p:nvPr/>
        </p:nvPicPr>
        <p:blipFill>
          <a:blip r:embed="rId2"/>
          <a:stretch/>
        </p:blipFill>
        <p:spPr>
          <a:xfrm>
            <a:off x="4962600" y="1295280"/>
            <a:ext cx="370512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gebeurt o.i.v het ademcentrum (CO2gehalte) door de luchtwegen, de longen en de ademhalingsspieren</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O2(zuurstof) opname uit de lucht , dit naar het bloed doorgeven en CO2(koolstofdioxide) opnemen uit het bloed en aan de lucht afge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sorganen</a:t>
            </a:r>
            <a:endParaRPr b="0" lang="en-US" sz="4400" spc="-1" strike="noStrike">
              <a:solidFill>
                <a:srgbClr val="000000"/>
              </a:solidFill>
              <a:latin typeface="Times New Roman"/>
            </a:endParaRPr>
          </a:p>
        </p:txBody>
      </p:sp>
      <p:pic>
        <p:nvPicPr>
          <p:cNvPr id="53" name="Picture 3" descr="http://www.xead.nl/resize/500-500/upload/65dd8d31c3d2d9eda46742c4251491a7My5qcGc=.jpg"/>
          <p:cNvPicPr/>
          <p:nvPr/>
        </p:nvPicPr>
        <p:blipFill>
          <a:blip r:embed="rId1"/>
          <a:stretch/>
        </p:blipFill>
        <p:spPr>
          <a:xfrm>
            <a:off x="2611440" y="1828800"/>
            <a:ext cx="3921120" cy="444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bloedsomloop)</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staat uit het hart, bloedvaten en blo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vervoer van zuurstof en voedingsstoffen naar de lichaamscellen en afvoer vanuit deze cellen naar de longen en de nier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a:t>
            </a:r>
            <a:endParaRPr b="0" lang="en-US" sz="4400" spc="-1" strike="noStrike">
              <a:solidFill>
                <a:srgbClr val="000000"/>
              </a:solidFill>
              <a:latin typeface="Times New Roman"/>
            </a:endParaRPr>
          </a:p>
        </p:txBody>
      </p:sp>
      <p:sp>
        <p:nvSpPr>
          <p:cNvPr id="57"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5"/>
          <p:cNvSpPr/>
          <p:nvPr/>
        </p:nvSpPr>
        <p:spPr>
          <a:xfrm>
            <a:off x="2017800" y="358920"/>
            <a:ext cx="1328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9"/>
          <p:cNvSpPr/>
          <p:nvPr/>
        </p:nvSpPr>
        <p:spPr>
          <a:xfrm>
            <a:off x="-46080" y="-22320"/>
            <a:ext cx="18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61"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8" descr="http://t2.gstatic.com/images?q=tbn:ANd9GcSm6rHD1DU7xMz67bS6j4m_bU66DPfCluxFsgc0Di_eaWludYVt"/>
          <p:cNvPicPr/>
          <p:nvPr/>
        </p:nvPicPr>
        <p:blipFill>
          <a:blip r:embed="rId1"/>
          <a:stretch/>
        </p:blipFill>
        <p:spPr>
          <a:xfrm>
            <a:off x="1371600" y="1981080"/>
            <a:ext cx="2928960" cy="4267440"/>
          </a:xfrm>
          <a:prstGeom prst="rect">
            <a:avLst/>
          </a:prstGeom>
          <a:ln w="0">
            <a:noFill/>
          </a:ln>
        </p:spPr>
      </p:pic>
      <p:pic>
        <p:nvPicPr>
          <p:cNvPr id="65" name="Picture 13" descr="http://www.hartstichting.nl/13706/13735/13726/13752/circulatie_lichaam"/>
          <p:cNvPicPr/>
          <p:nvPr/>
        </p:nvPicPr>
        <p:blipFill>
          <a:blip r:embed="rId2"/>
          <a:stretch/>
        </p:blipFill>
        <p:spPr>
          <a:xfrm>
            <a:off x="5334120" y="2133720"/>
            <a:ext cx="3252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TOORNISS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9:36:46Z</dcterms:created>
  <dc:creator>Agnieta</dc:creator>
  <dc:description/>
  <dc:language>en-US</dc:language>
  <cp:lastModifiedBy>Agnieta Swaving-Pikstra</cp:lastModifiedBy>
  <dcterms:modified xsi:type="dcterms:W3CDTF">2016-09-21T13:15:47Z</dcterms:modified>
  <cp:revision>12</cp:revision>
  <dc:subject/>
  <dc:title>EHBO</dc:title>
</cp:coreProperties>
</file>