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1A55-C88D-4F81-A36B-F10383C9378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EFAD-F1BE-44DB-94F4-7457940845B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51B-FEAA-4EE6-9084-D3EE6BEA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2C39-38E7-456F-9F67-F886D71F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1AB-4F76-45D0-AE17-9CD9DA04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CF9-5317-4B34-9AE7-70267247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F33-4657-43A3-AAA6-D6756996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1B8-7163-4EC6-8082-60E3198D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C8F-E3FF-43F7-946F-BF57CA61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B83A-2AAF-492F-B394-9ADCC6EA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0CE6-E5C9-4336-8D0B-DA9C59F9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716C-D57C-4415-B672-3BC13F67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A810-CE10-4D66-A267-FF89A48B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4718-79FB-4B70-80DE-D5EB1A9D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3E13-A789-4FFD-BC08-C3F92B7FCCF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258920" y="27082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Periode 3, niv 3 en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9440" y="13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3333cc"/>
                </a:solidFill>
                <a:latin typeface="Times New Roman"/>
              </a:rPr>
              <a:t>Bladkamerplant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95640" y="2060640"/>
            <a:ext cx="46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Livingstoin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livrot1g"/>
          <p:cNvPicPr/>
          <p:nvPr/>
        </p:nvPicPr>
        <p:blipFill>
          <a:blip r:embed="rId1"/>
          <a:stretch/>
        </p:blipFill>
        <p:spPr>
          <a:xfrm>
            <a:off x="2400480" y="1046160"/>
            <a:ext cx="4730400" cy="5191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4572000" y="6165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rondbla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33520" y="112716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REC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55640" y="609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waaier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Nepenthes cultiv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2" descr="foto27%20Nepenthes%20X%20mixta%20(Art%20Vogel)"/>
          <p:cNvPicPr/>
          <p:nvPr/>
        </p:nvPicPr>
        <p:blipFill>
          <a:blip r:embed="rId1"/>
          <a:stretch/>
        </p:blipFill>
        <p:spPr>
          <a:xfrm>
            <a:off x="1116000" y="1557360"/>
            <a:ext cx="2290680" cy="4103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611280" y="602136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bekerplant, vliegenva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33520" y="990720"/>
            <a:ext cx="380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NEPENTH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5" descr="nepenthes3qq"/>
          <p:cNvPicPr/>
          <p:nvPr/>
        </p:nvPicPr>
        <p:blipFill>
          <a:blip r:embed="rId2"/>
          <a:stretch/>
        </p:blipFill>
        <p:spPr>
          <a:xfrm>
            <a:off x="3780000" y="1052640"/>
            <a:ext cx="4968720" cy="485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Nephrolepsis cultiv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211143"/>
          <p:cNvPicPr/>
          <p:nvPr/>
        </p:nvPicPr>
        <p:blipFill>
          <a:blip r:embed="rId1"/>
          <a:stretch/>
        </p:blipFill>
        <p:spPr>
          <a:xfrm>
            <a:off x="1835280" y="1268280"/>
            <a:ext cx="6153120" cy="46213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4067280" y="609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ongevleug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95280" y="6021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krul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33520" y="990720"/>
            <a:ext cx="380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DAVA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Oxal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Oxalis%20deppei%20'Iron%20Cross'-3"/>
          <p:cNvPicPr/>
          <p:nvPr/>
        </p:nvPicPr>
        <p:blipFill>
          <a:blip r:embed="rId1"/>
          <a:stretch/>
        </p:blipFill>
        <p:spPr>
          <a:xfrm>
            <a:off x="2124000" y="134136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539640" y="609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gelukskla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33520" y="990720"/>
            <a:ext cx="380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OXALID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achir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in het water groe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33520" y="112716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BOMB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Pachira"/>
          <p:cNvPicPr/>
          <p:nvPr/>
        </p:nvPicPr>
        <p:blipFill>
          <a:blip r:embed="rId1"/>
          <a:stretch/>
        </p:blipFill>
        <p:spPr>
          <a:xfrm>
            <a:off x="2556000" y="1125360"/>
            <a:ext cx="4752720" cy="454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ellae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button-fern"/>
          <p:cNvPicPr/>
          <p:nvPr/>
        </p:nvPicPr>
        <p:blipFill>
          <a:blip r:embed="rId1"/>
          <a:stretch/>
        </p:blipFill>
        <p:spPr>
          <a:xfrm>
            <a:off x="2411280" y="1125360"/>
            <a:ext cx="5800680" cy="4635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3995640" y="60213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rondbla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8600" y="54864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33520" y="1143000"/>
            <a:ext cx="380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D I</a:t>
            </a:r>
            <a:r>
              <a:rPr b="1" lang="nl-NL" sz="2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NT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95280" y="6021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dubbeltjes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eperomia caper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3" descr="peperomia_caperata"/>
          <p:cNvPicPr/>
          <p:nvPr/>
        </p:nvPicPr>
        <p:blipFill>
          <a:blip r:embed="rId1"/>
          <a:stretch/>
        </p:blipFill>
        <p:spPr>
          <a:xfrm>
            <a:off x="3276720" y="1052640"/>
            <a:ext cx="3949560" cy="5472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50920" y="58053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gerim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50920" y="530064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wandelstokplant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33520" y="990720"/>
            <a:ext cx="380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PEPEROM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olysci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Aralia_Fabian"/>
          <p:cNvPicPr/>
          <p:nvPr/>
        </p:nvPicPr>
        <p:blipFill>
          <a:blip r:embed="rId1"/>
          <a:stretch/>
        </p:blipFill>
        <p:spPr>
          <a:xfrm>
            <a:off x="1619280" y="1125360"/>
            <a:ext cx="30034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4427640" y="609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schotelvorm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33520" y="1127160"/>
            <a:ext cx="380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RA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polysciasbalfour"/>
          <p:cNvPicPr/>
          <p:nvPr/>
        </p:nvPicPr>
        <p:blipFill>
          <a:blip r:embed="rId2"/>
          <a:stretch/>
        </p:blipFill>
        <p:spPr>
          <a:xfrm>
            <a:off x="5003640" y="1268280"/>
            <a:ext cx="3565800" cy="475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Rhap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rhapis_excelsa"/>
          <p:cNvPicPr/>
          <p:nvPr/>
        </p:nvPicPr>
        <p:blipFill>
          <a:blip r:embed="rId1"/>
          <a:stretch/>
        </p:blipFill>
        <p:spPr>
          <a:xfrm>
            <a:off x="1547640" y="1052640"/>
            <a:ext cx="4497480" cy="5400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4211640" y="60213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ho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33520" y="112716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REC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Rhipsa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Rhipsalis"/>
          <p:cNvPicPr/>
          <p:nvPr/>
        </p:nvPicPr>
        <p:blipFill>
          <a:blip r:embed="rId1"/>
          <a:stretch/>
        </p:blipFill>
        <p:spPr>
          <a:xfrm>
            <a:off x="900000" y="4292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Rhipsalis pentaptera"/>
          <p:cNvPicPr/>
          <p:nvPr/>
        </p:nvPicPr>
        <p:blipFill>
          <a:blip r:embed="rId2"/>
          <a:stretch/>
        </p:blipFill>
        <p:spPr>
          <a:xfrm>
            <a:off x="2700360" y="549360"/>
            <a:ext cx="3079800" cy="41050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33520" y="112716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ACT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9" descr="Rhipsalis pilocarpa LOEFGREN "/>
          <p:cNvPicPr/>
          <p:nvPr/>
        </p:nvPicPr>
        <p:blipFill>
          <a:blip r:embed="rId3"/>
          <a:stretch/>
        </p:blipFill>
        <p:spPr>
          <a:xfrm>
            <a:off x="6516720" y="3284640"/>
            <a:ext cx="2135160" cy="284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apillai"/>
          <p:cNvPicPr/>
          <p:nvPr/>
        </p:nvPicPr>
        <p:blipFill>
          <a:blip r:embed="rId1"/>
          <a:stretch/>
        </p:blipFill>
        <p:spPr>
          <a:xfrm>
            <a:off x="2556000" y="1052640"/>
            <a:ext cx="5311800" cy="5398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12193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04920" y="5943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venush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33520" y="1143000"/>
            <a:ext cx="380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D</a:t>
            </a:r>
            <a:r>
              <a:rPr b="1" lang="nl-NL" sz="2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I ANT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92000" y="-360"/>
            <a:ext cx="532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Adiantu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ansevieria cylind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Afbeelding 3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084640" cy="429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Scindaps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2002-03-23"/>
          <p:cNvPicPr/>
          <p:nvPr/>
        </p:nvPicPr>
        <p:blipFill>
          <a:blip r:embed="rId1"/>
          <a:stretch/>
        </p:blipFill>
        <p:spPr>
          <a:xfrm>
            <a:off x="1619280" y="907920"/>
            <a:ext cx="4070160" cy="5427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4356000" y="609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beschilderd, zilvergri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33520" y="1127160"/>
            <a:ext cx="380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R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Alocasia x amazo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aloc_amazonica_ts"/>
          <p:cNvPicPr/>
          <p:nvPr/>
        </p:nvPicPr>
        <p:blipFill>
          <a:blip r:embed="rId1"/>
          <a:stretch/>
        </p:blipFill>
        <p:spPr>
          <a:xfrm>
            <a:off x="3348000" y="1197000"/>
            <a:ext cx="4199040" cy="4825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324000" y="6165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uit het Amazone stroom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26920" y="551664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olifantsbl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1127160"/>
            <a:ext cx="380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R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eropegia linear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1027"/>
          <p:cNvGraphicFramePr/>
          <p:nvPr/>
        </p:nvGraphicFramePr>
        <p:xfrm>
          <a:off x="2556000" y="1341360"/>
          <a:ext cx="396072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341360"/>
                    <a:ext cx="396072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1028"/>
          <p:cNvSpPr/>
          <p:nvPr/>
        </p:nvSpPr>
        <p:spPr>
          <a:xfrm>
            <a:off x="179280" y="609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Chinees lantaarnt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29"/>
          <p:cNvSpPr/>
          <p:nvPr/>
        </p:nvSpPr>
        <p:spPr>
          <a:xfrm>
            <a:off x="539640" y="1916280"/>
            <a:ext cx="381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SCLP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30"/>
          <p:cNvSpPr/>
          <p:nvPr/>
        </p:nvSpPr>
        <p:spPr>
          <a:xfrm>
            <a:off x="4572000" y="609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lijnvormig, streepvorm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issus antar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issus%20antarctica"/>
          <p:cNvPicPr/>
          <p:nvPr/>
        </p:nvPicPr>
        <p:blipFill>
          <a:blip r:embed="rId1"/>
          <a:stretch/>
        </p:blipFill>
        <p:spPr>
          <a:xfrm>
            <a:off x="2124000" y="907920"/>
            <a:ext cx="4608720" cy="5040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4211640" y="60930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beneden de zuidpoolcirkel groe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VIT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50920" y="60930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kangoeroewijns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rassul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Crassula%20tomentosa%20interupta"/>
          <p:cNvPicPr/>
          <p:nvPr/>
        </p:nvPicPr>
        <p:blipFill>
          <a:blip r:embed="rId1"/>
          <a:stretch/>
        </p:blipFill>
        <p:spPr>
          <a:xfrm>
            <a:off x="2782800" y="1046160"/>
            <a:ext cx="3578400" cy="4765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crass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33520" y="990720"/>
            <a:ext cx="380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RASSUL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572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cultuurvarië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ycas revolu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cycas_revoluta"/>
          <p:cNvPicPr/>
          <p:nvPr/>
        </p:nvPicPr>
        <p:blipFill>
          <a:blip r:embed="rId1"/>
          <a:stretch/>
        </p:blipFill>
        <p:spPr>
          <a:xfrm>
            <a:off x="1332000" y="1125360"/>
            <a:ext cx="7272360" cy="4710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3995640" y="5950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teruggeb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990720"/>
            <a:ext cx="380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YCAD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00000" y="5950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cycas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Euphorbia tirucal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24000" y="59500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potlood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3520" y="990720"/>
            <a:ext cx="380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EUPHORB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Euphorbia_tirucalli-1"/>
          <p:cNvPicPr/>
          <p:nvPr/>
        </p:nvPicPr>
        <p:blipFill>
          <a:blip r:embed="rId1"/>
          <a:stretch/>
        </p:blipFill>
        <p:spPr>
          <a:xfrm>
            <a:off x="2843280" y="11970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Ficus elast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Ficus_elastica_'Robusta'"/>
          <p:cNvPicPr/>
          <p:nvPr/>
        </p:nvPicPr>
        <p:blipFill>
          <a:blip r:embed="rId1"/>
          <a:stretch/>
        </p:blipFill>
        <p:spPr>
          <a:xfrm>
            <a:off x="2895480" y="1371600"/>
            <a:ext cx="4340520" cy="4340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veerkrachtig, rubber lever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rubberb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MOR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Bianca Harink</cp:lastModifiedBy>
  <dcterms:modified xsi:type="dcterms:W3CDTF">2017-02-08T10:50:19Z</dcterms:modified>
  <cp:revision>111</cp:revision>
  <dc:subject/>
  <dc:title>PowerPoint-present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onOverlay">
    <vt:lpwstr/>
  </property>
  <property fmtid="{D5CDD505-2E9C-101B-9397-08002B2CF9AE}" pid="3" name="_dlc_DocId">
    <vt:lpwstr>INTRA-55-6098</vt:lpwstr>
  </property>
  <property fmtid="{D5CDD505-2E9C-101B-9397-08002B2CF9AE}" pid="4" name="_dlc_DocIdItemGuid">
    <vt:lpwstr>d924dc35-2656-4f37-9ff3-e649bb2bd49b</vt:lpwstr>
  </property>
  <property fmtid="{D5CDD505-2E9C-101B-9397-08002B2CF9AE}" pid="5" name="_dlc_DocIdUrl">
    <vt:lpwstr>https://sp.aoc-oost.nl/sites/intranet/projecten/werkveld_en_expertgroepen/_layouts/DocIdRedir.aspx?ID=INTRA-55-6098, INTRA-55-6098</vt:lpwstr>
  </property>
</Properties>
</file>