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973-5C41-4107-BF04-428E58C54F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9FF-F322-4095-8D88-F547C5F3AE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5CD-F6C4-4442-BF97-31A02389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9F7-9463-481F-848D-3BAB962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5C3-ED58-4C6C-82EE-62FC0458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317-95BF-4A91-8CFE-0CF52BB6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2B9-E9CC-4FF1-A568-6914645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659-3833-4B36-8B47-1BF734B9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80B-1AC7-45F6-B908-030DF13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2ED-0622-4DA6-B5FE-7EDA1892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7AA-BE04-4515-AA63-DF767011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300-339B-4569-A5C7-F7771941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BDA-841E-4028-BFD7-43166BA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EEE-AC96-4F53-8EB5-AB9EC44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2DD8-CA69-4278-8693-BAD62AFB2E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58920" y="2708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Periode 3, niv 3 e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13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33cc"/>
                </a:solidFill>
                <a:latin typeface="Times New Roman"/>
              </a:rPr>
              <a:t>Bladkamerplant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Livingstoi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livrot1g"/>
          <p:cNvPicPr/>
          <p:nvPr/>
        </p:nvPicPr>
        <p:blipFill>
          <a:blip r:embed="rId1"/>
          <a:stretch/>
        </p:blipFill>
        <p:spPr>
          <a:xfrm>
            <a:off x="2400480" y="1046160"/>
            <a:ext cx="4730400" cy="5191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72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aier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enthe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foto27%20Nepenthes%20X%20mixta%20(Art%20Vogel)"/>
          <p:cNvPicPr/>
          <p:nvPr/>
        </p:nvPicPr>
        <p:blipFill>
          <a:blip r:embed="rId1"/>
          <a:stretch/>
        </p:blipFill>
        <p:spPr>
          <a:xfrm>
            <a:off x="1116000" y="1557360"/>
            <a:ext cx="22906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11280" y="602136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kerplant, vliegenv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NEPENTH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nepenthes3qq"/>
          <p:cNvPicPr/>
          <p:nvPr/>
        </p:nvPicPr>
        <p:blipFill>
          <a:blip r:embed="rId2"/>
          <a:stretch/>
        </p:blipFill>
        <p:spPr>
          <a:xfrm>
            <a:off x="3780000" y="1052640"/>
            <a:ext cx="496872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hrolepsi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211143"/>
          <p:cNvPicPr/>
          <p:nvPr/>
        </p:nvPicPr>
        <p:blipFill>
          <a:blip r:embed="rId1"/>
          <a:stretch/>
        </p:blipFill>
        <p:spPr>
          <a:xfrm>
            <a:off x="1835280" y="1268280"/>
            <a:ext cx="6153120" cy="462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4067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ngevleu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rul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DAV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Oxal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Oxalis%20deppei%20'Iron%20Cross'-3"/>
          <p:cNvPicPr/>
          <p:nvPr/>
        </p:nvPicPr>
        <p:blipFill>
          <a:blip r:embed="rId1"/>
          <a:stretch/>
        </p:blipFill>
        <p:spPr>
          <a:xfrm>
            <a:off x="2124000" y="1341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39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elukskl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OXALI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achir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in het water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BOM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Pachira"/>
          <p:cNvPicPr/>
          <p:nvPr/>
        </p:nvPicPr>
        <p:blipFill>
          <a:blip r:embed="rId1"/>
          <a:stretch/>
        </p:blipFill>
        <p:spPr>
          <a:xfrm>
            <a:off x="2556000" y="1125360"/>
            <a:ext cx="4752720" cy="45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llae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button-fern"/>
          <p:cNvPicPr/>
          <p:nvPr/>
        </p:nvPicPr>
        <p:blipFill>
          <a:blip r:embed="rId1"/>
          <a:stretch/>
        </p:blipFill>
        <p:spPr>
          <a:xfrm>
            <a:off x="2411280" y="1125360"/>
            <a:ext cx="5800680" cy="463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995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 I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dubbeltjes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peromia cape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peperomia_caperata"/>
          <p:cNvPicPr/>
          <p:nvPr/>
        </p:nvPicPr>
        <p:blipFill>
          <a:blip r:embed="rId1"/>
          <a:stretch/>
        </p:blipFill>
        <p:spPr>
          <a:xfrm>
            <a:off x="3276720" y="1052640"/>
            <a:ext cx="394956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50920" y="5805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300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ndelstokpla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EPEROM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olysc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Aralia_Fabian"/>
          <p:cNvPicPr/>
          <p:nvPr/>
        </p:nvPicPr>
        <p:blipFill>
          <a:blip r:embed="rId1"/>
          <a:stretch/>
        </p:blipFill>
        <p:spPr>
          <a:xfrm>
            <a:off x="1619280" y="1125360"/>
            <a:ext cx="30034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42764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otel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112716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polysciasbalfour"/>
          <p:cNvPicPr/>
          <p:nvPr/>
        </p:nvPicPr>
        <p:blipFill>
          <a:blip r:embed="rId2"/>
          <a:stretch/>
        </p:blipFill>
        <p:spPr>
          <a:xfrm>
            <a:off x="5003640" y="1268280"/>
            <a:ext cx="356580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ap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rhapis_excelsa"/>
          <p:cNvPicPr/>
          <p:nvPr/>
        </p:nvPicPr>
        <p:blipFill>
          <a:blip r:embed="rId1"/>
          <a:stretch/>
        </p:blipFill>
        <p:spPr>
          <a:xfrm>
            <a:off x="1547640" y="1052640"/>
            <a:ext cx="449748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211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ho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ips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Rhipsalis"/>
          <p:cNvPicPr/>
          <p:nvPr/>
        </p:nvPicPr>
        <p:blipFill>
          <a:blip r:embed="rId1"/>
          <a:stretch/>
        </p:blipFill>
        <p:spPr>
          <a:xfrm>
            <a:off x="90000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Rhipsalis pentaptera"/>
          <p:cNvPicPr/>
          <p:nvPr/>
        </p:nvPicPr>
        <p:blipFill>
          <a:blip r:embed="rId2"/>
          <a:stretch/>
        </p:blipFill>
        <p:spPr>
          <a:xfrm>
            <a:off x="2700360" y="549360"/>
            <a:ext cx="3079800" cy="4105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C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Rhipsalis pilocarpa LOEFGREN "/>
          <p:cNvPicPr/>
          <p:nvPr/>
        </p:nvPicPr>
        <p:blipFill>
          <a:blip r:embed="rId3"/>
          <a:stretch/>
        </p:blipFill>
        <p:spPr>
          <a:xfrm>
            <a:off x="6516720" y="3284640"/>
            <a:ext cx="2135160" cy="284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pillai"/>
          <p:cNvPicPr/>
          <p:nvPr/>
        </p:nvPicPr>
        <p:blipFill>
          <a:blip r:embed="rId1"/>
          <a:stretch/>
        </p:blipFill>
        <p:spPr>
          <a:xfrm>
            <a:off x="2556000" y="1052640"/>
            <a:ext cx="5311800" cy="539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2193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venush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I 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diantu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ansevieria cylind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Afbeelding 3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084640" cy="42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cindaps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2002-03-23"/>
          <p:cNvPicPr/>
          <p:nvPr/>
        </p:nvPicPr>
        <p:blipFill>
          <a:blip r:embed="rId1"/>
          <a:stretch/>
        </p:blipFill>
        <p:spPr>
          <a:xfrm>
            <a:off x="1619280" y="907920"/>
            <a:ext cx="4070160" cy="5427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356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schilderd, zilverg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locasia x amaz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aloc_amazonica_ts"/>
          <p:cNvPicPr/>
          <p:nvPr/>
        </p:nvPicPr>
        <p:blipFill>
          <a:blip r:embed="rId1"/>
          <a:stretch/>
        </p:blipFill>
        <p:spPr>
          <a:xfrm>
            <a:off x="3348000" y="1197000"/>
            <a:ext cx="4199040" cy="4825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het Amazone stroom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551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ifantsb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eropegia linear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1027"/>
          <p:cNvGraphicFramePr/>
          <p:nvPr/>
        </p:nvGraphicFramePr>
        <p:xfrm>
          <a:off x="2556000" y="1341360"/>
          <a:ext cx="396072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9607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1028"/>
          <p:cNvSpPr/>
          <p:nvPr/>
        </p:nvSpPr>
        <p:spPr>
          <a:xfrm>
            <a:off x="179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hinees lantaar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539640" y="1916280"/>
            <a:ext cx="38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SCLP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4572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ijnvormig, streep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issus antar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issus%20antarctica"/>
          <p:cNvPicPr/>
          <p:nvPr/>
        </p:nvPicPr>
        <p:blipFill>
          <a:blip r:embed="rId1"/>
          <a:stretch/>
        </p:blipFill>
        <p:spPr>
          <a:xfrm>
            <a:off x="2124000" y="907920"/>
            <a:ext cx="460872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211640" y="6093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neden de zuidpoolcirkel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VI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ngoeroewijns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rassu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rassula%20tomentosa%20interupta"/>
          <p:cNvPicPr/>
          <p:nvPr/>
        </p:nvPicPr>
        <p:blipFill>
          <a:blip r:embed="rId1"/>
          <a:stretch/>
        </p:blipFill>
        <p:spPr>
          <a:xfrm>
            <a:off x="2782800" y="1046160"/>
            <a:ext cx="3578400" cy="4765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ras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RASSUL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ycas revol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ycas_revoluta"/>
          <p:cNvPicPr/>
          <p:nvPr/>
        </p:nvPicPr>
        <p:blipFill>
          <a:blip r:embed="rId1"/>
          <a:stretch/>
        </p:blipFill>
        <p:spPr>
          <a:xfrm>
            <a:off x="1332000" y="1125360"/>
            <a:ext cx="7272360" cy="47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995640" y="595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terugge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YCA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595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ycas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Euphorbia tiruca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5950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otlood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UPHORB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Euphorbia_tirucalli-1"/>
          <p:cNvPicPr/>
          <p:nvPr/>
        </p:nvPicPr>
        <p:blipFill>
          <a:blip r:embed="rId1"/>
          <a:stretch/>
        </p:blipFill>
        <p:spPr>
          <a:xfrm>
            <a:off x="2843280" y="1197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icus elas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Ficus_elastica_'Robusta'"/>
          <p:cNvPicPr/>
          <p:nvPr/>
        </p:nvPicPr>
        <p:blipFill>
          <a:blip r:embed="rId1"/>
          <a:stretch/>
        </p:blipFill>
        <p:spPr>
          <a:xfrm>
            <a:off x="2895480" y="1371600"/>
            <a:ext cx="4340520" cy="434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veerkrachtig, rubber leve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ubbe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MO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7-02-08T10:50:19Z</dcterms:modified>
  <cp:revision>111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_dlc_DocId">
    <vt:lpwstr>INTRA-55-6098</vt:lpwstr>
  </property>
  <property fmtid="{D5CDD505-2E9C-101B-9397-08002B2CF9AE}" pid="4" name="_dlc_DocIdItemGuid">
    <vt:lpwstr>d924dc35-2656-4f37-9ff3-e649bb2bd49b</vt:lpwstr>
  </property>
  <property fmtid="{D5CDD505-2E9C-101B-9397-08002B2CF9AE}" pid="5" name="_dlc_DocIdUrl">
    <vt:lpwstr>https://sp.aoc-oost.nl/sites/intranet/projecten/werkveld_en_expertgroepen/_layouts/DocIdRedir.aspx?ID=INTRA-55-6098, INTRA-55-6098</vt:lpwstr>
  </property>
</Properties>
</file>