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AC44C-584D-49DF-A4A3-2220CE833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77B72-D130-42AF-B335-FDC528F43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FCB70-6CF3-42CA-A1E2-C1EC97E45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AD168-80B3-4E2F-B74F-7BC2FCF51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35E87-D83B-4B64-BD1F-5463AD693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FA23D-FAEC-4DD2-9B6D-B5C6EC9FB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CF5C3-4538-46B2-BDF5-A732C2D07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8419C-9C49-4889-9E9B-3808F2BC2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FBF2F-95EF-4100-9B99-663656CE7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83967-9C8A-4C97-BD82-7CFA8BE92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596D3-6FA8-447D-9CDE-AE130092F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9C21E-CC63-4F48-BA18-0ACFC585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329FA-F460-44F4-9E6E-408153EF0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07A67-45D8-4D01-B45F-7A794DD2E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1BC39-BC27-4D5E-A360-B1B16378E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DE429-4F33-4CB1-81F1-89E39C31C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35A7E-788A-4FBC-A7AF-05580E34D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16C7-713C-4E25-A1E5-23D136645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1204-3BE9-4659-B426-82909C0D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573FC-185C-4A84-80D2-35AAA40A7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364E6-46FF-4F67-B95A-58F426A2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9EE5E-50D2-49D0-804D-6C7AB341C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67AC0-D9D0-4872-9047-854F40ED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8D3E-AD62-48E1-B7F7-3FF35C1A2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456E-3FDC-48F9-9678-1BCEBAC0EB72}"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9CD7-E239-4047-B280-216937A78014}" type="slidenum">
              <a:rPr b="0"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13012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30066"/>
                </a:solidFill>
                <a:latin typeface="Arial"/>
              </a:rPr>
              <a:t>Milieu hygiënische maatregelen</a:t>
            </a:r>
            <a:endParaRPr b="1" lang="en-US" sz="4400" spc="-1" strike="noStrike">
              <a:solidFill>
                <a:srgbClr val="330066"/>
              </a:solidFill>
              <a:latin typeface="Arial"/>
            </a:endParaRPr>
          </a:p>
        </p:txBody>
      </p:sp>
      <p:sp>
        <p:nvSpPr>
          <p:cNvPr id="150"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lieu administratie=</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aak tandartsassis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ragen????</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Arial"/>
              </a:rPr>
              <a:t>Wanneer wordt mijn milieubox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Uw milieubox wordt afhankelijk van contract 1 of 2 maal per jaar of op afroep gewissel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f 2 maal per jaar gewisseld, geen actie bij abonnement</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act op afroep (zoals bij een vloeistoffenpakket of een naaldenpakket), zelf contact opnemen.</a:t>
            </a:r>
            <a:br>
              <a:rPr sz="2600"/>
            </a:br>
            <a:r>
              <a:rPr b="0" lang="nl-NL"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 maakt de opdracht: uitleg doc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DRS</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ntal Recycling Services verzorgt inmiddels ruim 20 jaar milieusystemen voor de tandheelkunde. Het is een markt die voortdurend in beweging is, enerzijds onder invloed van de overheid en anderzijds door ontwikkelingen binnen de tandheelkund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nl-NL" sz="2000" spc="-1" strike="noStrike">
                <a:solidFill>
                  <a:srgbClr val="330066"/>
                </a:solidFill>
                <a:latin typeface="Arial"/>
              </a:rPr>
              <a:t>Eisen, zie site DRS= verwerkingsbedrijf.</a:t>
            </a:r>
            <a:br>
              <a:rPr sz="2000"/>
            </a:br>
            <a:endParaRPr b="1" lang="en-US" sz="20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2. Amalgaamafscheider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Bedrijfsafvalwater dat amalgaam bevat, wordt via een amalgaamafscheider in een riolering gebrach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De door de leverancier aangegeven maximale doorstroomsnelheid wordt daarbij niet overschreden.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Een amalgaamafscheider heeft een afscheidingsrendement van ten minste 95%, blijkens een voor het type waartoe hij behoort afgegeven </a:t>
            </a:r>
            <a:r>
              <a:rPr b="1" lang="nl-NL" sz="2100" spc="-1" strike="noStrike">
                <a:solidFill>
                  <a:srgbClr val="000000"/>
                </a:solidFill>
                <a:latin typeface="Arial"/>
              </a:rPr>
              <a:t>testcertificaat. Datum afgift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Het afscheidingsrendement van een type amalgaamafscheider dient bepaald te worden via de door Onze Minister bij ministeriële regeling vastgestelde method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Bedrijfsafvalwater</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Tandartspraktijk worden niet meer chemicaliën bewaard dan de hoeveelheid die voor een goede bedrijfsvoering noodzakelijk i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De opslag van chemicaliën geschiedt zodanig dat onbevoegden er geen toegang toe hebbe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Vervanging of reiniging minstens 1x per jaar.</a:t>
            </a:r>
            <a:endParaRPr b="1" lang="en-US" sz="3900" spc="-1" strike="noStrike">
              <a:solidFill>
                <a:srgbClr val="330066"/>
              </a:solidFill>
              <a:latin typeface="Arial"/>
            </a:endParaRPr>
          </a:p>
        </p:txBody>
      </p:sp>
      <p:pic>
        <p:nvPicPr>
          <p:cNvPr id="158" name="Picture 4" descr=""/>
          <p:cNvPicPr/>
          <p:nvPr/>
        </p:nvPicPr>
        <p:blipFill>
          <a:blip r:embed="rId1"/>
          <a:stretch/>
        </p:blipFill>
        <p:spPr>
          <a:xfrm>
            <a:off x="2184480" y="1719360"/>
            <a:ext cx="4775040" cy="44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Abonnement op een DRS dental milieubox. schoongemaakt en retour gestuur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0" y="1833480"/>
            <a:ext cx="8229600" cy="405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900" spc="-1" strike="noStrike">
                <a:solidFill>
                  <a:srgbClr val="330066"/>
                </a:solidFill>
                <a:latin typeface="Arial"/>
              </a:rPr>
              <a:t>Kijk voor meer info op de site!</a:t>
            </a:r>
            <a:endParaRPr b="1" lang="en-US" sz="3900" spc="-1" strike="noStrike">
              <a:solidFill>
                <a:srgbClr val="330066"/>
              </a:solidFill>
              <a:latin typeface="Arial"/>
            </a:endParaRPr>
          </a:p>
        </p:txBody>
      </p:sp>
      <p:pic>
        <p:nvPicPr>
          <p:cNvPr id="162" name="Picture 5" descr="Pakket%20A"/>
          <p:cNvPicPr/>
          <p:nvPr/>
        </p:nvPicPr>
        <p:blipFill>
          <a:blip r:embed="rId1"/>
          <a:stretch/>
        </p:blipFill>
        <p:spPr>
          <a:xfrm>
            <a:off x="1187280" y="2133720"/>
            <a:ext cx="1905120" cy="1419120"/>
          </a:xfrm>
          <a:prstGeom prst="rect">
            <a:avLst/>
          </a:prstGeom>
          <a:ln w="0">
            <a:noFill/>
          </a:ln>
        </p:spPr>
      </p:pic>
      <p:pic>
        <p:nvPicPr>
          <p:cNvPr id="163" name="Picture 7" descr="Pakket%20B"/>
          <p:cNvPicPr/>
          <p:nvPr/>
        </p:nvPicPr>
        <p:blipFill>
          <a:blip r:embed="rId2"/>
          <a:stretch/>
        </p:blipFill>
        <p:spPr>
          <a:xfrm>
            <a:off x="5651640" y="3645000"/>
            <a:ext cx="1904760" cy="1419120"/>
          </a:xfrm>
          <a:prstGeom prst="rect">
            <a:avLst/>
          </a:prstGeom>
          <a:ln w="0">
            <a:noFill/>
          </a:ln>
        </p:spPr>
      </p:pic>
      <p:pic>
        <p:nvPicPr>
          <p:cNvPr id="164" name="Picture 9" descr="beursaanbieding"/>
          <p:cNvPicPr/>
          <p:nvPr/>
        </p:nvPicPr>
        <p:blipFill>
          <a:blip r:embed="rId3"/>
          <a:stretch/>
        </p:blipFill>
        <p:spPr>
          <a:xfrm>
            <a:off x="2700360" y="4005360"/>
            <a:ext cx="1905120" cy="15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visuele%20valueflow"/>
          <p:cNvPicPr/>
          <p:nvPr/>
        </p:nvPicPr>
        <p:blipFill>
          <a:blip r:embed="rId1"/>
          <a:stretch/>
        </p:blipFill>
        <p:spPr>
          <a:xfrm>
            <a:off x="971640" y="404640"/>
            <a:ext cx="6696000" cy="604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9:45:28Z</dcterms:created>
  <dc:creator>E. Sprenger</dc:creator>
  <dc:description/>
  <dc:language>en-US</dc:language>
  <cp:lastModifiedBy>Sprenger-van den Berg,J.</cp:lastModifiedBy>
  <dcterms:modified xsi:type="dcterms:W3CDTF">2016-10-02T18:23:48Z</dcterms:modified>
  <cp:revision>6</cp:revision>
  <dc:subject/>
  <dc:title>Milieuhygiënische maatregelen</dc:title>
</cp:coreProperties>
</file>