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104-38CF-4F95-A2C1-A0C1C5F5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1EB-1FBA-42A4-BBA1-A531FA1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784-DDBD-45B5-92AF-1316EFF2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EA7-3CB6-49A5-B999-5B89FA87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3AA-0E82-4264-98E1-26FD4371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909-4BDC-40EC-9E81-EEDD400F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223-005C-459D-A881-99792336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77D-2788-4842-AFA2-E9D43882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CE2-D997-429F-A8D6-EDECFD2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D44-0188-4FDD-ABFD-3452EC14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412-8A3E-4CB5-9B33-2BA9B911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5C0-2093-4EC6-BA07-1BA9DCD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1730-957E-470A-9848-7F92AEE53A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thejcdp.com/issue004/finkbr/graphics/leadfink.jpg&amp;imgrefurl=http://www.thejcdp.com/issue004/finkbr/01finkbr.htm&amp;usg=__bzQIy7CblNaq7gDwTFVlFh4LNGE=&amp;h=287&amp;w=395&amp;sz=22&amp;hl=nl&amp;start=20&amp;tbnid=eqr-vf3CMTlJ7M:&amp;tbnh=90&amp;tbnw=124&amp;prev=/images%3Fq%3DFour%2Bhanded%2Bdenstistry%26hl%3Dn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9999"/>
                </a:solidFill>
                <a:latin typeface="Arial"/>
              </a:rPr>
              <a:t>Groot en klein instrument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öntgenappar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 = plaatje (orth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igitaalrontgen"/>
          <p:cNvPicPr/>
          <p:nvPr/>
        </p:nvPicPr>
        <p:blipFill>
          <a:blip r:embed="rId1"/>
          <a:stretch/>
        </p:blipFill>
        <p:spPr>
          <a:xfrm>
            <a:off x="5580000" y="364500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kasten, los of v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nstrumentenkasten"/>
          <p:cNvPicPr/>
          <p:nvPr/>
        </p:nvPicPr>
        <p:blipFill>
          <a:blip r:embed="rId1"/>
          <a:stretch/>
        </p:blipFill>
        <p:spPr>
          <a:xfrm>
            <a:off x="4932360" y="31417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niging 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niging"/>
          <p:cNvPicPr/>
          <p:nvPr/>
        </p:nvPicPr>
        <p:blipFill>
          <a:blip r:embed="rId1"/>
          <a:stretch/>
        </p:blipFill>
        <p:spPr>
          <a:xfrm>
            <a:off x="3191040" y="2552760"/>
            <a:ext cx="276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weet je 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%20tandarts5"/>
          <p:cNvPicPr/>
          <p:nvPr/>
        </p:nvPicPr>
        <p:blipFill>
          <a:blip r:embed="rId1"/>
          <a:stretch/>
        </p:blipFill>
        <p:spPr>
          <a:xfrm>
            <a:off x="3635280" y="1484280"/>
            <a:ext cx="4210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cdent"/>
          <p:cNvPicPr/>
          <p:nvPr/>
        </p:nvPicPr>
        <p:blipFill>
          <a:blip r:embed="rId1"/>
          <a:stretch/>
        </p:blipFill>
        <p:spPr>
          <a:xfrm>
            <a:off x="5148360" y="3213000"/>
            <a:ext cx="3705120" cy="32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leadfi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781360"/>
            <a:ext cx="3311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t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ray (1)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 in de tandartspraktijk(stenc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h_0605dem_theinevitability01"/>
          <p:cNvPicPr/>
          <p:nvPr/>
        </p:nvPicPr>
        <p:blipFill>
          <a:blip r:embed="rId1"/>
          <a:stretch/>
        </p:blipFill>
        <p:spPr>
          <a:xfrm>
            <a:off x="4716360" y="3068640"/>
            <a:ext cx="3454560" cy="26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SI%20CANS"/>
          <p:cNvPicPr/>
          <p:nvPr/>
        </p:nvPicPr>
        <p:blipFill>
          <a:blip r:embed="rId2"/>
          <a:stretch/>
        </p:blipFill>
        <p:spPr>
          <a:xfrm>
            <a:off x="755640" y="2565360"/>
            <a:ext cx="32623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zie j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andartsstoel"/>
          <p:cNvPicPr/>
          <p:nvPr/>
        </p:nvPicPr>
        <p:blipFill>
          <a:blip r:embed="rId1"/>
          <a:stretch/>
        </p:blipFill>
        <p:spPr>
          <a:xfrm>
            <a:off x="1763640" y="2205000"/>
            <a:ext cx="481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st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lleren st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ehandelstoelen"/>
          <p:cNvPicPr/>
          <p:nvPr/>
        </p:nvPicPr>
        <p:blipFill>
          <a:blip r:embed="rId1"/>
          <a:stretch/>
        </p:blipFill>
        <p:spPr>
          <a:xfrm>
            <a:off x="3492360" y="2678040"/>
            <a:ext cx="4562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elposities: 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istente stoel en tandartsst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tandartstoelen"/>
          <p:cNvPicPr/>
          <p:nvPr/>
        </p:nvPicPr>
        <p:blipFill>
          <a:blip r:embed="rId1"/>
          <a:stretch/>
        </p:blipFill>
        <p:spPr>
          <a:xfrm>
            <a:off x="4067280" y="3141720"/>
            <a:ext cx="41767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hatistool"/>
          <p:cNvPicPr/>
          <p:nvPr/>
        </p:nvPicPr>
        <p:blipFill>
          <a:blip r:embed="rId2"/>
          <a:stretch/>
        </p:blipFill>
        <p:spPr>
          <a:xfrm>
            <a:off x="1835280" y="2924280"/>
            <a:ext cx="1714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tpos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s st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larcir"/>
          <p:cNvPicPr/>
          <p:nvPr/>
        </p:nvPicPr>
        <p:blipFill>
          <a:blip r:embed="rId1"/>
          <a:stretch/>
        </p:blipFill>
        <p:spPr>
          <a:xfrm>
            <a:off x="2957400" y="1828800"/>
            <a:ext cx="32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passing als assis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_0605dem_let01"/>
          <p:cNvPicPr/>
          <p:nvPr/>
        </p:nvPicPr>
        <p:blipFill>
          <a:blip r:embed="rId1"/>
          <a:stretch/>
        </p:blipFill>
        <p:spPr>
          <a:xfrm>
            <a:off x="2916360" y="1628640"/>
            <a:ext cx="2857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nk en verrijdb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handelunit"/>
          <p:cNvPicPr/>
          <p:nvPr/>
        </p:nvPicPr>
        <p:blipFill>
          <a:blip r:embed="rId1"/>
          <a:stretch/>
        </p:blipFill>
        <p:spPr>
          <a:xfrm>
            <a:off x="3492360" y="2852640"/>
            <a:ext cx="446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eratie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ie lamp stel jij ook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peratielampen"/>
          <p:cNvPicPr/>
          <p:nvPr/>
        </p:nvPicPr>
        <p:blipFill>
          <a:blip r:embed="rId1"/>
          <a:stretch/>
        </p:blipFill>
        <p:spPr>
          <a:xfrm>
            <a:off x="3708360" y="3357720"/>
            <a:ext cx="4248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ivm 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fzuigsystemen"/>
          <p:cNvPicPr/>
          <p:nvPr/>
        </p:nvPicPr>
        <p:blipFill>
          <a:blip r:embed="rId1"/>
          <a:stretch/>
        </p:blipFill>
        <p:spPr>
          <a:xfrm>
            <a:off x="2627280" y="2997360"/>
            <a:ext cx="4753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25:01Z</dcterms:created>
  <dc:creator>E. Sprenger</dc:creator>
  <dc:description/>
  <dc:language>en-US</dc:language>
  <cp:lastModifiedBy>Jannet van den Berg</cp:lastModifiedBy>
  <dcterms:modified xsi:type="dcterms:W3CDTF">2016-11-17T15:58:18Z</dcterms:modified>
  <cp:revision>6</cp:revision>
  <dc:subject/>
  <dc:title>Groot en klein instrumentarium</dc:title>
</cp:coreProperties>
</file>