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B196-8677-4B2F-95BC-3E6F221CF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DB4A-7250-4B93-B380-6B12F7955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9F6F-99E4-4DED-99AF-9EB3D1DDD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13CA-297B-4DA7-8D56-81BDD6815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A610-D1AD-4BDD-BFB4-54AA0117B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6698-2050-45B0-BFAF-2A70E6E8B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6118-8CA7-4AED-BDDF-C3ED7E4BC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A434-EBBB-46CF-94DA-37DC6DB2E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E0AB-ED60-421E-A61C-E299E42B7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09F9-CCDA-481F-8A9F-CF5C74F9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F94D-D716-4E88-8123-C780FDE2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07CC-A526-40AF-8496-730F4B36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75B40-89CA-4417-A65E-0E486AE8C2D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images.google.com/imgres?imgurl=http://www.thejcdp.com/issue004/finkbr/graphics/leadfink.jpg&amp;imgrefurl=http://www.thejcdp.com/issue004/finkbr/01finkbr.htm&amp;usg=__bzQIy7CblNaq7gDwTFVlFh4LNGE=&amp;h=287&amp;w=395&amp;sz=22&amp;hl=nl&amp;start=20&amp;tbnid=eqr-vf3CMTlJ7M:&amp;tbnh=90&amp;tbnw=124&amp;prev=/images%3Fq%3DFour%2Bhanded%2Bdenstistry%26hl%3Dnl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9999"/>
                </a:solidFill>
                <a:latin typeface="Arial"/>
              </a:rPr>
              <a:t>Groot en klein instrumenta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aktijkle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öntgenappara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G = plaatje (ortho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digitaalrontgen"/>
          <p:cNvPicPr/>
          <p:nvPr/>
        </p:nvPicPr>
        <p:blipFill>
          <a:blip r:embed="rId1"/>
          <a:stretch/>
        </p:blipFill>
        <p:spPr>
          <a:xfrm>
            <a:off x="5580000" y="3645000"/>
            <a:ext cx="27622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oorten kasten, los of v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a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instrumentenkasten"/>
          <p:cNvPicPr/>
          <p:nvPr/>
        </p:nvPicPr>
        <p:blipFill>
          <a:blip r:embed="rId1"/>
          <a:stretch/>
        </p:blipFill>
        <p:spPr>
          <a:xfrm>
            <a:off x="4932360" y="3141720"/>
            <a:ext cx="27622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einiging syste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itleg AD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reiniging"/>
          <p:cNvPicPr/>
          <p:nvPr/>
        </p:nvPicPr>
        <p:blipFill>
          <a:blip r:embed="rId1"/>
          <a:stretch/>
        </p:blipFill>
        <p:spPr>
          <a:xfrm>
            <a:off x="3191040" y="2552760"/>
            <a:ext cx="27619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at weet je 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noem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de%20tandarts5"/>
          <p:cNvPicPr/>
          <p:nvPr/>
        </p:nvPicPr>
        <p:blipFill>
          <a:blip r:embed="rId1"/>
          <a:stretch/>
        </p:blipFill>
        <p:spPr>
          <a:xfrm>
            <a:off x="3635280" y="1484280"/>
            <a:ext cx="42102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our handed dentis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gonom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1cdent"/>
          <p:cNvPicPr/>
          <p:nvPr/>
        </p:nvPicPr>
        <p:blipFill>
          <a:blip r:embed="rId1"/>
          <a:stretch/>
        </p:blipFill>
        <p:spPr>
          <a:xfrm>
            <a:off x="5148360" y="3213000"/>
            <a:ext cx="3705120" cy="3214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leadfink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76360" y="2781360"/>
            <a:ext cx="3311640" cy="24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sistr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Tray (1)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ANDA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gonomie in de tandartspraktijk(stenci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th_0605dem_theinevitability01"/>
          <p:cNvPicPr/>
          <p:nvPr/>
        </p:nvPicPr>
        <p:blipFill>
          <a:blip r:embed="rId1"/>
          <a:stretch/>
        </p:blipFill>
        <p:spPr>
          <a:xfrm>
            <a:off x="4716360" y="3068640"/>
            <a:ext cx="3454560" cy="2604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RSI%20CANS"/>
          <p:cNvPicPr/>
          <p:nvPr/>
        </p:nvPicPr>
        <p:blipFill>
          <a:blip r:embed="rId2"/>
          <a:stretch/>
        </p:blipFill>
        <p:spPr>
          <a:xfrm>
            <a:off x="755640" y="2565360"/>
            <a:ext cx="3262320" cy="16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at zie je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D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tandartsstoel"/>
          <p:cNvPicPr/>
          <p:nvPr/>
        </p:nvPicPr>
        <p:blipFill>
          <a:blip r:embed="rId1"/>
          <a:stretch/>
        </p:blipFill>
        <p:spPr>
          <a:xfrm>
            <a:off x="1763640" y="2205000"/>
            <a:ext cx="48196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andartssto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stalleren sto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behandelstoelen"/>
          <p:cNvPicPr/>
          <p:nvPr/>
        </p:nvPicPr>
        <p:blipFill>
          <a:blip r:embed="rId1"/>
          <a:stretch/>
        </p:blipFill>
        <p:spPr>
          <a:xfrm>
            <a:off x="3492360" y="2678040"/>
            <a:ext cx="456264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oelposities: kl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ssistente stoel en tandartssto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tandartstoelen"/>
          <p:cNvPicPr/>
          <p:nvPr/>
        </p:nvPicPr>
        <p:blipFill>
          <a:blip r:embed="rId1"/>
          <a:stretch/>
        </p:blipFill>
        <p:spPr>
          <a:xfrm>
            <a:off x="4067280" y="3141720"/>
            <a:ext cx="4176720" cy="2649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whatistool"/>
          <p:cNvPicPr/>
          <p:nvPr/>
        </p:nvPicPr>
        <p:blipFill>
          <a:blip r:embed="rId2"/>
          <a:stretch/>
        </p:blipFill>
        <p:spPr>
          <a:xfrm>
            <a:off x="1835280" y="2924280"/>
            <a:ext cx="17143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L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itposi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es stenc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1larcir"/>
          <p:cNvPicPr/>
          <p:nvPr/>
        </p:nvPicPr>
        <p:blipFill>
          <a:blip r:embed="rId1"/>
          <a:stretch/>
        </p:blipFill>
        <p:spPr>
          <a:xfrm>
            <a:off x="2957400" y="1828800"/>
            <a:ext cx="32292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anpassing als assist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th_0605dem_let01"/>
          <p:cNvPicPr/>
          <p:nvPr/>
        </p:nvPicPr>
        <p:blipFill>
          <a:blip r:embed="rId1"/>
          <a:stretch/>
        </p:blipFill>
        <p:spPr>
          <a:xfrm>
            <a:off x="2916360" y="1628640"/>
            <a:ext cx="285732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wenk en verrijdb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behandelunit"/>
          <p:cNvPicPr/>
          <p:nvPr/>
        </p:nvPicPr>
        <p:blipFill>
          <a:blip r:embed="rId1"/>
          <a:stretch/>
        </p:blipFill>
        <p:spPr>
          <a:xfrm>
            <a:off x="3492360" y="2852640"/>
            <a:ext cx="446436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peratiela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eratie lamp stel jij ook 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operatielampen"/>
          <p:cNvPicPr/>
          <p:nvPr/>
        </p:nvPicPr>
        <p:blipFill>
          <a:blip r:embed="rId1"/>
          <a:stretch/>
        </p:blipFill>
        <p:spPr>
          <a:xfrm>
            <a:off x="3708360" y="3357720"/>
            <a:ext cx="4248360" cy="26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lke ivm four handed dentis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oor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afzuigsystemen"/>
          <p:cNvPicPr/>
          <p:nvPr/>
        </p:nvPicPr>
        <p:blipFill>
          <a:blip r:embed="rId1"/>
          <a:stretch/>
        </p:blipFill>
        <p:spPr>
          <a:xfrm>
            <a:off x="2627280" y="2997360"/>
            <a:ext cx="4753080" cy="30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2T11:25:01Z</dcterms:created>
  <dc:creator>E. Sprenger</dc:creator>
  <dc:description/>
  <dc:language>en-US</dc:language>
  <cp:lastModifiedBy>Jannet van den Berg</cp:lastModifiedBy>
  <dcterms:modified xsi:type="dcterms:W3CDTF">2016-11-17T15:58:18Z</dcterms:modified>
  <cp:revision>6</cp:revision>
  <dc:subject/>
  <dc:title>Groot en klein instrumentarium</dc:title>
</cp:coreProperties>
</file>