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7A393-B95F-4C44-947B-5AEBBF990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9403E-422B-4C4B-9DC4-8E335907C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8836D-037A-43EA-9409-E847545C0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341FA-231C-41DE-AF23-9453B7102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B42C2-71DC-4F28-B38E-958D468BD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73737-3440-4AED-AE50-964E86DAB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B86C4-47D9-4FF0-B340-C282EEDDD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7ED7D-C3CB-4E8F-8272-678665C5B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F3ACD-C7CD-48FD-97E1-17A07F34F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06CCC-C2EF-49E5-817D-B9930DCD7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1BB30-F7BF-443C-AEF7-29DC3CB4B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3AA62-0898-43C2-8734-5060B8AD5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F2C9C-C42F-430F-A720-DD73E2698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04C01-FD0F-465A-9D15-F72D7F7EE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187F8-0E80-4C71-868B-47C02C141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28407-D996-4F80-B25A-4B14251DF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24D64-FDA0-4D3A-95B1-63EE07FB8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252AD-4948-4C5C-AA7D-6EC213148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6F69B-2A34-457C-9B76-DD708931F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8DE77-B080-4A07-8BC3-3E1CE9E9E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331A3-5D3D-46E4-898C-667F64A94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09A25-17E0-44C4-BD93-0E4582870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707E7-44B4-4A17-A968-B28D37805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DCB78-C21D-45F4-8A66-0BBED5623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0"/>
            </a:gs>
            <a:gs pos="100000">
              <a:srgbClr val="0000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000070"/>
                </a:gs>
                <a:gs pos="100000">
                  <a:srgbClr val="0000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000070"/>
                </a:gs>
                <a:gs pos="100000">
                  <a:srgbClr val="0000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000070"/>
                </a:gs>
                <a:gs pos="100000">
                  <a:srgbClr val="0000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000070"/>
                </a:gs>
                <a:gs pos="50000">
                  <a:srgbClr val="2e2e8a"/>
                </a:gs>
                <a:gs pos="100000">
                  <a:srgbClr val="00007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70"/>
                </a:gs>
                <a:gs pos="100000">
                  <a:srgbClr val="0000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000070"/>
                </a:gs>
                <a:gs pos="100000">
                  <a:srgbClr val="0000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000070"/>
                </a:gs>
                <a:gs pos="100000">
                  <a:srgbClr val="0000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000070"/>
                </a:gs>
                <a:gs pos="100000">
                  <a:srgbClr val="0000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000070"/>
                </a:gs>
                <a:gs pos="100000">
                  <a:srgbClr val="0000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000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000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000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000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000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000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5c5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D5FD7-B1A9-4EE0-BBB6-5C6DE8030A9C}" type="datetime">
              <a:rPr b="0" lang="nl-NL" sz="1000" spc="-1" strike="noStrike">
                <a:solidFill>
                  <a:srgbClr val="000000"/>
                </a:solidFill>
                <a:latin typeface="Verdana"/>
              </a:rPr>
              <a:t>28-07-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Gezondheid 2016 NH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1FBA3-0EED-4A87-AEB0-62506E0F3F73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0"/>
            </a:gs>
            <a:gs pos="100000">
              <a:srgbClr val="0000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000070"/>
                </a:gs>
                <a:gs pos="100000">
                  <a:srgbClr val="0000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2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000070"/>
                </a:gs>
                <a:gs pos="100000">
                  <a:srgbClr val="0000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3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000070"/>
                </a:gs>
                <a:gs pos="100000">
                  <a:srgbClr val="0000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4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000070"/>
                </a:gs>
                <a:gs pos="50000">
                  <a:srgbClr val="2e2e8a"/>
                </a:gs>
                <a:gs pos="100000">
                  <a:srgbClr val="00007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5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70"/>
                </a:gs>
                <a:gs pos="100000">
                  <a:srgbClr val="0000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6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000070"/>
                </a:gs>
                <a:gs pos="100000">
                  <a:srgbClr val="0000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7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000070"/>
                </a:gs>
                <a:gs pos="100000">
                  <a:srgbClr val="0000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8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000070"/>
                </a:gs>
                <a:gs pos="100000">
                  <a:srgbClr val="0000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9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000070"/>
                </a:gs>
                <a:gs pos="100000">
                  <a:srgbClr val="0000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0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000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9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000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4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3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000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000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000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000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5c5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1EA2C-A741-49B9-A7E9-911C0FEC1A41}" type="datetime">
              <a:rPr b="0" lang="nl-NL" sz="1000" spc="-1" strike="noStrike">
                <a:solidFill>
                  <a:srgbClr val="ffffff"/>
                </a:solidFill>
                <a:latin typeface="Verdana"/>
              </a:rPr>
              <a:t>28-07-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Gezondheid 2016 NH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C8172-D399-458F-8059-694A1782FB5A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Gezondheid en gezond gedrag</a:t>
            </a: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88930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Verdana"/>
              </a:rPr>
              <a:t>Wat betekent </a:t>
            </a:r>
            <a:r>
              <a:rPr b="0" i="1" lang="en-US" sz="3200" spc="-1" strike="noStrike">
                <a:solidFill>
                  <a:srgbClr val="00ffff"/>
                </a:solidFill>
                <a:latin typeface="Verdana"/>
              </a:rPr>
              <a:t>GEZOND en GEZONDHEID</a:t>
            </a:r>
            <a:r>
              <a:rPr b="0" lang="en-US" sz="3200" spc="-1" strike="noStrike">
                <a:solidFill>
                  <a:srgbClr val="00ffff"/>
                </a:solidFill>
                <a:latin typeface="Verdana"/>
              </a:rPr>
              <a:t> 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Verdana"/>
              </a:rPr>
              <a:t>Wereld Gezondheids (Health)Organisatie: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Tijdelijke aanduiding voor datum 1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A1D50-C18C-4D60-AF0F-F393B2BEF451}" type="datetime">
              <a:rPr b="0" lang="nl-NL" sz="1000" spc="-1" strike="noStrike">
                <a:solidFill>
                  <a:srgbClr val="ffffff"/>
                </a:solidFill>
                <a:latin typeface="Verdana"/>
              </a:rPr>
              <a:t>28-07-26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Tijdelijke aanduiding voor voettekst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Gezondheid 2016 NH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Tijdelijke aanduiding voor dianumm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54B3F-70A3-4384-AC3C-6E7FFDAC5AB0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Verdana"/>
              </a:rPr>
              <a:t>– </a:t>
            </a: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Gezondheidsbedreigende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factoren</a:t>
            </a: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Leefstijl/gewoont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elvaar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tres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Groei industrie – milieuvervuilin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Zitcultuur/ IC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Gebrek aan lichaamsbewegin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Tijdelijke aanduiding voor datum 1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8094A-7143-41C3-BEE4-068019845CD8}" type="datetime">
              <a:rPr b="0" lang="nl-NL" sz="1000" spc="-1" strike="noStrike">
                <a:solidFill>
                  <a:srgbClr val="ffffff"/>
                </a:solidFill>
                <a:latin typeface="Verdana"/>
              </a:rPr>
              <a:t>28-07-26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" name="Tijdelijke aanduiding voor voettekst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Gezondheid 2016 NH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Tijdelijke aanduiding voor dianumm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7FACA-2EA4-4D55-AFBC-4F4E7EA0B5F9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comb dir="horz"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0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8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8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8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8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Gezondheidsgedrag</a:t>
            </a: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evorderen d.m.v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elone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onditionere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Nabootse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6" name="Rectangle 4"/>
          <p:cNvSpPr/>
          <p:nvPr/>
        </p:nvSpPr>
        <p:spPr>
          <a:xfrm>
            <a:off x="4140360" y="2151360"/>
            <a:ext cx="4535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Gezond eten, voldoende bewegen, dat doe jij natuurlijk allemaal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Denk je..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Want veel mensen overschatten hun eigen gezondheidsgedrag!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7" name="Picture 6" descr="ANd9GcT9yBvSps3WtzxC2M26Vfnxu5a11TPaN3DNgCTFJRiOPenK6UPYCpzl2Rc"/>
          <p:cNvPicPr/>
          <p:nvPr/>
        </p:nvPicPr>
        <p:blipFill>
          <a:blip r:embed="rId4"/>
          <a:stretch/>
        </p:blipFill>
        <p:spPr>
          <a:xfrm>
            <a:off x="5435640" y="2997360"/>
            <a:ext cx="1181160" cy="1152360"/>
          </a:xfrm>
          <a:prstGeom prst="rect">
            <a:avLst/>
          </a:prstGeom>
          <a:ln w="0">
            <a:noFill/>
          </a:ln>
        </p:spPr>
      </p:pic>
      <p:sp>
        <p:nvSpPr>
          <p:cNvPr id="218" name="Tijdelijke aanduiding voor datum 1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740E9-0D11-42D1-9044-027A4210431B}" type="datetime">
              <a:rPr b="0" lang="nl-NL" sz="1000" spc="-1" strike="noStrike">
                <a:solidFill>
                  <a:srgbClr val="ffffff"/>
                </a:solidFill>
                <a:latin typeface="Verdana"/>
              </a:rPr>
              <a:t>28-07-26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Tijdelijke aanduiding voor voettekst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Gezondheid 2016 NH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Tijdelijke aanduiding voor dianumm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02B83-27B3-4406-90DF-25074C40A931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comb dir="horz"/>
  </p:transition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nodeType="clickEffect" fill="hold">
                      <p:stCondLst>
                        <p:cond delay="0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8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8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8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8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5c5ff"/>
                </a:solidFill>
                <a:latin typeface="Arial"/>
              </a:rPr>
              <a:t>World Health Organisation</a:t>
            </a: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Verdana"/>
              </a:rPr>
              <a:t>WHO: Gezondheid is niet alleen de afwezigheid van ziekte, maar een toestand van volkomen lichamelijk, geestelijk en maatschappelijk welzij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Tijdelijke aanduiding voor datum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898C2-D0C0-461B-B61B-C05D0306A3F3}" type="datetime">
              <a:rPr b="0" lang="nl-NL" sz="1000" spc="-1" strike="noStrike">
                <a:solidFill>
                  <a:srgbClr val="ffffff"/>
                </a:solidFill>
                <a:latin typeface="Verdana"/>
              </a:rPr>
              <a:t>28-07-26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Gezondheid 2016 NH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Tijdelijke aanduiding voor dianumm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96F01-D55C-4A74-A4D1-57A8B5C62354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Gezondheid: ingewikkeld begrip</a:t>
            </a: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Gezondheid(sbeleving) is afhankelijk van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ultuu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Opvoeding / waarden en norme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ijd waarin je leef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ersoonlijke ervaringe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Wat heb je ervoor over (hoe gezond wil je leven?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n daarme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relatief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en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subjectief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Tijdelijke aanduiding voor datum 1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C0058-7B11-4BE2-AF26-8C787F6D03B5}" type="datetime">
              <a:rPr b="0" lang="nl-NL" sz="1000" spc="-1" strike="noStrike">
                <a:solidFill>
                  <a:srgbClr val="ffffff"/>
                </a:solidFill>
                <a:latin typeface="Verdana"/>
              </a:rPr>
              <a:t>28-07-26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Tijdelijke aanduiding voor voettekst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Gezondheid 2016 NH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Tijdelijke aanduiding voor dianumm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4C08C-AF2C-4FEB-8BA8-F381D24E08E4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comb dir="horz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0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8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8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8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8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c5c5ff"/>
                </a:solidFill>
                <a:latin typeface="Arial"/>
              </a:rPr>
              <a:t>Nieuwe definitie gezondheid</a:t>
            </a: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gezondheid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 is het vermogen om je aan te passen en eigen regie te voeren in het licht van fysieke, mentale en sociale uitdagingen van het leven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Filmpje Nationale denktank 2013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zorg voor gezondheid”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Tijdelijke aanduiding voor datum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B7E36-E309-49B1-9AD2-C4420B12024F}" type="datetime">
              <a:rPr b="0" lang="nl-NL" sz="1000" spc="-1" strike="noStrike">
                <a:solidFill>
                  <a:srgbClr val="ffffff"/>
                </a:solidFill>
                <a:latin typeface="Verdana"/>
              </a:rPr>
              <a:t>28-07-26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Gezondheid 2016 NH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Tijdelijke aanduiding voor dianumm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8C384-7CDD-4AA6-B949-38FF11C8B7D3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5c5ff"/>
                </a:solidFill>
                <a:latin typeface="Arial"/>
              </a:rPr>
              <a:t>Gezondheid als drie-eenheid</a:t>
            </a: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geestelijk/psychisch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   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ff00"/>
                </a:solidFill>
                <a:latin typeface="Verdana"/>
              </a:rPr>
              <a:t>gezondhei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Lichamelijk/fysiek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ociaal/maatschappelijk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Line 18"/>
          <p:cNvSpPr/>
          <p:nvPr/>
        </p:nvSpPr>
        <p:spPr>
          <a:xfrm flipH="1">
            <a:off x="3203640" y="1989000"/>
            <a:ext cx="1512720" cy="180036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Line 19"/>
          <p:cNvSpPr/>
          <p:nvPr/>
        </p:nvSpPr>
        <p:spPr>
          <a:xfrm>
            <a:off x="4716360" y="1989000"/>
            <a:ext cx="1727280" cy="180036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Line 24"/>
          <p:cNvSpPr/>
          <p:nvPr/>
        </p:nvSpPr>
        <p:spPr>
          <a:xfrm>
            <a:off x="3276720" y="3789360"/>
            <a:ext cx="32400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Tijdelijke aanduiding voor datum 1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A5C05-7890-44AF-A687-FFEECB8EC302}" type="datetime">
              <a:rPr b="0" lang="nl-NL" sz="1000" spc="-1" strike="noStrike">
                <a:solidFill>
                  <a:srgbClr val="ffffff"/>
                </a:solidFill>
                <a:latin typeface="Verdana"/>
              </a:rPr>
              <a:t>28-07-26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Tijdelijke aanduiding voor voettekst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Gezondheid 2016 NH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Tijdelijke aanduiding voor dianumm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BF8CE-1425-41D4-956A-DF8F65526AC3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comb dir="horz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0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8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8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8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8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ff"/>
                </a:solidFill>
                <a:latin typeface="Arial"/>
              </a:rPr>
              <a:t>Gezondheidsbevorderende factoren</a:t>
            </a: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…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.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…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.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…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.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…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.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…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.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…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.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…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.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Tijdelijke aanduiding voor datum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94011-301E-4398-AE47-84DAA5EF94BE}" type="datetime">
              <a:rPr b="0" lang="nl-NL" sz="1000" spc="-1" strike="noStrike">
                <a:solidFill>
                  <a:srgbClr val="ffffff"/>
                </a:solidFill>
                <a:latin typeface="Verdana"/>
              </a:rPr>
              <a:t>28-07-26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Gezondheid 2016 NH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Tijdelijke aanduiding voor dianumm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3D34A-5CA0-4D9E-92B0-C523153077B4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Beïnvloeding door factoren</a:t>
            </a: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Verdana"/>
              </a:rPr>
              <a:t>gezondheidsbevorderende factoren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etere hygiën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etere voedingstoestan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etere kennis over leefstij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Kennis over gezond gedrag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Tijdelijke aanduiding voor datum 1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8C6D4-3C4E-4FA4-ACC9-1F80FA007055}" type="datetime">
              <a:rPr b="0" lang="nl-NL" sz="1000" spc="-1" strike="noStrike">
                <a:solidFill>
                  <a:srgbClr val="ffffff"/>
                </a:solidFill>
                <a:latin typeface="Verdana"/>
              </a:rPr>
              <a:t>28-07-26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Tijdelijke aanduiding voor voettekst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Gezondheid 2016 NH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Tijdelijke aanduiding voor dianumm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589AF-4C2A-4E41-8488-85A43C121E7C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comb dir="horz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0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8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8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8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8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5" descr="bord-patat-hamburger"/>
          <p:cNvPicPr/>
          <p:nvPr/>
        </p:nvPicPr>
        <p:blipFill>
          <a:blip r:embed="rId1"/>
          <a:stretch/>
        </p:blipFill>
        <p:spPr>
          <a:xfrm>
            <a:off x="1258920" y="620640"/>
            <a:ext cx="2089080" cy="158436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7" descr="kernenergie_doel"/>
          <p:cNvPicPr/>
          <p:nvPr/>
        </p:nvPicPr>
        <p:blipFill>
          <a:blip r:embed="rId2"/>
          <a:stretch/>
        </p:blipFill>
        <p:spPr>
          <a:xfrm>
            <a:off x="3203640" y="2997360"/>
            <a:ext cx="4267080" cy="318132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8" descr="sigaretten"/>
          <p:cNvPicPr/>
          <p:nvPr/>
        </p:nvPicPr>
        <p:blipFill>
          <a:blip r:embed="rId3"/>
          <a:stretch/>
        </p:blipFill>
        <p:spPr>
          <a:xfrm rot="963600">
            <a:off x="6038640" y="506520"/>
            <a:ext cx="2066760" cy="1726920"/>
          </a:xfrm>
          <a:prstGeom prst="rect">
            <a:avLst/>
          </a:prstGeom>
          <a:ln w="0">
            <a:noFill/>
          </a:ln>
        </p:spPr>
      </p:pic>
      <p:sp>
        <p:nvSpPr>
          <p:cNvPr id="201" name="Tijdelijke aanduiding voor datum 1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80A0C-7712-41F0-BD93-9D907A383778}" type="datetime">
              <a:rPr b="0" lang="nl-NL" sz="1000" spc="-1" strike="noStrike">
                <a:solidFill>
                  <a:srgbClr val="ffffff"/>
                </a:solidFill>
                <a:latin typeface="Verdana"/>
              </a:rPr>
              <a:t>28-07-26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Tijdelijke aanduiding voor voettekst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Gezondheid 2016 NH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Tijdelijke aanduiding voor dianumm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36F39-D596-493E-AA1E-97D90506B60C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ff"/>
                </a:solidFill>
                <a:latin typeface="Arial"/>
              </a:rPr>
              <a:t>Gezondheidsbedreigende factoren</a:t>
            </a: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2492280"/>
            <a:ext cx="822960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…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…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…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…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..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Tijdelijke aanduiding voor datum 1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1D69E-01B9-431B-8B87-BC026D0E70C7}" type="datetime">
              <a:rPr b="0" lang="nl-NL" sz="1000" spc="-1" strike="noStrike">
                <a:solidFill>
                  <a:srgbClr val="ffffff"/>
                </a:solidFill>
                <a:latin typeface="Verdana"/>
              </a:rPr>
              <a:t>28-07-26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Tijdelijke aanduiding voor voettekst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Gezondheid 2016 NH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Tijdelijke aanduiding voor dianumm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FF93F-530B-4A67-AD34-2EDA81055B05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30T12:50:51Z</dcterms:created>
  <dc:creator>Hoogeveen,K.A.G.</dc:creator>
  <dc:description/>
  <dc:language>en-US</dc:language>
  <cp:lastModifiedBy>Nienke Hoogeveen</cp:lastModifiedBy>
  <dcterms:modified xsi:type="dcterms:W3CDTF">2016-09-12T10:53:37Z</dcterms:modified>
  <cp:revision>32</cp:revision>
  <dc:subject/>
  <dc:title>Gezondheid en gezond gedrag</dc:title>
</cp:coreProperties>
</file>