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651-13F9-482B-92E6-34D5D0A4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568-2682-4BF4-A923-1DF2AAF3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39E9-EFB1-421C-B9F3-5176EE9C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768-0C22-4505-BB93-1F61D69C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9B28-D89A-4761-ABD3-1A30A483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EA85-222F-433F-ACBD-B89BFE98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7999-0F80-4D55-A8D8-1EF20FEE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B7F9-0F4F-45DA-8876-728B10B4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48BF-D2A2-426B-B44A-51769A54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638C-477D-4A62-B3F1-3AACB6FF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9B50-677A-47DA-82C6-6BA83BE8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045-3859-4BFD-8BAE-6EC95E7E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99F2-12C6-4BC2-B294-1F9AD299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C98B-287F-4862-AA81-A9712A7C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641C-561C-444E-8D6A-4BD13B60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0F61-3C10-468F-8971-5F0DF68F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73A4-8E59-4C39-B438-B0A79E67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869-9F71-4C4B-9B72-9759F415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CAE-6C36-4D4E-912A-5072FD58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03B-CDBB-45BA-8BE5-708C0594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902D-DA7B-48E6-AFFF-DA4D8064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0A2-F304-49CB-9EEA-C8B318C0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A3D-9AAC-4BE6-BA4F-1F99CB13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563-8DAC-4D50-BAB9-86D79A74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C4CB-AB87-4985-B1A6-B41C6DBFCE5E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1DBC-D46A-422E-8FCD-F32326EE458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D2AD-B2B7-420D-AE9D-770376B7B79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592D-DF8C-4005-BA7B-1AF281F1527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7C86-1973-4ED9-BAA3-B5D87C033654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06AB-6654-4339-AF18-FD63AD7676A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4C31-E41F-47A4-BC08-5157910FD46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213E-9C7F-4CBC-91A3-99BD6F4790B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AE5E-75BB-477B-A754-CF150A90C0B1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E194-5374-48AD-8A68-9FE3C7310E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51C2-420A-4E33-B9BB-1BB93F7D4364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6B30-9400-4AAF-8537-A41BBAB3EB8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44E3-402A-43DA-B3D1-3B740F9FA8E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771C-662B-49A2-8A13-F06921B9572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1140-E43A-40AE-8C5C-70359885CFF0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E290-DCCF-4A99-B78C-D42607D738E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25BA-6B3E-440C-9375-5AB575EA0074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DEFF-08DB-4DAD-B44F-AD2F499CA3C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7301-3BF2-4E03-B934-2BF8D671CA5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03BF-BB12-43ED-B8D3-CF15769022D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ïnvloeding door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Verdana"/>
              </a:rPr>
              <a:t>gezondheidsbevorderende factor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hygië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voedingstoest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kennis over leefstij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nnis over gezond gedra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F9AC-9F98-426A-BA47-B004851C88C0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2CD2-EBA2-4504-A7E8-A131CB5AB3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0D01-E10F-4F07-BD24-9B951736243C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7720-33CD-42EE-B0BC-C140E373430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5BDA-FF3A-4932-A156-457DDE0A56A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680B-0FD2-4C2B-8D2C-7E96E5463D3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6-09-12T10:53:37Z</dcterms:modified>
  <cp:revision>32</cp:revision>
  <dc:subject/>
  <dc:title>Gezondheid en gezond gedrag</dc:title>
</cp:coreProperties>
</file>