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AE2-6ADD-4528-AEF0-BC36C5EA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D60-1415-471F-AD15-54CBD212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DB96-1902-4697-AE25-0BC8DCFC5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45F1-F576-49B2-89BB-6E0299A06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08FA-9839-45C8-A47D-B56D9E9B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4DEB-59B1-45BC-BF13-CDC190DD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319C2-E7DC-4178-BF76-120AA7D07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A6024-E0B5-414D-B91E-297D52ED8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1C6-3933-4740-9A8D-CB01F12C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0851-00F4-4028-907D-98192010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63B-9F83-4939-95C2-673D231C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077-85DB-4AF7-B616-4AE81888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4ED8-E574-4618-BB21-E0139D7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E0F2-ABD6-4560-808F-CADCD30A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5BC71-E29C-47D1-9C32-21FB2898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D7354-D105-46B7-A007-F909EFA31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995EC-4822-4755-8809-914E411C8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C59-CD29-4BF8-BECE-D80C94F7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483-2303-4123-8238-2649125EF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50CB-279B-45E7-8B29-DB96A186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808F-6861-411C-9879-C2A5750C3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9928-3834-43BD-B2AF-DF7CFEED2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383D-2814-4BEE-9A58-D3C3722B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0FBD-7DDD-45F5-A998-164DAB6C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FE26-621D-466F-B574-6C83DE1B684E}" type="datetime">
              <a:rPr b="0" lang="nl-NL" sz="1000" spc="-1" strike="noStrike">
                <a:solidFill>
                  <a:srgbClr val="000000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0189-997C-4B21-BDEE-9FBB48591AB8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0"/>
            </a:gs>
            <a:gs pos="100000">
              <a:srgbClr val="0000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50000">
                  <a:srgbClr val="2e2e8a"/>
                </a:gs>
                <a:gs pos="100000">
                  <a:srgbClr val="00007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0070"/>
                </a:gs>
                <a:gs pos="100000">
                  <a:srgbClr val="0000f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0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0"/>
                  </a:gs>
                  <a:gs pos="100000">
                    <a:srgbClr val="0000f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c5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A456-978C-475E-9D5A-AD706728594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2D1B-2EE7-49F9-8AA8-2FB2739858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 en gezond 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at betekent </a:t>
            </a:r>
            <a:r>
              <a:rPr b="0" i="1" lang="en-US" sz="3200" spc="-1" strike="noStrike">
                <a:solidFill>
                  <a:srgbClr val="00ffff"/>
                </a:solidFill>
                <a:latin typeface="Verdana"/>
              </a:rPr>
              <a:t>GEZOND en GEZONDHEID</a:t>
            </a: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ff"/>
                </a:solidFill>
                <a:latin typeface="Verdana"/>
              </a:rPr>
              <a:t>Wereld Gezondheids (Health)Organisatie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07E3F-5857-491E-A4AE-C6B4FC7B89A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6D64-B021-4611-9E98-CBA3E12E723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Verdana"/>
              </a:rPr>
              <a:t>– </a:t>
            </a: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Gezondheidsbedreigende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efstijl/gewoonte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lvaa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t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ei industrie – milieuvervuil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Zitcultuur/ IC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brek aan lichaamsbeweg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A9F-77D3-43B9-8426-F03C52DD62A7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EC535-5210-46B8-9F76-79F1E4373B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ezondheidsgedrag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vorderen d.m.v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lon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ditioner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boots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140360" y="215136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ezond eten, voldoende bewegen, dat doe jij natuurlijk allemaal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Denk je...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ant veel mensen overschatten hun eigen gezondheidsgedrag!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7" name="Picture 6" descr="ANd9GcT9yBvSps3WtzxC2M26Vfnxu5a11TPaN3DNgCTFJRiOPenK6UPYCpzl2Rc"/>
          <p:cNvPicPr/>
          <p:nvPr/>
        </p:nvPicPr>
        <p:blipFill>
          <a:blip r:embed="rId4"/>
          <a:stretch/>
        </p:blipFill>
        <p:spPr>
          <a:xfrm>
            <a:off x="5435640" y="2997360"/>
            <a:ext cx="1181160" cy="1152360"/>
          </a:xfrm>
          <a:prstGeom prst="rect">
            <a:avLst/>
          </a:prstGeom>
          <a:ln w="0">
            <a:noFill/>
          </a:ln>
        </p:spPr>
      </p:pic>
      <p:sp>
        <p:nvSpPr>
          <p:cNvPr id="218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22E3-020E-4F56-B7E6-C42277F2DF03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6A4A-BE29-41F5-999C-F5201F89734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8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8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5c5ff"/>
                </a:solidFill>
                <a:latin typeface="Arial"/>
              </a:rPr>
              <a:t>World Health Organisatio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WHO: Gezondheid is niet alleen de afwezigheid van ziekte, maar een toestand van volkomen lichamelijk, geestelijk en maatschappelijk welzij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4BA85-75CC-4757-88A2-8CA886EB3B5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F9248-B3B9-4945-A78F-339206B697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zondheid: ingewikkeld begrip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ezondheid(sbeleving) is afhankelijk van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ultuu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voeding / waarden en norm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jd waarin je lee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ersoonlijke ervaringe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 heb je ervoor over (hoe gezond wil je leven?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 daarme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relatief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en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Verdana"/>
              </a:rPr>
              <a:t>subjectief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4FBA-5EF9-4334-A34D-B5453CF352C9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CBB5-325E-482C-A603-C8DBD2A87E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c5c5ff"/>
                </a:solidFill>
                <a:latin typeface="Arial"/>
              </a:rPr>
              <a:t>Nieuwe definitie gezond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gezondheid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 is het vermogen om je aan te passen en eigen regie te voeren in het licht van fysieke, mentale en sociale uitdagingen van het leven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Filmpje Nationale denktank 2013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ffffff"/>
                </a:solidFill>
                <a:latin typeface="Verdana"/>
              </a:rPr>
              <a:t>zorg voor gezondheid”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93996-863B-49D4-9106-B4806BECACD1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9510-9D10-457E-8FF8-DBE3BED1753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5c5ff"/>
                </a:solidFill>
                <a:latin typeface="Arial"/>
              </a:rPr>
              <a:t>Gezondheid als drie-eenheid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eestelijk/psychisch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gezondhei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chamelijk/fysie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ociaal/maatschappelijk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Line 18"/>
          <p:cNvSpPr/>
          <p:nvPr/>
        </p:nvSpPr>
        <p:spPr>
          <a:xfrm flipH="1">
            <a:off x="3203640" y="1989000"/>
            <a:ext cx="151272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716360" y="1989000"/>
            <a:ext cx="1727280" cy="180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276720" y="3789360"/>
            <a:ext cx="32400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7114F-4B6D-4191-8FF3-B9D00412F7D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BF87-32AF-43E8-B97C-A83FAB54321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8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vorder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Tijdelijke aanduiding voor datum 3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4BC7-6454-4FFE-A779-2CEE7496196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Tijdelijke aanduiding voor voettekst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ijdelijke aanduiding voor dianummer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6BDA-6EEB-4762-A127-68A20119B26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ïnvloeding door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ff"/>
                </a:solidFill>
                <a:latin typeface="Verdana"/>
              </a:rPr>
              <a:t>gezondheidsbevorderende factoren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hygië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voedingstoestan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etere kennis over leefstij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nnis over gezond gedra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9524-00C7-4AF5-950C-498CA8D6A6CD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84A7-B166-453C-81A2-84B1F48FC1D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5" descr="bord-patat-hamburger"/>
          <p:cNvPicPr/>
          <p:nvPr/>
        </p:nvPicPr>
        <p:blipFill>
          <a:blip r:embed="rId1"/>
          <a:stretch/>
        </p:blipFill>
        <p:spPr>
          <a:xfrm>
            <a:off x="1258920" y="620640"/>
            <a:ext cx="2089080" cy="158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kernenergie_doel"/>
          <p:cNvPicPr/>
          <p:nvPr/>
        </p:nvPicPr>
        <p:blipFill>
          <a:blip r:embed="rId2"/>
          <a:stretch/>
        </p:blipFill>
        <p:spPr>
          <a:xfrm>
            <a:off x="3203640" y="2997360"/>
            <a:ext cx="4267080" cy="318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sigaretten"/>
          <p:cNvPicPr/>
          <p:nvPr/>
        </p:nvPicPr>
        <p:blipFill>
          <a:blip r:embed="rId3"/>
          <a:stretch/>
        </p:blipFill>
        <p:spPr>
          <a:xfrm rot="963600">
            <a:off x="6038640" y="506520"/>
            <a:ext cx="2066760" cy="1726920"/>
          </a:xfrm>
          <a:prstGeom prst="rect">
            <a:avLst/>
          </a:prstGeom>
          <a:ln w="0">
            <a:noFill/>
          </a:ln>
        </p:spPr>
      </p:pic>
      <p:sp>
        <p:nvSpPr>
          <p:cNvPr id="201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F34F-CC16-423C-8AC8-C3435597315E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96B9-3FD8-4590-A2E1-C0625C10BE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ffffff"/>
                </a:solidFill>
                <a:latin typeface="Arial"/>
              </a:rPr>
              <a:t>Gezondheidsbedreigende factoren</a:t>
            </a:r>
            <a:endParaRPr b="0" lang="en-US" sz="4400" spc="-1" strike="noStrike">
              <a:solidFill>
                <a:srgbClr val="c5c5ff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492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nl-NL" sz="3200" spc="-1" strike="noStrike">
                <a:solidFill>
                  <a:srgbClr val="ffffff"/>
                </a:solidFill>
                <a:latin typeface="Verdana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Tijdelijke aanduiding voor datum 1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5216-ED5D-4016-B67C-83457086EC5B}" type="datetime">
              <a:rPr b="0" lang="nl-NL" sz="1000" spc="-1" strike="noStrike">
                <a:solidFill>
                  <a:srgbClr val="ffffff"/>
                </a:solidFill>
                <a:latin typeface="Verdana"/>
              </a:rPr>
              <a:t>28-07-26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Tijdelijke aanduiding voor voettekst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Gezondheid 2016 NH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Tijdelijke aanduiding voor dianumm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B2DF0-A9A0-4381-8B85-0968866D535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2:50:51Z</dcterms:created>
  <dc:creator>Hoogeveen,K.A.G.</dc:creator>
  <dc:description/>
  <dc:language>en-US</dc:language>
  <cp:lastModifiedBy>Nienke Hoogeveen</cp:lastModifiedBy>
  <dcterms:modified xsi:type="dcterms:W3CDTF">2016-09-12T10:53:37Z</dcterms:modified>
  <cp:revision>32</cp:revision>
  <dc:subject/>
  <dc:title>Gezondheid en gezond gedrag</dc:title>
</cp:coreProperties>
</file>