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57E-9152-41F5-85D3-CE123813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975-3CDF-44D6-B8DC-4F141171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1B8-C4CB-4276-A5CD-B351FB3A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DC8-9312-4AC6-8510-23D4E206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B095-8FD6-4E19-8A47-6DF775BD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34B0-F0CE-4B6B-9F5A-261FADCE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F86A-C242-4505-9132-19C62DB3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EB8A-70F8-4C8F-92D6-1E526027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95A6-23ED-4D49-BB3E-E4044F58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9006-63A1-441D-A899-5E4A0A8C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4342-9949-43A9-B9C4-BE1F4AA9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999-D154-4A76-8466-BF1701DB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133D-94E5-4A61-B8FE-CFE3A63D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A30C-DBE3-4010-AED7-3E69AF8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904B-4E31-471E-83A2-024BC48D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2DC6-57F6-4321-BFF8-44792509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9BDC-7526-4ECA-AC3A-D0E7A6FC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2D7-CDE7-4EC5-BC52-1176DC64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174-A00E-4119-B69C-44E3722B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BFA-30DB-468B-96BF-168E038A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B56-54D9-42DB-9439-9DFA7C61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90D-8B75-43B8-A0E2-94B29102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C7B-D189-4AE4-9270-1506BA3D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EB2-1BB6-4798-9323-46B51D1B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699F-5598-457D-BE8C-F3F5F503760B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A567-9FED-4C32-85C7-1B73974C4F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B0C2-2045-4503-8A40-8446060DB2C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5AB9-60E7-4CC0-8388-4E49602DA2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F820-A838-4380-B4A2-EEE206EDBD66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BA34-2635-4111-BF4C-32ECC6E3DE7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CCFE-2168-406C-B938-3F70A9F5D6D7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50DF-0E32-4958-A0E8-CB7B958821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9069-A3BD-4D75-819C-BDEB3F03B30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D411-9DDF-4C75-B503-9EE0CCFC75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10C3-61D3-4723-B9BD-6E18BFC2CEC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E9B9-9FD9-4A01-AA20-B3402429FD7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7FC2-A3EC-4075-BAA0-E80A481C3BA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626F-EC1D-4738-A2A6-FDECAAE37A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6823-DEB5-4A19-860E-CB9476D4F26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F4CD-792E-4E4B-B02F-11322EB359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904B-A076-4156-956F-DF71B159FFB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4C5C-6CB1-46D4-A31C-CF9CE908076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356D-B25A-46F8-8BFE-192EA9D6238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9F84-EF57-4D58-8A24-29884B1DEA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ïnvloeding door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gezondheidsbevorderende facto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hygië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voedingstoest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kennis over leefstij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nnis over gezond gedr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9676-3457-4E1E-82F9-247375FF38A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0DFB-0C27-4AD2-B841-68196C5736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1917-5E78-4D81-87D2-8A51D7D749C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0151-1785-48B1-AA61-161F5D3642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EAD-2804-4AB1-B02E-D2C8F67889F9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30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3772-3986-42FC-83E6-2E4FAF2E51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6-09-12T10:53:37Z</dcterms:modified>
  <cp:revision>32</cp:revision>
  <dc:subject/>
  <dc:title>Gezondheid en gezond gedrag</dc:title>
</cp:coreProperties>
</file>