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AD6C-80A9-44C5-9CF8-34E2B016B0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6877-5496-469C-9B2B-3F4FB23DE58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161-3540-4B36-B1C7-D80078B8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8B4-96FB-4D19-AF52-002197ED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685-7753-4BA3-8F5E-32C57FD9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C3A-ED2F-4D74-A9CB-E7206C58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FC43-1D1A-4DAA-96B5-2BA42C99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7525-A863-46B5-A5EC-E8521458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6CA6-5C8D-4BBD-98F0-3FF8CF64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088F-CFCD-4137-8547-5ED57170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3B60-449F-4516-9381-22FB4E05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865E-7288-4428-9494-9CC03D72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1651-E335-4F03-BFC3-A780E97A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EF1-99D3-448B-8A42-FDFFD555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76DA-E639-4DC7-A3F1-525B2150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A2D3-E9B0-40C3-ABFF-6DB65131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67FD-6CBF-4AA0-92C0-6683EEBA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F64B-6C56-4AB9-AF6B-9516FA38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0C1C-8B7B-4792-814C-CB11D519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E95-2531-41A5-923A-C147ADD7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E5A-F8B3-408F-A33C-2E80CBEA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911-DC4B-4896-88DF-7A0427D1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3A3-B7AC-4C79-9BD9-EF916E12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0EF-3F18-43F2-A5B8-76F2FF25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B55-3B2B-405C-B442-3DC514D5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013-F787-46F2-9044-7FC5D48F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65EF-0A95-4194-9819-3D15770FD59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7FD8-5F46-4245-BA8C-CAE1E4B5780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rVBus_yFcoU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gd.groningen.nl/reisvaccinatie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outu.be/yf0n9HoW9o8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eentelijke (gemeenschappelij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zondhe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aken en bevorderen van de gezondheid van inwoners van een gemeente of van een aantal geme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IZ = centrum indicatiestelling z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verzorging/verpleging t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opname verzorgings- of verpleeg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ciaal-medische advis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or een groot aantal gemeenten ondersteuning t.b.v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itvoering WMO (= wet maatschappelijke ondersteu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.a. voorzieningen wonen en vervoer (gehandicap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rapl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rkeerka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cootmob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tactonderzo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nto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inspuiten van tuberculine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ositief, dan heeft persoon antistoffen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ontacten van TBC-patië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asielzoe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verslaaf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gezondheidszorgmedewe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N.B. BCG = vaccinatie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3" descr="Matoux.jpg"/>
          <p:cNvPicPr/>
          <p:nvPr/>
        </p:nvPicPr>
        <p:blipFill>
          <a:blip r:embed="rId1"/>
          <a:stretch/>
        </p:blipFill>
        <p:spPr>
          <a:xfrm>
            <a:off x="5867280" y="1628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en TBC in Martin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Tijdelijke aanduiding voor inhoud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176560"/>
            <a:ext cx="4175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ccin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izigersvaccin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k te halen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ninklijk instituut voor de trop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venziekenhuis Rot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ravelclinic Schiphol, en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patiti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361200" y="2565360"/>
            <a:ext cx="1942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Advies + ko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Tijdelijke aanduiding voor inhoud 3" descr="reizigersvaccinat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14880" y="2766960"/>
            <a:ext cx="31240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orensische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s://youtu.be/yf0n9HoW9o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jkschouw (onnatuurlijke d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loedproeven (alcoholpromill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thadonverstr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rg voor gedetine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6588000" y="35622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natuurlijke d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 overlijden niet door ziekte of ouderdom, maar doo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geval (verkeer/we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uthana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t toetsing levensbeëindiging op verzoek en hulp bi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 (zorgvuldigheidcriteri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ijwillig en weloverwogen verz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zichtloos en ondraaglijk 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ichting over de medische situatie en de vooruitz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redelijke andere opl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én andere onafhankelijke arts geraadpleegd (SC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CEN = stichting consultatie euthanasie Ned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disch zorgvuldig uitvoeren van de levensbeëind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ing is strafbaar totdat Officier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ustitie anders oordeelt na beoordelen v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lagen v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ende huisarts/speci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CEN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GD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614920" y="4429080"/>
            <a:ext cx="1930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Jacolien Swierstra</cp:lastModifiedBy>
  <dcterms:modified xsi:type="dcterms:W3CDTF">2016-03-22T20:41:59Z</dcterms:modified>
  <cp:revision>106</cp:revision>
  <dc:subject/>
  <dc:title>Conclusies enquête panel DA</dc:title>
</cp:coreProperties>
</file>