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6639-73BE-41DC-8622-1641615ADA3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8F10-B1AE-4FE2-AA5D-2E1627E7D74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30D1-C36E-468D-BB65-64BF72407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3520-B360-46C4-A49D-B8D67FA8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D2A0-11F1-416B-96B8-537FD2C52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EEEC-C910-453B-B158-8FBF0C8A0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74A6-6CA8-4DEF-A5ED-1DCEDB697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6D5B-0FA0-4752-B2F1-3FCE2D8E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1B871-D285-4DF8-B98F-661D16B2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7A99-B80D-4B59-9EA0-CDB8ADD7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8578-D02D-4CE7-AD15-094F1796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460C8-19DC-4C33-95BA-3A5063EF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79A13-C067-495B-ADF1-7CBE7A02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4E89-E12B-4589-97B0-DFB85097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79A0-6525-4D06-BF7D-0F5B156C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19D3-72BB-4FA5-B5E1-EAF4456B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19BB-D17C-4695-ACE1-1068329A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2127-C411-4563-ADBD-42F91D62C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B940-DF51-4B55-A97B-95FF92AC8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8D7D-DFDB-4644-B788-A6040BDB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D395-B237-48ED-8C52-E1CDF72C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41FD-A16F-4D19-BEE6-2A4168AB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5D49-A424-43CD-A2FB-0F48E75B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9488-3265-4718-ACB4-EE108379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5A11-FFF4-4ADC-953E-D3E0F851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3037-D923-498C-97BB-804DE2BA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A5FA-E37A-455C-A098-1BB9D29D084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785D-4737-487C-BDC8-E785BDD988C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youtu.be/rVBus_yFcoU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gd.groningen.nl/reisvaccinaties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youtu.be/yf0n9HoW9o8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467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GGD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meentelijke (gemeenschappelijk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zondhe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en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aa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ewaken en bevorderen van de gezondheid van inwoners van een gemeente of van een aantal gemeen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467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GGD-tak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CIZ = centrum indicatiestelling z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ndicatie stellen voor verzorging/verpleging thu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ndicatie stellen voor opname verzorgings- of verpleeghu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ociaal-medische advis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oor een groot aantal gemeenten ondersteuning t.b.v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uitvoering WMO (= wet maatschappelijke ondersteun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O.a. voorzieningen wonen en vervoer (gehandicapt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Trapli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Parkeerkaar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cootmobi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6948360" y="479736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467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GGD-tak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ntactonderzo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Mantou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(inspuiten van tuberculine 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positief, dan heeft persoon antistoffen tegen TB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ij contacten van TBC-patiën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ij asielzoe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ij verslaaf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ij gezondheidszorgmedewer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(N.B. BCG = vaccinatie tegen TB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OA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Afbeelding 3" descr="Matoux.jpg"/>
          <p:cNvPicPr/>
          <p:nvPr/>
        </p:nvPicPr>
        <p:blipFill>
          <a:blip r:embed="rId1"/>
          <a:stretch/>
        </p:blipFill>
        <p:spPr>
          <a:xfrm>
            <a:off x="5867280" y="162864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pen TBC in Martin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3" name="Tijdelijke aanduiding voor inhoud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2176560"/>
            <a:ext cx="417528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467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GGD-tak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accina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eizigersvaccin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ok te halen bij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H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Koninklijk instituut voor de trop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Havenziekenhuis Rotterd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Travelclinic Schiphol, en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patitis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n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6361200" y="2565360"/>
            <a:ext cx="19429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Advies + kost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8" name="Tijdelijke aanduiding voor inhoud 3" descr="reizigersvaccinati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14880" y="2766960"/>
            <a:ext cx="312408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467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GGD-tak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Forensische t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https://youtu.be/yf0n9HoW9o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.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ijkschouw (onnatuurlijke do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loedproeven (alcoholpromill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ethadonverstrek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org voor gedetine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6588000" y="356220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467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GGD-tak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nnatuurlijke do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=  overlijden niet door ziekte of ouderdom, maar door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ngeval (verkeer/wer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o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elfd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uthana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467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Euthanas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t toetsing levensbeëindiging op verzoek en hulp bi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elfdoding (zorgvuldigheidcriteri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rijwillig en weloverwogen verzo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Uitzichtloos en ondraaglijk lij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oorlichting over de medische situatie en de vooruitzich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en redelijke andere oplo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én andere onafhankelijke arts geraadpleegd (SC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CEN = stichting consultatie euthanasie Neder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edisch zorgvuldig uitvoeren van de levensbeëind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467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Euthanas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Uitvoering is strafbaar totdat Officier v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ustitie anders oordeelt na beoordelen v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lagen v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Uitvoerende huisarts/specia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CEN-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GD-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5614920" y="4429080"/>
            <a:ext cx="19303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26:14Z</dcterms:created>
  <dc:creator>custom</dc:creator>
  <dc:description/>
  <dc:language>en-US</dc:language>
  <cp:lastModifiedBy>Jacolien Swierstra</cp:lastModifiedBy>
  <dcterms:modified xsi:type="dcterms:W3CDTF">2016-03-22T20:41:59Z</dcterms:modified>
  <cp:revision>106</cp:revision>
  <dc:subject/>
  <dc:title>Conclusies enquête panel DA</dc:title>
</cp:coreProperties>
</file>