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3B9-68F7-474F-9767-2750463B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213-5996-4C91-8FE3-0D49C77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CF-D6C0-45C9-98F7-69B27382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54E-0867-4A8B-BFD2-B029567E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34F-5C02-4F3C-87DF-6043565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7D6-EC83-4988-A32D-022FBB2B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AB1-837F-449B-AB69-340F8DA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20B-F072-4976-86CE-2374698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985-274D-459D-8AF4-4F373A9B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AB3-07F4-480D-97FE-0DDC91F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3DA-C32C-469B-8E08-526EAB94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0D8-4DE3-499C-9DFE-9B59C22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0779-20F5-48A6-B6D8-4C1764955E2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Calibri"/>
              </a:rPr>
              <a:t>ARBO-diens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Afbeelding 1" descr=""/>
          <p:cNvPicPr/>
          <p:nvPr/>
        </p:nvPicPr>
        <p:blipFill>
          <a:blip r:embed="rId1"/>
          <a:stretch/>
        </p:blipFill>
        <p:spPr>
          <a:xfrm>
            <a:off x="1668600" y="2349360"/>
            <a:ext cx="5892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begel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:  Ziekteverzuim bepe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MO of SM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BO-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gever/leidinggeven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ersoneelsfunction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preken van aanpassingen op het werk bij langdurige ziekte van een werkn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-integratie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plan waarin wordt aangegeven op welke wijze de werknemer weer in het arbeidsproces kan worden opgen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belemmeringen er best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lke maatregelen moeten worden gen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enen bij UW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U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tvoeringsinstituut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knemers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W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voeren van ZW en W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W = Ziektew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IA = Wet Inkomen naar Arbeidsvermogen (vroeger WA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oordelen van recht op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rekken van de uitk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eleiden van re-integratie buiten eigen bedrij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.B. Belastingdienst int sinds 2006 de prem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kortingen + beteken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V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orgverzekerings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ULBZ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Uitbetaling Loon bij zi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uur: 2 j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imaal 70% van sal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werknemers in loondien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W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Ziektew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zwangeren en uitzendkra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A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Wet Inkomen naa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beidsvermogen (vroeger WAO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 2 jaar ziek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RB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= arbeidsomstandigh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waken en bevorde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de gezondhe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werkne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n aangesloten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ken ARBO-die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sico-inventarisatie en risico-evalu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GO (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teverzuimcontrôle en ziekteverzuimbegel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Afbeelding 1" descr=""/>
          <p:cNvPicPr/>
          <p:nvPr/>
        </p:nvPicPr>
        <p:blipFill>
          <a:blip r:embed="rId1"/>
          <a:stretch/>
        </p:blipFill>
        <p:spPr>
          <a:xfrm>
            <a:off x="5435640" y="3498840"/>
            <a:ext cx="34704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isico-inventarisatie en -evalu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inventaris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welke risico’s er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gaan hoe groot de risico’s zij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Risico-evalu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kunnen de risico’s worden aangep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risico’s het eer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volg (uitkomst van de inventarisatie en evaluatie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stellingskeur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GO (=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riodiek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beids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zondheidskundig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derzo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 op de medische aanstellingskeu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inds 1 januari 19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ren mag alleen als de functie-eisen van een beroep zich laten vertalen in medische te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voorbereid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lannen en registreren van de PAGO-afspr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uren van de oproepen (en vragenlijst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zoeken van de doss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oegen van formulieren t.b.v. de PAGO in het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GO uitvoering/begeleiding door 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ast de medisch-technische uitvoering van de P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ident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lp bij invullen vragenlij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onderzoeksgegevens op biometrie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GO afhandeling door 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vullen van formulieren t.b.v. bloedonderzo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en bloedonderzoek in dossier do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slag PAGO naar werknemer verze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.g.v. afwijkende uitslagen berichtgeving aan huisarts van werkne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nanciële afhandeling (werkgever beta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rchiveren doss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uimcontrole en -bege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uimcontrole bestaat u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 verklaring zieke werknem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ftel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lefonisch (bellen is taak 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ole door verzuimrappor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roep voor het spreekuur van de ARBO-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3:38Z</dcterms:created>
  <dc:creator>Jacolien</dc:creator>
  <dc:description/>
  <dc:language>en-US</dc:language>
  <cp:lastModifiedBy>Eke Postma - Eisma</cp:lastModifiedBy>
  <dcterms:modified xsi:type="dcterms:W3CDTF">2019-05-04T12:30:20Z</dcterms:modified>
  <cp:revision>19</cp:revision>
  <dc:subject/>
  <dc:title>Keuren bij de ARBO-dienst</dc:title>
</cp:coreProperties>
</file>