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5BDB-249A-45C5-A7A0-D06E442DC76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2845-4CD4-4D07-AEAA-4297573204E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2F1-C636-495A-BBCC-0988DA0C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0238-C5BC-4798-99CD-75C4B02E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B3DA-B5CB-4F75-85D5-5C162E46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46BC-B8CA-45CC-BD90-AD93A168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4F38-A03C-4915-B363-41E7132F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A454-9124-41BC-8445-95A05774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76B7-FE60-4A52-99B5-191E0871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9960-8DF1-4F00-B31A-AD309E49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1DDC-FDE3-4674-B0D6-F0BD4111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BE92-07C2-4F29-9D79-C23C0A1D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5945-0CC6-4406-B227-80935E7E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A5D6-A608-412C-B632-38D45FB9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BD55-5F85-4E1C-AFF6-379E07BA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4DFE-D0C2-4D4A-ADF7-E0D0AD0E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6F9A-3AAD-41A1-82CE-A06A4600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CAB9-EFC1-4C5C-ADCC-03AEAA34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4CCD-A0DF-4280-A053-8DE17F27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F46-ED47-4D10-9F34-075303AC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4E27-0A67-4C18-B223-693EC6A0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5A86-7E54-49DF-BE64-491AFBE2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725-81C1-49C8-ABC3-91ED26CE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FEBF-3950-4AC7-9E14-8D0C0C42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7D5A-4534-45A4-9F97-A02C6CE4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DE8-9E34-4333-9B9D-FCBEB15C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BF68-6148-4634-BB64-B5899944346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D924-0E2B-4A5B-A81E-F863EAC9BA7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youtu.be/rVBus_yFcoU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gd.groningen.nl/reisvaccinaties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youtu.be/yf0n9HoW9o8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meentelijke (gemeenschappelijk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zondhe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waken en bevorderen van de gezondheid van inwoners van een gemeente of van een aantal geme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IZ = centrum indicatiestelling z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dicatie stellen voor verzorging/verpleging thu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dicatie stellen voor opname verzorgings- of verpleeghu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ciaal-medische advis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oor een groot aantal gemeenten ondersteuning t.b.v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uitvoering WMO (= wet maatschappelijke ondersteun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.a. voorzieningen wonen en vervoer (gehandicapt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rapl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arkeerka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cootmob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948360" y="479736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tactonderzo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antou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inspuiten van tuberculine 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ositief, dan heeft persoon antistoffen tegen TB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ontacten van TBC-patië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asielzoe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verslaaf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gezondheidszorgmedewe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N.B. BCG = vaccinatie tegen TB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fbeelding 3" descr="Matoux.jpg"/>
          <p:cNvPicPr/>
          <p:nvPr/>
        </p:nvPicPr>
        <p:blipFill>
          <a:blip r:embed="rId1"/>
          <a:stretch/>
        </p:blipFill>
        <p:spPr>
          <a:xfrm>
            <a:off x="5867280" y="1628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en TBC in Martin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3" name="Tijdelijke aanduiding voor inhoud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2176560"/>
            <a:ext cx="41752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ccina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izigersvaccin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k te halen bij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oninklijk instituut voor de trop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avenziekenhuis Rotter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ravelclinic Schiphol, en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patiti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361200" y="2565360"/>
            <a:ext cx="1942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Advies + ko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Tijdelijke aanduiding voor inhoud 3" descr="reizigersvaccinat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14880" y="2766960"/>
            <a:ext cx="31240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orensische t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s://youtu.be/yf0n9HoW9o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ijkschouw (onnatuurlijke d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loedproeven (alcoholpromill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thadonverstre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rg voor gedetine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6588000" y="35622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nnatuurlijke do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 overlijden niet door ziekte of ouderdom, maar door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geval (verkeer/we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lfd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uthana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uthanas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t toetsing levensbeëindiging op verzoek en hulp bi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lfdoding (zorgvuldigheidcriteri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ijwillig en weloverwogen verz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itzichtloos en ondraaglijk l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ichting over de medische situatie en de vooruitz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redelijke andere oplo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én andere onafhankelijke arts geraadpleegd (SC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CEN = stichting consultatie euthanasie Ned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disch zorgvuldig uitvoeren van de levensbeëind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uthanas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voering is strafbaar totdat Officier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ustitie anders oordeelt na beoordelen v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lagen v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voerende huisarts/speci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CEN-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GD-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614920" y="4429080"/>
            <a:ext cx="1930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26:14Z</dcterms:created>
  <dc:creator>custom</dc:creator>
  <dc:description/>
  <dc:language>en-US</dc:language>
  <cp:lastModifiedBy>Jacolien Swierstra</cp:lastModifiedBy>
  <dcterms:modified xsi:type="dcterms:W3CDTF">2016-03-22T20:41:59Z</dcterms:modified>
  <cp:revision>106</cp:revision>
  <dc:subject/>
  <dc:title>Conclusies enquête panel DA</dc:title>
</cp:coreProperties>
</file>