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6ED-0CE5-4BD7-90DD-23076A84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C89-9E5A-4484-BA06-A80EFD71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E9B-FA87-4458-888E-C96965DF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A53-7A66-412E-8F44-233FD3B3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CEB-58C5-4314-942A-899AEAE6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CB2-82C8-4798-8B37-0209E075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21A-D137-4A3A-9BAA-1EE7760F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F14-E132-4E10-8876-567F906D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D9B-E446-406D-ABEE-036999FD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017-33E8-4F38-A0F6-02A07F6D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27B-654B-4B84-9C81-E85630F6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CD7-1A7F-461F-AC3E-FE6C1432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3E69-299B-4B0B-A08A-F934C528B70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Calibri"/>
              </a:rPr>
              <a:t>ARBO-diens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Afbeelding 1" descr=""/>
          <p:cNvPicPr/>
          <p:nvPr/>
        </p:nvPicPr>
        <p:blipFill>
          <a:blip r:embed="rId1"/>
          <a:stretch/>
        </p:blipFill>
        <p:spPr>
          <a:xfrm>
            <a:off x="1668600" y="2349360"/>
            <a:ext cx="589284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uimcontrole en -begelei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zuimbegelei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:  Ziekteverzuim beper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MO of SM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RBO-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gever/leidinggeven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ersoneelsfunctiona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spreken van aanpassingen op het werk bij langdurige ziekte van een werkn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-integratie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plan waarin wordt aangegeven op welke wijze de werknemer weer in het arbeidsproces kan worden opgen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lke belemmeringen er best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lke maatregelen moeten worden gen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dienen bij UWV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U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tvoeringsinstituut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knemers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v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zeker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W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voeren van ZW en W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W = Ziektew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IA = Wet Inkomen naar Arbeidsvermogen (vroeger WA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oordelen van recht op uitk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rekken van de uitk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eleiden van re-integratie buiten eigen bedrij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.B. Belastingdienst int sinds 2006 de prem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kortingen + beteken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VW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Zorgverzekeringsw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ULBZ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Wet Uitbetaling Loon bij ziek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uur: 2 ja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inimaal 70% van sala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werknemers in loondien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W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Ziektew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zwangeren en uitzendkra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A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Wet Inkomen naar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rbeidsvermogen (vroeger WAO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 2 jaar ziek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BO-dien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RB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= arbeidsomstandigh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aa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waken en bevorder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n de gezondhe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n werknem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n aangesloten bedrij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aken ARBO-dien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sico-inventarisatie en risico-evalu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stellingskeur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GO (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iodiek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beids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g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zondheidskundig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derzoe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ekteverzuimcontrôle en ziekteverzuimbegel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Afbeelding 1" descr=""/>
          <p:cNvPicPr/>
          <p:nvPr/>
        </p:nvPicPr>
        <p:blipFill>
          <a:blip r:embed="rId1"/>
          <a:stretch/>
        </p:blipFill>
        <p:spPr>
          <a:xfrm>
            <a:off x="5435640" y="3498840"/>
            <a:ext cx="34704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isico-inventarisatie en -evalua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isico-inventarisa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gaan welke risico’s er zij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gaan hoe groot de risico’s zij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isico-evalua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kunnen de risico’s worden aangepa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ke risico’s het eer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volg (uitkomst van de inventarisatie en evaluatie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stellingskeur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GO (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riodiek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beids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g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zondheidskundig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o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derzoe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t op de medische aanstellingskeu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inds 1 januari 19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euren mag alleen als de functie-eisen van een beroep zich laten vertalen in medische ter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AGO voorbereiding door 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annen en registreren van de PAGO-afspra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uren van de oproepen (en vragenlijst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zoeken van de doss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voegen van formulieren t.b.v. de PAGO in het doss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GO uitvoering/begeleiding door 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ast de medisch-technische uitvoering van de PA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ren identit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lp bij invullen vragenlij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vullen onderzoeksgegevens op biometrieformul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AGO afhandeling door 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vullen van formulieren t.b.v. bloedonderz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slagen bloedonderzoek in dossier do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slag PAGO naar werknemer verze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.g.v. afwijkende uitslagen berichtgeving aan huisarts van werkne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inanciële afhandeling (werkgever betaa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rchiveren doss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uimcontrole en -begelei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zuimcontrole bestaat u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 verklaring zieke werknem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ftel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lefonisch (bellen is taak 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ntrole door verzuimrappor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roep voor het spreekuur van de ARBO-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9:03:38Z</dcterms:created>
  <dc:creator>Jacolien</dc:creator>
  <dc:description/>
  <dc:language>en-US</dc:language>
  <cp:lastModifiedBy>Eke Postma - Eisma</cp:lastModifiedBy>
  <dcterms:modified xsi:type="dcterms:W3CDTF">2019-05-04T12:30:20Z</dcterms:modified>
  <cp:revision>19</cp:revision>
  <dc:subject/>
  <dc:title>Keuren bij de ARBO-dienst</dc:title>
</cp:coreProperties>
</file>