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021-B162-42F5-86F9-A489B498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A92-11DC-468D-8331-7F657262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D82-87FB-46DB-9480-BFA852FA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F42-62CB-44A5-84F8-3F0E8C3A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373-8D6B-4FF3-A2B8-7CC11306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1B5-A969-4043-B733-9526716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AF1-2596-4918-8087-A2498CE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1E3-E11E-43C8-884F-E5AD1BA3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BF6-EFF5-4BDA-88FF-F8EC209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55D-6C90-4C1D-A920-6F4F69F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DB5-113E-4DB1-A6F8-5F424C5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3C7-C949-421D-A0A5-3689DDD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7A69-1E94-4822-B71B-435898C1B17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ARBO-diens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1668600" y="2349360"/>
            <a:ext cx="5892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begel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:  Ziekteverzuim bepe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MO of SM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BO-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gever/leidinggeve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ersoneelsfunction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preken van aanpassingen op het werk bij langdurige ziekte van een werkn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-integratie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plan waarin wordt aangegeven op welke wijze de werknemer weer in het arbeidsproces kan worden opgen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belemmeringen er bes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maatregelen moeten worden gen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enen bij UW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U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tvoeringsinstituut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knemers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W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voeren van ZW en W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W = Ziekte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IA = Wet Inkomen naar Arbeidsvermogen (vroeger WA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oordelen van recht op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rekken van de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eleiden van re-integratie buiten eigen bedrij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.B. Belastingdienst int sinds 2006 de prem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kortingen + beteke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V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orgverzekerings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ULBZ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Uitbetaling Loon bij zi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uur: 2 j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imaal 70% van sal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werknemers in loondien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iektew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zwangeren en uitzendkra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A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Inkomen naa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beidsvermogen (vroeger WAO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 2 jaar ziek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RB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= arbeidsomstandigh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waken en bevorde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de gezondhe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werkne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aangesloten bedri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ken 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sico-inventarisatie en risico-eval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GO (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teverzuimcontrôle en ziekteverzuimbegel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Afbeelding 1" descr=""/>
          <p:cNvPicPr/>
          <p:nvPr/>
        </p:nvPicPr>
        <p:blipFill>
          <a:blip r:embed="rId1"/>
          <a:stretch/>
        </p:blipFill>
        <p:spPr>
          <a:xfrm>
            <a:off x="5435640" y="3498840"/>
            <a:ext cx="34704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isico-inventarisatie en -evalu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inventaris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welke risico’s er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hoe groot de risico’s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evalu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kunnen de risico’s worden aangep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risico’s het eer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volg (uitkomst van de inventarisatie en evaluati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GO (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 op de medische aanstellingskeu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inds 1 januari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ren mag alleen als de functie-eisen van een beroep zich laten vertalen in medische te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voorbereid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nen en registreren van de PAGO-afspr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uren van de oproepen (en vragenlijst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zoeken van de doss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egen van formulieren t.b.v. de PAGO in het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GO uitvoering/begeleiding door 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ast de medisch-technische uitvoering van de P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ident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lp bij invullen vragenlij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onderzoeksgegevens op biometrieformu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afhandel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van formulieren t.b.v. bloed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en bloedonderzoek in dossier do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 PAGO naar werknemer verze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.g.v. afwijkende uitslagen berichtgeving aan huisarts van werkne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nanciële afhandeling (werkgever beta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chiveren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controle bestaat u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 verklaring zieke werknem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ftel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lefonisch (bellen is taak 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ole door verzuimrappor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roep voor het spreekuur van de ARBO-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3:38Z</dcterms:created>
  <dc:creator>Jacolien</dc:creator>
  <dc:description/>
  <dc:language>en-US</dc:language>
  <cp:lastModifiedBy>Eke Postma - Eisma</cp:lastModifiedBy>
  <dcterms:modified xsi:type="dcterms:W3CDTF">2019-05-04T12:30:20Z</dcterms:modified>
  <cp:revision>19</cp:revision>
  <dc:subject/>
  <dc:title>Keuren bij de ARBO-dienst</dc:title>
</cp:coreProperties>
</file>