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8532-E9E3-463C-9FEB-33ED60FCDD6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F39A-F304-450E-A0F5-87D7FC92225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6F69-CE26-4885-A3C0-8603A399BE1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1D5E-D363-48FD-9A62-57E9ADD9F23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70ED-F7C4-4192-AEA7-C2249998F13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E8D5-B720-4D5C-81D5-F30ABF3C07C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2E91-E716-4DEC-8EBE-819C0373812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BB80-F459-40A9-8823-50101EC4844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AF6F-F462-4D61-8D22-8412D50F88F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60B0-DA0A-4578-A47D-7BBF28A1612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155A-311E-4ECC-B7DE-31CFB0DC8B4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2288-9672-4B58-92CB-7F2CAA674DB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88E5-3789-44C6-9A21-2203209424C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7BF4-147D-4AB4-A884-53A889BCC66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AD97-A783-4BD5-8CAB-B1C65266867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C446-CC02-49AC-95AB-98DB28D47AF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1500-0027-4E7E-8F33-6D993598BAC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1415-A2A9-4731-915A-75D8F04123A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A5BB1-75E6-4709-B0BD-03A94AD9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EB4F-A323-4846-851B-2C5EB70B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3892-5AEB-46D8-8835-AFBCC6F6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623D9-D2B5-4F76-9AB7-49C6787C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56F5-BCBA-417D-B76C-FF01A3FE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D8C2-41BF-4DA3-9F24-580E8051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1B50-8F6C-4EEB-A13F-535F3AF1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A3D0-9599-4768-AD8F-4779469D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A25D-9221-4955-BB97-96F1F729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EC0F-9CD6-49DB-888F-5BF6A78A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0624-EAE5-4987-BDBC-FF7B8C82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CD95-5058-4504-8B2E-E5728E00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DBB6-70D2-450F-A0DE-C1C97498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EA6A-197C-4409-9550-F53C861B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9174-D0B5-420E-B53A-4813935D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EB92-3F31-4102-AC8C-0697E712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6C55-94DC-4DCB-9C6B-4E0E0BDE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F191-CD3A-4E42-92EA-0F7A412E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96B5-B7B1-4E2E-8C8C-A4CBBDD5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AF4E-4EEC-4855-BD07-761A6B6F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2E0BF-3E81-431B-B473-9E719192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84AA3-15D1-4FD0-9593-8FE16402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2A769-428D-4F97-9EC3-8BA8981C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20E60-D4F2-4942-B708-CA6D20C1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14DE-B822-4742-BA6A-B5CAA94586B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867A-7255-40D0-AD9C-F219C54174C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669F-0301-4443-9E1F-1C02871DA76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79EC-E018-458C-BB89-41ED14666D1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DB73-9513-45CA-9EF8-A599E9C3272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C765-C8B1-4FDB-9287-94099FDD12B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1D39-5D75-4708-840A-54751B3A023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25C0-0D4F-4DCF-BF2E-68A65225BC3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BC31-AFC4-4A3C-880D-E5C9C7D3119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CCCF-9860-4A79-BF58-00EF18C4EAB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2994-B3C3-4269-BEBD-C314BD225974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12F9-FC7A-4754-83D0-7CBC27DE112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670F-072B-4724-96A2-823CC8123E8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6F98-042D-4683-ADD1-1D78F82EF03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7C5E-9E07-4294-A7EB-04A050C4131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1D55-E64B-4A92-B796-D92A70318B7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1054-CDA8-4148-8805-E34EA1A7AF42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2B4F-1DD8-4F35-AA0D-71859E81D31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52E7-F76E-4545-8D49-A533ABA324E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21EA-8B69-4F09-9973-890539DBB6D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0DC1-4E14-4003-BB7E-3A8D9975E74F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2589-6B88-4A60-BBF8-0BEC3645803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7B83-CC50-455D-9D9F-786BBD03C848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799D-25DD-42F2-BECC-5A59251EE2A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3AED-2575-4319-A955-1C7524539C80}" type="datetime">
              <a:rPr b="0" lang="nl-NL" sz="1200" spc="-1" strike="noStrike">
                <a:solidFill>
                  <a:srgbClr val="ffffff"/>
                </a:solidFill>
                <a:latin typeface="Garamond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0784-3506-440A-A8C9-351F49989E69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10F5-3F9B-4B58-BF9B-045F610DEA3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0A04-8335-41C7-9D36-0E8262EFA81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1723-FD34-4564-A4B7-A9128800286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1C45-53D0-46FE-97CD-E2D81DF171F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3FAC-7291-471D-898D-117CB37C5798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98A9-77F5-439A-B84B-A3BB517118C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B1BF-8F23-4751-8368-4D30E01BCDAF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BE82-4003-4A2A-9314-65927C9FC1E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B850-F499-436E-9416-3BE1F1CA7B0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9784-18E2-4FC7-BBE5-B98BFD8CE01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A161-C1E9-4CFA-990C-1C314A5EBFC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A400-4207-432F-8F70-FE83E7D8755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1309-B3E4-43B7-9BC5-1E945265B2B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2F7D-B454-4540-B609-5F1E1002752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C0AC-C16B-4372-8AA6-02E68E9E303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055F-A34E-4D77-960B-3C0AD96E7C7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61FB-05B9-4931-A98E-9F21D1A98A6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14A0-3D69-4CBD-B1AD-43AA2933274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16-11-03T10:56:08Z</dcterms:modified>
  <cp:revision>24</cp:revision>
  <dc:subject/>
  <dc:title>Communicatie</dc:title>
</cp:coreProperties>
</file>