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12D-919A-461B-84B0-3382D2D4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F91-2CE5-4D17-98FC-BFA2D32B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862D-D8FE-4A76-AB9A-FAA7D14D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FEB4-9A34-4325-A33A-441523E1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99EA-B5CA-42F8-9448-3333AF93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9AEF-FA3D-4729-B64C-29EE9EC97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4128-28AD-4EC3-BE95-0F849DED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647F-FFCD-4C0D-BE31-7E47B831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9749-FAC1-4875-BE54-6B8EB427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934F-05E8-4979-AAB7-39EFF7EA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AC32-D175-488A-89FD-945E66C5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162B-573E-4D3C-A6B8-5E82BEE0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C96B-EABB-4C82-BB3B-65D47D4F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EE8A-9275-4599-8C39-BD5C13C1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B2E6-6F7B-41A1-B835-38F50396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E9EC-5801-4DAD-AC76-DAE005D3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27AC-E32B-4881-AB2C-444315CA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9A95-1023-47E2-85DF-6316F3BB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A229-D5C3-44B0-BBF9-14B1F4EE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8652-D3E3-4E7D-BF53-71D7C7DC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2F12-9694-4A00-BE4F-763F6A6E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6A4-43A8-4C19-A085-FBAA39A3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0C2E-85EE-41B6-866A-91BCE663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E99-743C-4256-9904-ACC3789F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6D4F-9404-4B41-89B0-B5F2428C636E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121F-8026-4F75-BD36-42D248DD6202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1741-33A5-467B-B3C1-EFFE1F8C96CD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3D779-3026-4F44-85F4-1173DBA98EE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C3A7-C642-4418-A1BE-DB2BBC21A7F4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741A-09C9-430D-A895-9FAA71604CB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3, blz 115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171E-1417-4F29-B719-59A42ABC26BF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1394-7041-4D41-B58B-8306CE5DFDFF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3A89-B000-4701-8ACF-2BAF0F1EB5F8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0FA5-258D-40EF-A3EF-6B123D83BBB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D8DF-A59B-4045-A3EC-C4E36F908FD9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DC19-2EC0-4919-A434-2C286BCD9C2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97FF-BF4C-4668-B375-379B43FE4D45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8017-59D9-4AC1-8010-6DE559EE0F8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58CE-2C1B-4AE9-BCC3-6BFD7AE16632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7800-1CAD-447A-9249-51448FE76835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60DC-E9E5-4AE0-8E2D-4D097386ECA7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844C-FCC8-4BB8-B684-07F84BA895C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46B6-AFEE-45A5-AB96-A0842007A0A0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6529-DF30-4BEA-8E93-CF0953A84E8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. 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760C-6936-4120-9C0E-3CBCC9C188AF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CF0B-6A26-4055-A759-5DCE7F1AEEB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F7C8-428A-47D7-8634-75FEA5E8FE8E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BB3A-E61E-4904-9FF2-0EAF8993B48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6-11-04T07:47:02Z</dcterms:modified>
  <cp:revision>12</cp:revision>
  <dc:subject/>
  <dc:title>Feedback</dc:title>
</cp:coreProperties>
</file>