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8EC6-0C0C-4E9A-9A1B-0C06949F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B893-3B3B-42E7-A216-2E63E97F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FFF4-A759-4386-BEFF-371B17B6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14D8-5A09-4F85-BE3F-73A546B1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4482-24D3-4B76-B253-DC84AFEA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C595-ABD8-4652-844D-C539835D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20B5-27F5-47A6-B53D-60E9B93D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777F-BECB-40F0-9F97-BBCC2AF8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0998-A3E9-4BA9-AF33-07DD92C8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4F35-037F-4CD0-8FB4-1F163437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40EF-916A-42DB-85B2-5B614E70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0C48-8628-4AA0-9BA3-9CA52372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FBBE-667D-4D25-B51E-19F3CA6D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3B37-9DC9-4D31-8EB0-0B7FEB24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F5E2-048D-417D-94F5-AEE2678C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C4A6-1682-43DE-8271-D43235EC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AD7A-9BCC-483B-BA87-93AEFE2C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872F-5E79-4DC6-A086-721343D7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F077-1CA9-4D23-A1AB-6961F27B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AD21-1C4C-4C34-8BF8-C96047D8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F720-42B9-4FF6-A8B5-CB162FE6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35EE-1C94-4ECC-BC4E-3CBF6BA8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979F-817B-47A6-B629-567FC757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F375-CB72-434F-8103-18079B5E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6720" cy="4035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32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58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30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2880" cy="23972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96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2760" cy="3406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7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8BE1-DC4C-4DBC-B9C1-FB982268417F}" type="datetime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13A6-8E14-41AA-93C5-AF11601871A6}" type="slidenum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6720" cy="4035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32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58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30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2880" cy="23972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96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2760" cy="3406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7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40E7-7068-4578-8761-F29818500E8E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8D6F-EFD6-4BEB-AB38-720A67BF420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DF5D-6804-4B2E-8641-360E4FAC3BE0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75AD-E642-4FB0-9F7C-E3A95488C341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Feedback H3, blz 115 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s informatie van iemand over de effecten van het gedrag van een andere persoon op hem of ha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waarne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Terugkoppelen van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jdelijke aanduiding voor datum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461F-7206-4C27-AEE2-D5AA30F11024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7DA7-2B2A-4353-8D55-2D5E318CD7F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C:\Users\kag.hoogeveen\OneDrive - Noorderpoort\Pictures\Pictures\images.png"/>
          <p:cNvPicPr/>
          <p:nvPr/>
        </p:nvPicPr>
        <p:blipFill>
          <a:blip r:embed="rId1"/>
          <a:stretch/>
        </p:blipFill>
        <p:spPr>
          <a:xfrm>
            <a:off x="3348000" y="1341360"/>
            <a:ext cx="4032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B787-1D04-4384-89E3-38C0A48ECF3B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472A-BF3B-4DD6-8FC6-5971620FBD8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schil feedback en kritie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is be- of veroordel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is beschrijven van waarnemi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wijst schuldige 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 geeft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eist gedragsveran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geeft keuzemogelijkhe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3DA6-2510-445D-9F2F-3FFD75742568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1FA4-7923-4C74-999E-5FA02FD43E12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Regels voor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een ik-boodsch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je waarne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het effect dat het op jou he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ees specifiek in tijd, pla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lak na het voo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7D7E-559D-44DE-B229-86F6AF9A0EEF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7BB2-50E2-46E9-B013-271A1C7D0A10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regels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alleen veranderbaar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de ander ruimte voor reac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emand hoeft het niet met je eens te zij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iet te veel ineen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E112-711A-4742-9F55-DDD6B63F5B7A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5131-673F-46EB-B081-1814E2DA2B07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pers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je inzicht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e met mensen omga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ij op mensen overkom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D324-8164-458A-8745-3A6BDDC38BEA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64DE-FFD3-45A2-B235-9506EDA84A3D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groot je zelfk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Ondersteunt en bevordert positief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orrigeert negatief of ongewenst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raagt bij aan effectieve communica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29E6-303F-4CB7-9CDC-AEDE6F9896C5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3E2A-E164-4EC0-B1E2-A672F09833BC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ntvangen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1.lu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2 Vat s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3. Waardeer/beoordeel wat is gezeg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er over na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09A4-DD2F-40AE-993D-A5529B92E094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7EB8-FCE7-47B7-9EBD-78EA063A63C3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Pas je gedrag aan of n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a niet in de verdedi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31D4-22A0-43E4-ABA0-EAF44A3717C7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8446-EC7A-4C47-A1F4-601B344E5BD6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na over een conflict(je) dat je had met je ouders/vrienden/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oe verliep het confl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oteer hoe je het volgens de feedback regels beter had kunnen oplos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dit aan de klas/groep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26:29Z</dcterms:created>
  <dc:creator>custom</dc:creator>
  <dc:description/>
  <dc:language>en-US</dc:language>
  <cp:lastModifiedBy>Nienke Hoogeveen</cp:lastModifiedBy>
  <dcterms:modified xsi:type="dcterms:W3CDTF">2016-11-04T07:47:02Z</dcterms:modified>
  <cp:revision>12</cp:revision>
  <dc:subject/>
  <dc:title>Feedback</dc:title>
</cp:coreProperties>
</file>